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CF2B-340B-45C9-B3D1-48F2F05C2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528C-6760-4922-9D63-D9BEDAB14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A12A-BCBD-439A-976B-1F09BDC82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F742-4BCD-4D42-AA6F-A867F25C3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2472-F82F-4E1F-A789-CAB2B6A1D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51EE-79B7-4953-96B9-5EEE1DDC2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59DC-285F-431C-A997-2B7FD7FE8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B725-FD12-4339-AF8B-1B27FCACF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A2C4-EB73-4981-AA1F-3CA18C12B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32C9-B03E-49B1-A631-38A25CE89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1083-F6A4-43DE-82C9-D0884439E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EBBD-0039-4C3E-9744-0F4B205E5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557A1-D46C-4CF0-8901-DAFD53E830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that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3 exercise 31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bsit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ML takes on 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14300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be used two different ways - either meaning Cze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sed if the subjects of the clauses are not identical)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When used in the sense of Czech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ab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ma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usually (but not always) follow it provid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in clause (the first part) contains present tense, present perfect or future tens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, however, the main clause (the first part) contains past tens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ually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for my system to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so that my system can (may)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for him to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so that he can (may)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 for us to be able to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 we can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1523880"/>
            <a:ext cx="739116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for his students to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so that his students could (might)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for the others to be able to read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so that the others could read the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ould no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ually follow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 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vided the clause preceding it contains past tense and the speaker wants to express a negative in the clause following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for the children not to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so that the children should not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for it not to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so that it should not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97172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for his processor not to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so that his processor should not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for the assignment not to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so that the assignment should not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tak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learnt he had not received my message, I was taken aback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zaražen, překvap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the bloody lemon away! I can’t bear the sight of it any mo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nést pryč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ried to take me in, but did not succeed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napálit, oklam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ing into account my previous experience, he decided to hire 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ít v úvah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are required to take their shoes off before entering the computer hall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vyzout, od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arded the plane shortly before it took off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létn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had better take on some more people because otherwise we will not meet the deadlin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ibrat - zaměstn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34928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oing the job for 10 years he wanted someone to take (it) over (from him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evzí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much disk space does the program take up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bírat - o rozlo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s aside a good deal of money every month to be able to buy a more powerful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klád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the book back on the shelf after you are done with it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dát zpět, vrát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down everything I say, please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sat, z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act I have to know all those commands puts me off from working with that system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dra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1752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rather you did not put on that jacket. Look how dirty it i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bléci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his computer caught fire, he did his best to put it (the fire) ou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has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put me through to Mr. Smith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pojit s - při telefonová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ismantling the device, do you think they will ever be able to put it together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England, we were searching for someone to put us up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bytovat, většinou dočasně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put up with the situation and make the best of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míři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04-20T13:18:32Z</dcterms:modified>
  <cp:revision>195</cp:revision>
  <dc:subject/>
  <dc:title>Lecture 1:</dc:title>
</cp:coreProperties>
</file>