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527F-3A48-4BC8-8819-9A6CF8976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B8BF-DDC5-42ED-8904-3B3B21C8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5C75-212F-4EB6-B38F-48265F6A4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CF40-744F-4054-A2B5-FF4E660D4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75B3-B8DE-493F-9FC7-16A9C5D09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7E6F-9EFA-426C-97B0-B9B339E6E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C64A-C2D8-46AF-8D21-224EDD5DA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7141-B5BA-440D-B0F2-D2BF43E04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7655-733C-48FD-96A9-32D326EDE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505B-A42C-405B-B418-F22A73FE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338F-90D5-45F8-8FF3-B99AB382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A033-B16D-4C93-8ADC-B55C06F0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5025E-F955-4F39-86E4-A562DE6246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99072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noyance, reproach or impatience associated with the action in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goldi2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3124080" y="1905120"/>
            <a:ext cx="2679840" cy="3549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4920" y="5548320"/>
            <a:ext cx="85341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eating my porridge! And they've eaten it ALL UP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itting in my chai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leeping in my b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867280" y="32004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oldilocks and the three be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905120"/>
            <a:ext cx="838224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Czech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ak dlouho + p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ít. ča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waiting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trying to get the scanner to r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s the disk been malfunctio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have the foggiest idea of how long he has been visiting the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160020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: (exceptions)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esent perfect simple must be used if the sentence contains a verb not usually occurring in the continuous form (see lecture 1, page 7) as well as the verb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b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sense of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oss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; there is also tendency towards replacing present perfect continuous with its simple counterpart in negative sent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known him for 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loved her all his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een here for the last ten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had the watch for 10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ot opened the computer case for quite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imself does not k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xt itself is rather nonsens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sults themselves turned out to be misle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ent there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pent her vacation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no one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ill configure the network by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make the program by my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anyone’s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21337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 exercise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 exercise 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32 exercise 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that happened in the past (not specified) and whose consequences can be observed at present or affec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What’s wrong with that machine? B: My sister has worked with it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only slept for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friend going with us tonight? No, he has bought a new joyst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Kate, why are you so depressed tonight? B: The bloody bastard has cheated o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* notice: The sentences contain no specification of time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758960"/>
            <a:ext cx="8382240" cy="44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 the sentence contains time specification, past tense is used. It is not the consequences of the past action that are stressed but the time itsel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ought a ca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ster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bought a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specification          X            present-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moved the virus two days ag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removed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two days ago that I removed the virus. X The virus is g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758960"/>
            <a:ext cx="8382240" cy="41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was reconfigured a while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while ago that the modem was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has been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dem has a new configu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never happy the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ever been happy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, not covering present           past +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is somehow related to present; indicator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st, so far, not yet, since, ever, never, recently, l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u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gged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pelling checker has detected 5 mistak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 f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jected the C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has not got better at programm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last ye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et the IRQs manual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ystem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ently / late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rozen just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sequence of actions that took place in the past is given (story, fairytale, etc.), simple past i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when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school tha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for the first time. At that momen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liz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she was the most beautiful person at the faculty. Her long hair and slender bod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ld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he was the one. Unable to tame my desire,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cid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hat her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752480"/>
            <a:ext cx="838188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can be combined with the expression of time covering pres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giv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nitor a wip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wee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ith her 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pe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sto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y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rai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sala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mon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which started in the past, is still under way and is likely to continue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stud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candisk utilit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runn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three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debugg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ource code since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u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ndows 98 since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which ceased a while ago, but the consequences are still ob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wolfpant" descr=""/>
          <p:cNvPicPr/>
          <p:nvPr/>
        </p:nvPicPr>
        <p:blipFill>
          <a:blip r:embed="rId2"/>
          <a:stretch/>
        </p:blipFill>
        <p:spPr>
          <a:xfrm>
            <a:off x="3505320" y="3706920"/>
            <a:ext cx="2057400" cy="2008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948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lf has been ru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4-12-02T12:38:36Z</dcterms:modified>
  <cp:revision>83</cp:revision>
  <dc:subject/>
  <dc:title>Lecture 1:</dc:title>
</cp:coreProperties>
</file>