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3751-2884-41AF-AFEA-5B2D17462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1F26-93E6-4FE5-ABA9-CFA2AF37C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BD95-EE25-4B34-93A5-DE70F4C52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9F2E-E61C-4506-A4F9-655A65AB4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30B1-1108-4C8E-94B5-E58892A1A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E04D-B698-4BBF-9D90-6F263D2FC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8C63-C5BA-44B4-B5FF-B7B4835A4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1B9E-967C-4CC8-AA0A-06C426883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49DF-CF3E-494D-ADEB-755971ACB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D7A5-24DD-470F-9F81-D557EC49E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0776-5B64-4693-9576-EE176F1A0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5FC5-4D13-4ED0-99ED-B6423F007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A2342-04EC-4954-9746-E39FCF9ED7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the combination of unreal conditions in the past and unreal present or future res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uter had not ca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disk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mpty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be able to sh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data with the others now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mputer to the network and configured it right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not 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a while ago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 frustrated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205740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nse shift in condition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w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ake an umbrella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pli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 not p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i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+ would (expressing politenes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ould let me use your CD writer, I would really appreciate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ould really be helpful if you would rent some disk space for us with an AS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90512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 if, as though, like (informal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oe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 chalk from chee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keybo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ok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a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o go into piece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ense shif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talk to him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old man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econd conditional - he is not o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keyboard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brother had play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y brother did not play with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5 exercise 12.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9 exercise 1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ltimedia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lay MP3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ricks to MPEG’s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ditional Conjuc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78740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jestli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e, kdyby (depending on the type of conditional)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unles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jestliže ne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ovided/providing (that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za předpoklad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ppose/supposing (that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za předpokladu, předpokládejm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kud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 condition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d podmínko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ro případ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838080"/>
            <a:ext cx="8382240" cy="56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always tru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resent tense,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esent tense + conditional conju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overcloc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cesso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produ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heat than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do not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antivirus software, 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me antivirus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p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lt on ic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mel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not prep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ta righ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boi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for more than 12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371600"/>
            <a:ext cx="8382240" cy="50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usually probable and related to the futur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struc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resent tense, future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ture tense + conditional conjun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c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 lesson without your home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consider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s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50192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high bandwidth connection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abl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wnload large amounts of data without any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ant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nect to the Internet via the mode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hav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dify its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ill ta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umbrella with me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t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perform the query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man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onnect to the net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filled 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debugged the progra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s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6383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improbable (or impossible) in the present or future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ast tense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ction + pas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different refresh rat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s monitor w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e flicke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understa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word he says 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sp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ittle more slow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866960"/>
            <a:ext cx="8381880" cy="31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ll version of the progra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 all its fea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rd item of the array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tring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ossible to assign it to this type of variab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knew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how to use logical operators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he mak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such a mista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o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a million. What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</a:t>
            </a: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 yo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chec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the syntax of that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70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unreal condition in the past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+ past infinitive (without to)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+ past infinitive (without to) ...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 enough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pa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n’t have bur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or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tur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ff before plugging in the prin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13660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st nigh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iler wouldn’t have repor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yntax erro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ogrammer had termina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line with a semicol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ls -l command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know the contents of the directory with all file attrib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had kn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 punishment you would ge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have owned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de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8T15:03:15Z</dcterms:modified>
  <cp:revision>124</cp:revision>
  <dc:subject/>
  <dc:title>Lecture 1:</dc:title>
</cp:coreProperties>
</file>