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D9FA-E6C3-437F-8E17-5136D644B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B55F-88D6-4263-9FB2-1F7E35B06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6905-E619-4F37-8D54-048DB555C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D686-19A3-4F52-89D3-75DA0BA00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F2A7-4F77-4062-A5DF-A6BA595DD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49C1-68A0-4B52-86BE-ABD9D6F34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659A-0527-4888-8F92-AEEC4DD0C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2571-E3C6-41B5-933F-AB97AB03A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5EA3-2BAA-4E64-8567-0767D2083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AB77-C3AA-4DA6-9507-1660B1F5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2CC5-AA05-43D0-8BEC-D14FE503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0008-3351-415D-9D31-55DAD17A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3F484-91B4-438E-AB6F-496317D3E5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-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-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443320"/>
            <a:ext cx="82296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, wh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efining and non-defining relativ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(that) is 10 play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is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ays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523880"/>
            <a:ext cx="80769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 which (that) is at the beginning of the source code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, which is at the beginning of the source code,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st the CD (which, that) I had lent him, which got me down.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 (Czech “kte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 and additional information (Czech “c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-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990720"/>
            <a:ext cx="8076960" cy="57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n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(see eye to eye with h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CD writer. (do with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tragedy of my Marry contracting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sual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r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ting 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n/of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/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ar! I’m lea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marry her, but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 (backed out of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how I ca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b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money I m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is lectu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and done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1337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61 exercise 5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71 exercis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reading assigned this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future” - Czech has its equivalent in “hodla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chystat se něco udělat”; used when something is planned before being defi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assign this value to the scalar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not going to have her license renewed unless they tell her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change the IRQ of the modem to reconcile it with your sound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75248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ction that is likely to happen (taking into account the conditions we are witnessing and that normally lead to the a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ky has got overcast. It is going to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s turned red. He is going to 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ampering with the computer. It is going to free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crosoft have raised prices. Linux is going to be praised for being fre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461960"/>
            <a:ext cx="8381880" cy="52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fix the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fix the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divorce him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ivorce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decision, fact (hig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b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don’t pla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, 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752480"/>
            <a:ext cx="83818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you be doing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programmer going to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be using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260440"/>
            <a:ext cx="838224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: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thin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ot succeed in getting the OS to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supp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dem will not work with this initializ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reck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ever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think he is not going to succeed in getting the OS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suppose the modem is not going to work with th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ckon he is never going to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226044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onna + infinitive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y informal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nna grass on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’s not gonna discuss that with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ways of expressing inten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about to say it, but you beat me to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on the point of starting the virus-infected program when I entered the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, whom, 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used in connection with people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so allows other uses; h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, hi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m, 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he kind of pers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never lear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te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ave me the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d you give it to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d you give it 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b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s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t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ses of “whose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computer whose hard disk is faulty. This is the computer the hard disk of which is faul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buy a disk whose size is lower than 10 GB. I am not going to buy a disk the size of which is lower than 10 G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a keyboard whose cable was frayed. He brought me a keyboard the cable of which was fray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03T13:55:32Z</dcterms:modified>
  <cp:revision>69</cp:revision>
  <dc:subject/>
  <dc:title>Lecture 1:</dc:title>
</cp:coreProperties>
</file>