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4E7C-382A-407C-BF48-FFB2A470A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917C-8BFE-49FB-8707-35FC09A82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7455-26D8-4BCD-9033-A8A008277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193A-22D0-484D-82BF-833E6BE82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FAE7-E46A-44A0-AB44-4484ABF85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F8B6-CB9A-4FAB-8777-ACB661BC9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A050-96FB-4632-AC48-F982CCD7B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DFF7-9D40-41E1-9940-4737514BE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3564-B644-45BF-936F-8438949AD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07A3-266A-45A3-9260-EFE66AACC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4F8F-0C77-4FB0-8DDB-03FCEAC23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F610-C4A7-4035-B6B5-86E802CD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116ED-F9B7-41BD-BDF9-2A4E9B2957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9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60 exercise 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5 exercise 1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6 exercise 1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s Progra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 Service Prov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990720"/>
            <a:ext cx="8382240" cy="58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an action which took place before another action in the past provided the former is mentioned after the lat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installed the program I had bought from Microso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the scanner he had disconnected from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iler reported an error because he had not declared one of the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got fed up with the system since I had been configuring it for a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he time he moved in there, I had been living there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form tense shift (souslednos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asová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had never used hashes in his pro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experiment had never been conducted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replied they had been working on the solution to the security hole problem for the last fourteen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had seriously violated the company’s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form the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al (ner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lná podmínka v minulos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known it, I would not have come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he had not declared the variable, the compiler would have reported the err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d she realized how serious the problem was, she would not have dared solve it by her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she had found out how much he snores, she would never have married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se shift is used to convert direct speech into reported speech provided the main clause contains past tense (the main clause introducing something that was said in the pa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nse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perfect (simple, continuous)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woul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143000"/>
            <a:ext cx="838188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erbs introducing tense shif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tell, ask, answer, reply, announce, report, want to know, know, learn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dovědět 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feel, think, add, admit, agree, claim, confirm, deny, doubt, find, hope, mention, promise, propose, remark, repeat, state, suppose, swear (swore, sworn), threaten, under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 he knew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me he was giving a lecture at that mo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wore he had never used the disket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added they had been debugging the source code for three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claimed she had never worked with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ears found out someone had been sleeping in their be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know how she would handle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ose which specify the exact time an action happened 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us he lived there in 198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hose that express, or are considered to be, general tru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the Czech Republic has about ten million citiz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square root of 4 is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those that contain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n’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expressing permanent necessity or b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octor told me I mustn’t smo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aid the processor must be cooled because otherwise it overhe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7332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those containing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: “You should not execute the fil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 I should not execute the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: You should not get off with that woman. She is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should not (not to) get off with that woman because she was (is)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371600"/>
            <a:ext cx="784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version of direct speech into indirect involves the following adverbial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terd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 yea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year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morr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after, the following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wee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week after, the following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: “I will replace this cable here with a new one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would replace that cable there the following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1T13:50:21Z</dcterms:modified>
  <cp:revision>103</cp:revision>
  <dc:subject/>
  <dc:title>Lecture 1:</dc:title>
</cp:coreProperties>
</file>