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5E91-6453-4B45-9439-AB17CD1B5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3A67-6CF4-4615-B0ED-B9D83F17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BC16-B0AA-4EC4-9B05-B05AFC9E1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777E-A0F8-453C-BDC7-64446F90F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9A59-1BDC-4C48-921C-125CACD7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8D04-61D5-47B6-88CA-CEAEC74B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F310-E946-44FA-A12E-898BC06D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EE00-21BD-48BE-B25E-1167A8C6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C329-90A2-4A6D-8E06-96339D63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B33E-5FBD-47F7-832D-632DCDEA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988F-B017-4B42-AFA5-7AD7E5D3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5C43-EFBA-4B21-B323-33CC19D1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8426-034E-43CF-B522-93A532391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600200"/>
            <a:ext cx="815328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eripherals –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Ready for the Bazillion-Byte D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06:32Z</dcterms:modified>
  <cp:revision>54</cp:revision>
  <dc:subject/>
  <dc:title>Lecture 1:</dc:title>
</cp:coreProperties>
</file>