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8215-BCE5-4922-BAC9-3BD3E2BCA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03BC-A975-4EDE-A9E0-3D0373C22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B701-B2A9-4742-92AF-CFCF4A898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D741-B6D0-4F76-90D8-A8C5B5696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B351-FBAF-4B1A-8DD5-E9709CD65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FB8D-F941-4216-A47B-E82B42DCF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5AE2-9BF4-4519-A7CE-886B7A48E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EB17-BF97-4C19-A830-CCDF6A2B5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096E-A1E3-4D41-8C07-EBA151B88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5946-C94D-4D48-AFB2-036BD2C7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5693-287A-42BA-9369-7D1F83DC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0D88-74AE-4AA1-8C44-7D15A250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35F3-8150-4C54-ABED-51BE8039FB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13372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nctions introducing tim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while, before, after, as soon as (jakmile), till, until, once (jak jednou), by the time (kdy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whenever (kdykoliv), the moment (v tu chv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li, k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ule to remember: Time clauses (introduced with one of the conjunctions above) must never conta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referring to future, they have to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ent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icture will be breaking u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 you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laying the file without the new cod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fter you pl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piece of hardware in, Windows will automatically detect it and assign the right driver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start selling the progra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til I deb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say they will check my hardware setting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ile I wa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na p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kán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be able to install that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 soon as you re-parti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receive the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time you are d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con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ever he ask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for it, I will not help him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981080"/>
            <a:ext cx="79250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 of present perfect in time clauses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as soon as, after, onc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 to describe an action which will be completed before the action in the main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get a pretty well-paid job when you have graduated from this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ce I have finished reading the manual, I will try to get it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let you go out as soon as you have done your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tudent will be admitted to a higher grade after he/she has passed all the necessary ex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06668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xon Genitive 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belonging to a person or, sometimes, anim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my father’s mod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one is allowed to touch my children’s to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achers often underestimate their students’ learning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o express place, distance, periods of time, measure, valu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et out for an hour’s walk. (a one-hour w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ought a sixteen inches’ monitor. (a sixteen-inch moni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wenty kilometers’ trip will never end. (twenty-kilometer tr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what I told you at the last week’s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pe they don’t thwart the tomorrow’s plan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only brought me a fifty centimeters’ cable. (a fifty-centimeter 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nday’s newspapers (this Sunday’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unday papers (Sunday edition - gener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hirty Year’s War (the name of the wa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thirty-year war (the one lasting thirty ye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12400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á také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o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ither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 také 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either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s the FLASH technology. So does s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an’t work with that program. Neither can my 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overslept today. So has my br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bandwidth does not enable us to transfer a large volume of data. Neither does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as thick as two short planks. So is his si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2604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got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mustn’t increment that value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th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needn’t have used fractions in the equation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ed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mustn’t speak during the lessons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s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duce bug-free software. Neither do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5 exercise 1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6 exercise 1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8 exercise 1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3:27Z</dcterms:modified>
  <cp:revision>144</cp:revision>
  <dc:subject/>
  <dc:title>Lecture 1:</dc:title>
</cp:coreProperties>
</file>