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09A-2013-48F9-B3AD-EECDBD86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43A-0F57-4FB4-ABD7-58CC61DA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F063-8FCE-4B21-9FE2-3EC15629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325A-EE45-4D6A-80F6-7169A39C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1666-D2EF-4B55-A882-B79F8792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C907-B29B-401E-ADAC-ACC4DF31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49C6-1FE1-46F0-98FF-AEA72E51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96DF-BA63-4E75-9278-8F2EFEFE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74A2-6975-478B-A122-1FE934BB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5E52-85F8-4996-A988-34D54CC4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B6E1-EFBA-4291-A15D-7BA58F61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0776-D884-42E3-8A00-91E1E0A1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9718-2FF7-4106-8B9F-2EBF9A7FE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íliš 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nowhite" descr=""/>
          <p:cNvPicPr/>
          <p:nvPr/>
        </p:nvPicPr>
        <p:blipFill>
          <a:blip r:embed="rId2"/>
          <a:stretch/>
        </p:blipFill>
        <p:spPr>
          <a:xfrm>
            <a:off x="3386160" y="2470320"/>
            <a:ext cx="2633760" cy="293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150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rry, but you’re too short for us to ge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and the Seven Dwa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00Z</dcterms:modified>
  <cp:revision>179</cp:revision>
  <dc:subject/>
  <dc:title>Lecture 1:</dc:title>
</cp:coreProperties>
</file>