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27F9-A2E1-4326-9D4C-BF85AD95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A300-F3F0-4761-A38E-CF3BE92F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B73A-5CCA-4AA3-A416-68D8E6EC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3F9F-01B3-4C39-B833-4B413B02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4541-6D94-4993-9D52-F16F59FB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0D1-6D10-49AB-8FD7-022330FD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0E14-F103-4743-9EDB-62CD5D1D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88BA-782C-4CDA-A891-FF93DEEA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A9F8-DEEE-4D68-BC9A-1A54E5D7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63BE-CA2B-4BB3-AE02-0E879B22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EEC0-96A8-4002-81C0-0C558886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EF95-771F-45F9-9EBC-31C8E01B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D56E-EB00-4020-8E97-4CCCDDB27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99072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30T13:46:59Z</dcterms:modified>
  <cp:revision>93</cp:revision>
  <dc:subject/>
  <dc:title>Lecture 1:</dc:title>
</cp:coreProperties>
</file>