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3E33-6138-4D03-83FE-9AD6CB1CA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5875-6DF8-4AE9-881B-17B909EC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4232-736A-465D-851C-33F3AF33D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DA1F-AF72-445F-B95E-E21F12119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F0D9-D942-4914-9222-3E589F22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A283-0869-4EF3-BEA9-DF7D1773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2B5C-624C-401B-B39A-CCCC0821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55E2-FF4B-41AD-9CB1-8381C59D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362B-BC8A-4994-869F-487B248C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9662-4930-43DE-B415-52848AF4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9894-86BF-4142-B5BC-567517B4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1070-65CA-46E7-9034-BBE16173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DF95-EB14-4ED0-A510-5D09919D7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i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03:36Z</dcterms:modified>
  <cp:revision>34</cp:revision>
  <dc:subject/>
  <dc:title>Lecture 1:</dc:title>
</cp:coreProperties>
</file>