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D30-F699-4333-B1FA-751DEAB0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7C7-3772-48D4-9901-31352197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2FB-A360-433C-8B04-CC01BCF8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830-237B-4C76-A018-11800416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1C6F-097D-4E79-A78D-57626FF5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7747-6CF7-4E51-BF26-90B43FDE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5A2D-B4C9-4537-A55C-9F1A0F70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24E4-D0CD-4C42-87D6-7E5B9EA9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AD49-92F3-47E1-99C9-3D37ECD8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DBD0-1A37-43B9-B02F-B203873B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AF4E-056D-485B-BF3F-C74686F4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9EE-8A41-4479-80BA-94D4B96D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1857-CBC6-41B7-B66D-9FE8E756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5860-359C-4D4E-B6E7-F65495B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D189-44A0-41CD-9B9B-78CC1F5F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6EDC-C8A9-4A53-8002-F377D5D8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B1D0-23F8-4695-ABCB-4ABBF1A4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F78-2748-4E1C-9FF4-79309C0D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745-FC5E-4971-B1A0-76A55CE1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4AA-58A3-4BC0-8B5A-4C51D9FB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CB8-F520-4379-A52A-C8F41080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E9C-980F-40D5-9009-D85841A8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3AF-9DD1-4003-9C6F-8B5A0636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8DD-9E89-4D4B-824A-7418BCFD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245B-1B55-4950-8417-2142DDEE281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32E1-EEB4-4E54-B34B-98C57678F35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organizova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těž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činno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Reguli</cp:lastModifiedBy>
  <dcterms:modified xsi:type="dcterms:W3CDTF">2006-03-07T13:39:17Z</dcterms:modified>
  <cp:revision>11</cp:revision>
  <dc:subject/>
  <dc:title>Systematika úpolov</dc:title>
</cp:coreProperties>
</file>