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8370-2647-4095-9A2F-6B66CDF50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AF90-C73E-41EE-94AB-976F0469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CF26-BCB3-4738-91B2-24B452FD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2DFA-BCA6-4206-8ED9-77601EFF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A575-3EA9-4951-8DC2-8EC7A9EA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0B1A-1734-4135-BD7B-85842D18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7634-4495-4F38-BDED-AC65D2ED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7912-DB8B-451B-BAEC-33892C52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3A39-C365-4BD2-BBE7-149B3E24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7B78-38FD-4163-B995-AFFD8C1C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3DC6-6663-4F64-BA97-EB0E1C15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42DD-7046-4603-8C3E-DB953BEC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EC54-9DD1-44F0-A4B5-68A19B39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4713-2E81-483A-8E27-42F41F7F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A426-E9C8-4297-8A25-5683BB4A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5C7C-82A5-40E6-8551-24BB90728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8B23-21B6-463B-B2BC-DC092D27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E3C6-80C7-4760-A931-26108597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06AB-9A7E-4999-86AB-48F10934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8E3F-D36A-4470-8397-250459AE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9312-DC51-401D-B224-272E1337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85FD-EB08-4CEF-8E90-8F3E773F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5FCC-EBB7-42C5-8ED1-62D1C94B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AC71-9502-4BC7-BC38-8C309E40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DBDE-41CF-47D6-8B61-D97DF9E4A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36AE-E55A-42F6-88CB-4750BD20D6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idaktika p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Velikost plochy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jednou částí těla (nejčastěji ruk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s více částmi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trup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Intenzita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tyková zátěž stoupá s intenzitou dotyku: dotykový podnět je přenesen z povrchu dovnitř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tmý doty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ch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bje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Taktilní zón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se provádí v intimní vzdále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řazujeme postupně cviče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ruk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zády nebo dolními končetinam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přední části trup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bli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jem, vnit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ranou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steh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ygienické návy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vičenci se navzájem dotýkají, je potřeba dbát 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istotu cvičenc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rávné ustrojení (vhodný cvičební úbor, NE:hodinky, náramky, náhrdelníky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pravu (nehty, poranění kože, líče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jsou nebezpečnější než jiné sportovní aktivity (rsp. jsou stejně nebezpečné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amezení zraněn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Cvičení vhodná pro danou skupinu z hlediska stupně vývoje fyzického, psychického, sociální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pis cvičení dokonale pochopitelný cvičenc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ě vymezené úkoly jednotlivých cvičen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é instrukce učitele (začátek a konec cvičení, přeruše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jsou zodpovědni za bezpečnost svého spolucvič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ěkterá cvičení vyžadují určitou úroveň royvoje specifických úpolových dovedností (např. pádová techni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Emotivnost cvičení vtahuje cvičence do činnosti, jejich vědomá sebakontrola je omezen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bát na ontogenetické, fylogenetické, psychické a sociální faktory úpo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ády v ontogenéze pohyb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8178840" cy="27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zád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bo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řevalování na str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asení koníč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ed a skutálení se vzad nebo stran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toj a pády vpř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strachu z pád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cit bezpeč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zdálenost těžiště od podlož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Rychlost p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působ tlumení dopadové ener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vrch, na který se pad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2300400"/>
            <a:ext cx="63244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Dostatečné zvládnutí základních pád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z nižších pol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cvičovat pom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pády bez zaraž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 měkký pov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ořadí nácviku základních pádových techník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bez převra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trano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a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bez převrat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56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ek je prvním a univerzálním (v ontogenéze i fylogenéze) komunikačním prostředkem člově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oderní, informační společnost znehodnocuje komunikační funkci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Tělesná výchova a sport umožňuje znovuobjevování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je emotivní, cvičenci „zapomínají“, že se sty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 výuce musíme respekt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ěk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některá kritická období psychosexuálního vývo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hlaví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u koedukované výuk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Individuální zkušenost s dotykem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zejména negativ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fzyického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ediátor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ba trvání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likost plochy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Intenzita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aktilní zó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Mediátor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 prostřednictvím předmětu, nebo bezprostřed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odě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kožka -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oba trvání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jdřív zařazujeme cvičení s krátkodobým kontaktem (dotknout se soupeřova rame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ak cvičení s delší dobou nevyhnutného kontaktu (udržet co nejdéle soupeřovo zápěst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6-03-12T11:54:20Z</dcterms:modified>
  <cp:revision>12</cp:revision>
  <dc:subject/>
  <dc:title>Social Firms From NHS</dc:title>
</cp:coreProperties>
</file>