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3005-A18E-40B8-BC15-B618FDA7C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7E5C-1D76-4373-AF6B-CE2FF0384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98EA-AD30-47CA-B5BB-447E0F3AB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6C56-EC71-4196-A765-331D9DE85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576CA-BBD0-44FE-B7C2-9006C6E4B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CDEA0-9334-4E62-9EAA-FC5755703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C0AED-773B-4743-8871-FE74E0AE0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59EF1-12ED-4CEE-B589-EA4021D00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3CB31-8FCB-4922-B524-A18ACDC85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625CE-F4C1-48CD-992C-DCD810151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89A43-A667-4AD3-B7A5-1EE0B55A1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FEB1-DCFE-4C84-A080-5DCA06085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FB430-08C2-4DB7-A200-F5A45FDA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BF09B-6491-4EBB-BE10-EB674514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2AD03-0E6D-4ECF-B36A-9616674D7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B8B3E-9A2C-4D48-8F2F-E99C502FD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49968-FB76-4DC5-9291-13B4602CF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4A98-3AF0-4AB7-81C6-5EBB1977F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63BF-F3CF-4947-8600-B876E80CC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E2BF-A287-4DE8-BCF9-6C09EF2C2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0564-8A02-4CA6-8A29-1F81D2B83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F90A-9282-4736-AFD5-89BFFDB4D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0060-B52F-4006-8C08-EE344D659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1475-331D-454A-B875-89B6E238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547BF-5F06-45FB-B2CA-0D26B186CF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66F23-8FDF-4BA1-995A-9E1C6A8088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6600" spc="-1" strike="noStrike">
                <a:solidFill>
                  <a:srgbClr val="ccffff"/>
                </a:solidFill>
                <a:latin typeface="Tahoma"/>
              </a:rPr>
              <a:t>Determinanty didaktiky úpolů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Obecné determinant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Fylogeneze lidst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Ontogeneze pohyb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Sociální fak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sychologické fak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Fylogeneze lidstv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Úpoly byly na počátku existence člově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Úpolové aktivity člověka doprovázeli v kritických obdobích vývo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Zachovaly se archetypy hrdinů – jsou často spojeny s úpolovými aktivitam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Kontaktní překonání člověka je hluboko v podvědomí, je součástí vnitřní výbavy zdravého jednotliv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Ontogeneze pohybu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otyk je prvním komunikačním prostředkem dítě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ěti spontánně jednají úpolově – v kontaktu (namají jiné prostředky aktivní obran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Spontánní aktivity dětí v různých obdobích pohybového vývoje zahrnují úpolové ak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ro didaktiku úpolů je kritické období 8 – 9 let, dítě začíná chápat vztah mezi příčinou a důsledk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Sociální faktor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Úpoly nelze (dlouhodobě) provádět osamot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Budují se sociální vazby (silněji v bojových uměních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Cvičenci úpolových sportů působí na společnost a opačn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Cvičení úpolů musí být spojeno s přísným dodržováním spoločenských norem (etiket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Psychologické faktor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Ztráta vědomé sebekontroly po dobu cvič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ráce s s fyzickou (totální) porážkou, nebo vítězstv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ráce s bolest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Agresivita ano, ale konstruktivní (benigní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2T19:05:35Z</dcterms:created>
  <dc:creator>Home</dc:creator>
  <dc:description/>
  <dc:language>en-US</dc:language>
  <cp:lastModifiedBy>user</cp:lastModifiedBy>
  <dcterms:modified xsi:type="dcterms:W3CDTF">2006-02-26T04:57:23Z</dcterms:modified>
  <cp:revision>3</cp:revision>
  <dc:subject/>
  <dc:title>Determinanty didaktiky úpolů</dc:title>
</cp:coreProperties>
</file>