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EE3-EEAE-463F-9C35-9710C6C4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D08-D13C-438C-9D1B-404CB144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E2F-BF30-4432-A100-6C3D5DCA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56E-0F12-4064-ABAB-CBCB970A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63C8-DF63-4E78-B4F8-ED343CB0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88D3-2380-4E63-BA11-48637E44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78A6-F3FE-4B94-BC70-F838400E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8D18-F0B0-4747-B169-BD609800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9277-17A2-4CF7-A6F9-45BF3EC7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555D-F05B-44C1-ABE7-C830FC31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02EB-EB83-4089-B663-4C2F68FA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63E-F945-4348-8409-39720B8B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A579-3265-4512-B462-9DAB9B00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670B-EBFA-4A06-B462-CD12FFBA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CF24-5E89-45E4-982F-B8852F78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0877-5204-4DF1-A304-D2CA2F18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368B-14AB-4FAD-93DE-C9D58EDB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224-E3B6-4F46-832C-F183EE42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2BB-535A-460E-B0A3-1810619A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06E-D733-40F8-93F2-D7E2D7CE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81A-6BF1-478C-8B39-C73897BD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26C-4BFC-4A73-AA01-C5EFF41F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CF3-9ACA-4F68-8909-184DA12C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30F-40DF-4CE0-8A22-B6ED7F42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AD29-39F7-407D-BC25-59020340D645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4AB8-46AB-4F57-8B50-EC4E93074B6A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s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čs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HOME</cp:lastModifiedBy>
  <dcterms:modified xsi:type="dcterms:W3CDTF">2006-03-08T06:55:19Z</dcterms:modified>
  <cp:revision>3</cp:revision>
  <dc:subject/>
  <dc:title>Bojová umění</dc:title>
</cp:coreProperties>
</file>