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57F3-CF07-4CEB-B1D5-107C84E168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87967-FAC6-4495-94E1-92C4671F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F7BC-756C-43E3-817F-32E25A9F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FFF27-C694-44D6-9249-E9DB2BBFAE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6F026-AFC4-4452-A978-3B5B6A97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7BABA-4990-4E5C-BCE2-999DF027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9E9BE-33DD-4AAC-8D61-487D02BF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246D-5F54-4A27-A961-29635FF8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8DAB8-BB0F-441E-A24C-384E38A2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4D27-7174-4E90-AC85-2B5C6921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E1F53-F447-4EE3-B80C-F6183B74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65F39-3A8C-4AB3-910F-B576A51A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2D49-1AEF-46AC-9FDF-760D826DF852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D79C-4A90-4108-89C3-2255CB63276D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47D3F-3F70-4476-A196-C5BE8D3309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F968-4CD4-4C48-8ABE-F089DA1ECE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AC97F-9CB3-4C43-8C31-EE3C64DED0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444E2-030D-4157-A324-EEE6D5D876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ACE33-EBDC-4393-AF9D-97156B1155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HOME</cp:lastModifiedBy>
  <cp:lastPrinted>2003-10-23T14:31:15Z</cp:lastPrinted>
  <dcterms:modified xsi:type="dcterms:W3CDTF">2006-03-08T07:54:27Z</dcterms:modified>
  <cp:revision>63</cp:revision>
  <dc:subject/>
  <dc:title>Selling an Idea or a Product</dc:title>
</cp:coreProperties>
</file>