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CAF-85CD-426E-ADC8-9E7FE435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F00-D92F-4F46-8A73-E4E12C2C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C42-6228-409F-A2C4-1EC638EF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B09-FB86-4C6A-8C65-A00EA547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390C-AA4C-4452-8BAA-CA2C84ED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C95D-9039-460B-9B19-D85CE38C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E352-FE1C-4B7F-A54C-701BA19A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A903-9ECF-4E81-9434-6BAAF075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6F06-9988-427A-B65D-57F6527C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D317-EEDD-4F80-A932-8502FC6C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7362-166C-442B-A151-C3B07E82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EBA-DDAB-4204-A445-51F19969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D7CF-5491-4F11-9A65-BFA2C848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55B5-25FB-4C48-BEB5-DC37D75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0E71-F565-4870-8FE1-6718C9E9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5B0F-2771-40F2-AABE-C4DCAD78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73B6-2F0D-4F50-AF74-35D5DF74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D39-509C-4749-B359-264FAE35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1C4-C8A8-4B9D-8906-488152E3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A53-A671-4FD8-9CAB-1272BB84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473-C419-471A-8113-2FA06FC5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3B2-C331-4757-80DE-C9644256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F0C-222F-4988-8D93-63E96894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318-7C3F-4F25-BA09-9F00FFC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CF66-2037-4B5C-8775-E2D57C1171AF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EAA1-905E-4134-B1BF-742C32CFCF80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HOME</cp:lastModifiedBy>
  <dcterms:modified xsi:type="dcterms:W3CDTF">2006-03-08T08:12:34Z</dcterms:modified>
  <cp:revision>7</cp:revision>
  <dc:subject/>
  <dc:title>Rozvoj pohybových dovedností</dc:title>
</cp:coreProperties>
</file>