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AB8-58C9-4C1F-BF2B-9E64CBA8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B4F-B19B-4B14-A327-9EF2F8E3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71B-C923-4068-996D-3FC3E0D6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796-8960-4AF1-BAB4-F0730104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75BD-E50E-4CC2-9327-648A150A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E16E-04BB-4798-A7BF-9B2936B1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E62B-B481-4E7F-81B3-B3419B1C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275B-2886-4C58-839D-B4C24BFC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4ECA-2121-43A6-B111-EBC9DDA2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0450-E285-4147-BD49-6FE0FA4C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6A1D-7414-4BFD-8FB7-96E0506C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F1E-AAB6-4D9D-8FCE-F677A030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AD40-4B13-4850-81E3-BCEC45EE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DB8E-BEE1-4246-B157-114A7CEC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3664-CFB2-4302-B279-9E0BB926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84E4-2BB2-4481-B481-412EF356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AF63-A91C-4504-99F7-9DF265E8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5C5C-325B-4D39-9956-8A55FA89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563-6622-42B2-8BCE-2E18846B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89D-950A-418A-B8DA-0BEF8D66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040-068B-4733-9C5E-B1D41BFB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463-637C-443A-92FF-526834BE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5E4-0FCD-4D5A-A501-2936E708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481-C5F3-4A24-8151-CCF49366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0B61-E637-4BC4-ABF8-E16EB8DA3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2E1C-19DC-40C8-BF87-F01863C9E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a na vrcholní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 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user</cp:lastModifiedBy>
  <dcterms:modified xsi:type="dcterms:W3CDTF">2006-03-07T09:50:17Z</dcterms:modified>
  <cp:revision>6</cp:revision>
  <dc:subject/>
  <dc:title>Úpoly ve sportu</dc:title>
</cp:coreProperties>
</file>