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1E8-E85F-4FC7-95D1-25EC4EE3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B61-B1E7-4E61-9432-76B36528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3CC-DCC3-4CE6-B383-B57D2E2D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53DC-1C91-4D59-9EE3-B97B5807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5B03-F129-45AE-8A0A-D1C2731B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37C1-009A-4EEB-B5D7-E770AC5F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D440-949D-41B5-AFB3-385B9C45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EC02-15F3-458C-98A7-F96F69D4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783D-AD82-48A6-A221-F74FB00A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CAB3-4A86-48F4-9236-6AC61DB8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3F43-91B0-4C44-A23E-9E8DDCA6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C9F-8D3F-48B6-9421-063B8B5A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1267-5924-4B7D-9FCB-6C2375A3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EC8B-26BD-4BF1-B221-5538D861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D7E5-2FC4-4B98-B65F-B0E9F06F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7C96-E4CD-4953-9572-4B86B16C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ED97-AE8E-496A-BE01-6503FBFF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E84-F802-4437-8B55-65C0C015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EC4-8838-4235-A82B-2F66B200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77E-2F4A-427A-AB52-BE5BFA18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C607-007D-4B95-B160-DBA26DCF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C2B9-A140-426A-B157-7266B869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377F-3D6C-4F5C-8BB5-69A60F46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D67-F7F0-49C6-8319-C0D75846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4899-CE7B-45C0-8132-BF317EDEE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320D-0751-419D-BF57-5A649DC26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byl vychýlen do nerovnovážné polohy 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 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Home</cp:lastModifiedBy>
  <dcterms:modified xsi:type="dcterms:W3CDTF">2004-11-11T22:07:45Z</dcterms:modified>
  <cp:revision>1</cp:revision>
  <dc:subject/>
  <dc:title>Základní úpoly</dc:title>
</cp:coreProperties>
</file>