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12B-D1DB-459E-A503-F2F296C9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635-11AF-4554-BA21-0D52450E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C0D-E67B-4AE4-9F99-B130F4C7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E9A-C464-4987-8F3B-2E360CEB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81C7-2F2A-4EA1-B176-3CC76F72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8E23-F003-4018-B3BB-BCD8C61E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A101-E8B0-4688-A6CD-C140E78E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4A71-ABEA-4003-AE78-53409A6A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38CE-8985-40F4-9A4A-175884C3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5099-4CA4-44E9-97A3-EA8AAADF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3E08-21FD-4B03-843A-BA331F62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3FE7-83D9-44EA-93C6-E843F288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5AD3-4DE4-481F-B024-104562A6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0731-8AA2-4491-9EC4-5E146DFD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E779-2DD4-410B-953A-A1F1C7EF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B6A4-EA6B-460E-82C4-1F9AC2FA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747E-3291-41E7-8ED1-5F5F7017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7EB-F656-4F51-8C26-C66C390F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8238-9F18-4A50-A75A-CA243D9C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968A-8D39-41DB-816D-0D2D69E1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231-F4E3-442D-B45F-A1D65B39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1AE-D783-4B80-9695-AF7F0C40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7BA-7807-47C2-9530-BC39498E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BE0-B84D-4FE2-B71F-4989D228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74E4-5734-466F-9D65-E52D5EB2BDD1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01AA-3EC7-4D8F-986D-CBCA4B6FFDB8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 sporty systém zkoušek, titulů 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 </a:t>
            </a: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Gracie džúdžucu, capoeira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ázij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Reguli</cp:lastModifiedBy>
  <dcterms:modified xsi:type="dcterms:W3CDTF">2006-03-07T13:48:26Z</dcterms:modified>
  <cp:revision>4</cp:revision>
  <dc:subject/>
  <dc:title>Úpoloo</dc:title>
</cp:coreProperties>
</file>