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187A-0D21-4921-A60D-EF7BB899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9CFA-409E-45D2-AA46-18ABC1FE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7532-1109-42B7-B152-8C1D8AE8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49DA-E65A-4A3E-BE6E-082A47DA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0721-8ADF-4C3B-B04E-EA71E683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99A6-564A-4323-B8DA-218DC8A2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32EE-A188-4A4B-9224-C6344B17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10ED-6579-4B2E-A55C-EAC88E1B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7639-42EE-405A-8CE2-522876CF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815E-808D-48A4-AB60-81B71F25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B2AE-F0B6-491E-876C-03D1BC5F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93E8-1B38-45CE-9E5D-B001336E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DFE9-54D4-4C14-BA6D-07956369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C7E8-2C39-4EA0-8B54-2CBFE3CD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DA75-C825-46DA-84C5-DD6275E0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93DE-00E4-4E25-957D-05D0AFC5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1C35-99AB-48D5-A348-C67090BD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383D-1256-4ECC-B7C3-2CBD8F00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FFE9-D851-4879-B497-62409396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FC96-95D4-4A4D-A18E-BF6EC82B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241A-3C63-4921-A471-39001A51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607C-555E-48EA-82DA-43F38076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2A26-5DA6-4775-91D3-944B6319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0367-A2D2-4B84-BAC2-5D177E8C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B7F1-B788-4AB4-912A-D3E0DBC3D3C6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C12E-81C9-4583-AE12-4F8186653174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Z historie úpolových činnost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akralizace – posvěcení násil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ové činnosti jako nedílná součást vzdělání a dobrých mrav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řeba omluvy násil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Boží vů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yšší ideá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Společenská nevyhnutnost (sebeochr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Helénské období – starověké Řec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istori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ozofov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e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anhelénské h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lympijské hr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ápas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l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18. Olympiáda, 706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x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ygm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23. Olympiáda, 68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boj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nkration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33. Olympiáda, 64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Kalokagat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Řecký ideál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jení duševní a tělesné krás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 různých městských státech byla jinak chápána (Atény...Spart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0360" y="20520"/>
            <a:ext cx="8388360" cy="522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4960" y="5465880"/>
            <a:ext cx="50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Řecko, amfora s malbou od Andocide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25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Řím – úpadek spor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Gladiatorské zápas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rofesionalizm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eci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rut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ozvoj vojenstv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- Evrop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7 ctností (septem probitates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ízda na koni (equ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avání (na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ukostřelba (sag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zápas (caestibus), šerm (cer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v (aucupari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šach (scacis lude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veršování (versificare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– samurajové, Japons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unbu rjódó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vojí cesta – vzdělání v boji i kultuř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á výchov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7 let pá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14 let pano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21 let rytí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axe rytíř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turna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o 15. – 16. století bojový charak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Fiktivní systém inscenovaných souboj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ehistor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ové činnosti na počátku lidstv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 a získávání potrav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ochrana rod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ělesná cvičení, h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Měšťanská a lidová ku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řesťanství : Ora et labora (modli se a pracuj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lečenské vrstv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ellatores (ti, kteří válč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ratores (ti, kteří se modlí, duchovenstv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boratores (ti, kteří pracuj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é akademie (17. 18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ástup humanizmu, znovuobjevování antických i rytířských ideá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akade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antrop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Úpoly v tělovýchovných systémech (19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ěmecko – turnérské hnutí (vlastenectví+branná příprava+gymnastik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Švédsko – gymnastika vojenská, pedagogická, zdravotní, estetick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rancie – F. Amoros, tělesná výchova pro mláde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nglie – orientace na s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ostupná diferenci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a počátku – všichni všech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zději rozdělení (i  s vnitřní specializací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Lov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Bojovní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dokonalení technologií = zdokonalení bo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Elektronicé informační zdro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ron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 Chronological history of the Martial Arts and Combative Spor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ttp://ejmas.com/kro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tarověké civiliz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rcheologický výzkum dokazuje existenci řízeného nácviku úpo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d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Mezopotá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0"/>
            <a:ext cx="40273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2200" y="2081160"/>
            <a:ext cx="333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21000"/>
            <a:ext cx="31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31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Rukojeť obřadního nož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959360" cy="63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5120" y="1341360"/>
            <a:ext cx="373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um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aleziště Džafaja u Bagdád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8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ronzová soš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3120" y="53211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, Ben Has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robka prince Chetih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05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níci – mýtičtí hrdinov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řiznání magických vlastností bojovníkům – hrdinů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hové nebo jejich potom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omek boha a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lověk ve spojení s božskou sílou (předměte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2:21:27Z</dcterms:created>
  <dc:creator>Home</dc:creator>
  <dc:description/>
  <dc:language>en-US</dc:language>
  <cp:lastModifiedBy>user</cp:lastModifiedBy>
  <dcterms:modified xsi:type="dcterms:W3CDTF">2006-03-07T11:12:11Z</dcterms:modified>
  <cp:revision>7</cp:revision>
  <dc:subject/>
  <dc:title>Z historie úpolových činností</dc:title>
</cp:coreProperties>
</file>