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B1D6D-EDC4-4B4A-802D-844DF8729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1917E-8B56-450A-BA97-C4E865A3E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EA1B3-72F5-4D16-B8E2-521B9A166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E4A7E-C22B-46DB-B589-9D0657DD6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EB575-1D84-41C2-86B5-459BAC33E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C4E78-A772-4A94-A632-77DB9D8C4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8E0ED-33CF-4277-A0E3-420EA1900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8C96A-D4A8-45AF-962A-F041C9383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A4A5B-28C6-4314-BC17-B43EDF3A0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35488-E167-4FE0-906E-A2B01C60D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FB46D-B895-426C-8D5F-354E24227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7FF1B-1222-464B-8C62-925623444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68D15-9C1A-498F-8334-2AB4EABC7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26777-2D1D-4608-B2A0-E95460D56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91549-EBE9-4A2A-BC1E-69192DF14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E9DE9-9FDE-4CB1-AF8C-DB436D5A9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20FC3-DADB-4DA5-B698-5B07CF2CE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10635-D7F6-4488-907E-734D51C8F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C31B5-F864-4F3A-A17D-695A536AF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1D07C-BAE7-41E9-B24F-9ECCCC2FA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B290A-074F-4D9A-AA7A-6C1376433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B21BA-8A33-4962-A710-4FCF5BCD1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12E1A-09F7-4454-9064-1CE7DB85E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7C9A3-58B8-46B4-AC71-9D6FE0D8F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1" name="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9c004e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/>
              <a:ahLst/>
              <a:rect l="l" t="t" r="r" b="b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/>
              <a:ahLst/>
              <a:rect l="l" t="t" r="r" b="b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/>
              <a:ahLst/>
              <a:rect l="l" t="t" r="r" b="b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220011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/>
              <a:ahLst/>
              <a:rect l="l" t="t" r="r" b="b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/>
              <a:ahLst/>
              <a:rect l="l" t="t" r="r" b="b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/>
              <a:ahLst/>
              <a:rect l="l" t="t" r="r" b="b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/>
              <a:ahLst/>
              <a:rect l="l" t="t" r="r" b="b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E00A6-C76B-4359-B42A-B990B5DDB166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51" name="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9c004e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/>
              <a:ahLst/>
              <a:rect l="l" t="t" r="r" b="b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/>
              <a:ahLst/>
              <a:rect l="l" t="t" r="r" b="b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/>
              <a:ahLst/>
              <a:rect l="l" t="t" r="r" b="b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220011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/>
              <a:ahLst/>
              <a:rect l="l" t="t" r="r" b="b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/>
              <a:ahLst/>
              <a:rect l="l" t="t" r="r" b="b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/>
              <a:ahLst/>
              <a:rect l="l" t="t" r="r" b="b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/>
              <a:ahLst/>
              <a:rect l="l" t="t" r="r" b="b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65DF6-8429-4EF7-ABE0-D3692F92184C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cc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Times New Roman"/>
              </a:rPr>
              <a:t>Systematika (taxonomie) úpolů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Times New Roman"/>
              </a:rPr>
              <a:t>Sebeobrana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vzniká aplikací úpolů </a:t>
            </a:r>
            <a:r>
              <a:rPr b="1" i="1" lang="sk-SK" sz="2800" spc="-1" strike="noStrike">
                <a:solidFill>
                  <a:srgbClr val="ffffcc"/>
                </a:solidFill>
                <a:latin typeface="Times New Roman"/>
              </a:rPr>
              <a:t>pro potřeby</a:t>
            </a:r>
            <a:r>
              <a:rPr b="1" i="1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nutné obran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Rozdělení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osobní (+s. žen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profesní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Times New Roman"/>
              </a:rPr>
              <a:t>1</a:t>
            </a: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8</a:t>
            </a:r>
            <a:r>
              <a:rPr b="0" lang="sk-SK" sz="4400" spc="-1" strike="noStrike">
                <a:solidFill>
                  <a:srgbClr val="ffcc00"/>
                </a:solidFill>
                <a:latin typeface="Times New Roman"/>
              </a:rPr>
              <a:t>62 Sokolská soustava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I.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vičení bez nářadí a bez pomoci nebo odporu jiných cvičenců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II. Cvičení nářaďová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III. Cvičení se skupině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IV. 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Úpoly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Times New Roman"/>
              </a:rPr>
              <a:t>1862 Sokolská soustava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. bez náčiní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775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.Odpory. Cílem je jenom překonávat odpor spolucviče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nce</a:t>
            </a:r>
            <a:r>
              <a:rPr b="0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a jeho činnost je dopředu známá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775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2.Zápas. </a:t>
            </a: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Ne</a:t>
            </a:r>
            <a:r>
              <a:rPr b="0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jen  odpor protivníkovi, ale </a:t>
            </a: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snaha</a:t>
            </a:r>
            <a:r>
              <a:rPr b="0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přemoci </a:t>
            </a: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ho</a:t>
            </a:r>
            <a:r>
              <a:rPr b="0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. Shodit ho na zem tak, aby se stal jeho další odpor nemožným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775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3.Box – rohování. </a:t>
            </a: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Ú</a:t>
            </a:r>
            <a:r>
              <a:rPr b="0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tok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y</a:t>
            </a:r>
            <a:r>
              <a:rPr b="0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pažemi nebo nohami, jako i odvracení těchto útoků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775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B. s náčiním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775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. šerm šavlí,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775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2. šerm fleuretem (končířem),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775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3.šerm holí: krátkou (80-100 cm), dlouhou (do výše cvičencovy brady</a:t>
            </a: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)</a:t>
            </a:r>
            <a:r>
              <a:rPr b="0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,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775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4. šerm bodákem,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775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5. </a:t>
            </a:r>
            <a:r>
              <a:rPr b="0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šerm dýkou.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Times New Roman"/>
              </a:rPr>
              <a:t>Autoři zabývající se úpoly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1939 - F. Smotlach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953 – J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.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Pavlíček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956 – V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.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Roubíček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957 – R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.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Kříž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970 – V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.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Roubíček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980 – V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.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Roubíček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984 – I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.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Fojtík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993 – M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.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Ďurech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Times New Roman"/>
              </a:rPr>
              <a:t>Taxonomie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H</a:t>
            </a:r>
            <a:r>
              <a:rPr b="0" lang="sk-SK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ierarchické zařazení určitých prvků podle předem stanovených kriterií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Postupuje se od nejjednodušších po nejsložitější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Postupuje se od vývojově starších k mladším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Sleduje i dadaktické cíl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Times New Roman"/>
              </a:rPr>
              <a:t>Schéma systematiky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. úroveň úpolových p</a:t>
            </a:r>
            <a:r>
              <a:rPr b="0" lang="sk-SK" sz="2400" spc="-1" strike="noStrike">
                <a:solidFill>
                  <a:srgbClr val="ffffcc"/>
                </a:solidFill>
                <a:latin typeface="Times New Roman"/>
              </a:rPr>
              <a:t>ř</a:t>
            </a:r>
            <a:r>
              <a:rPr b="0" lang="sk-SK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edpoklad</a:t>
            </a:r>
            <a:r>
              <a:rPr b="0" lang="sk-SK" sz="2400" spc="-1" strike="noStrike">
                <a:solidFill>
                  <a:srgbClr val="ffffcc"/>
                </a:solidFill>
                <a:latin typeface="Times New Roman"/>
              </a:rPr>
              <a:t>ů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 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P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</a:rPr>
              <a:t>rů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pravné úpol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cc"/>
                </a:solidFill>
                <a:latin typeface="Wingdings"/>
                <a:ea typeface="Wingdings"/>
              </a:rPr>
              <a:t>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2. úroveň úpolových systém</a:t>
            </a:r>
            <a:r>
              <a:rPr b="0" lang="sk-SK" sz="2400" spc="-1" strike="noStrike">
                <a:solidFill>
                  <a:srgbClr val="ffffcc"/>
                </a:solidFill>
                <a:latin typeface="Times New Roman"/>
              </a:rPr>
              <a:t>ů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 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Úpolové 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</a:rPr>
              <a:t>s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port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  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sk-SK" sz="2800" spc="-1" strike="noStrike">
                <a:solidFill>
                  <a:srgbClr val="ffffcc"/>
                </a:solidFill>
                <a:latin typeface="Wingdings"/>
                <a:ea typeface="Wingdings"/>
              </a:rPr>
              <a:t>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k-SK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3. úroveň úpolových aplik</a:t>
            </a:r>
            <a:r>
              <a:rPr b="0" lang="sk-SK" sz="2400" spc="-1" strike="noStrike">
                <a:solidFill>
                  <a:srgbClr val="ffffcc"/>
                </a:solidFill>
                <a:latin typeface="Times New Roman"/>
              </a:rPr>
              <a:t>a</a:t>
            </a:r>
            <a:r>
              <a:rPr b="0" lang="sk-SK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cí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 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Seb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</a:rPr>
              <a:t>e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obran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Times New Roman"/>
              </a:rPr>
              <a:t>Prostorové vztahy úpolů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2209680" y="1447920"/>
          <a:ext cx="4673880" cy="518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1447920"/>
                    <a:ext cx="467388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Times New Roman"/>
              </a:rPr>
              <a:t>Průpravné úpoly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Průpravná cvičení pro jednotlivé úpolové sporty</a:t>
            </a:r>
            <a:r>
              <a:rPr b="1" i="1" lang="sk-SK" sz="2800" spc="-1" strike="noStrike">
                <a:solidFill>
                  <a:srgbClr val="ffffcc"/>
                </a:solidFill>
                <a:latin typeface="Times New Roman"/>
              </a:rPr>
              <a:t>, sebeobranu a tělesnou výchovu a sport</a:t>
            </a:r>
            <a:r>
              <a:rPr b="1" i="1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Rozvíjejí úpolové předpoklady pro nácvik úpolových sportů a sebeobrany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Rozdělení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Základní úpolová technik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Základní úpol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Times New Roman"/>
              </a:rPr>
              <a:t>Úpolové sporty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400" spc="-1" strike="noStrike">
                <a:solidFill>
                  <a:srgbClr val="ffffcc"/>
                </a:solidFill>
                <a:latin typeface="Times New Roman"/>
              </a:rPr>
              <a:t>N</a:t>
            </a:r>
            <a:r>
              <a:rPr b="1" i="1" lang="sk-SK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ejvětší a rozhodující skupin</a:t>
            </a:r>
            <a:r>
              <a:rPr b="1" i="1" lang="sk-SK" sz="2400" spc="-1" strike="noStrike">
                <a:solidFill>
                  <a:srgbClr val="ffffcc"/>
                </a:solidFill>
                <a:latin typeface="Times New Roman"/>
              </a:rPr>
              <a:t>a</a:t>
            </a:r>
            <a:r>
              <a:rPr b="1" i="1" lang="sk-SK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úpolů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400" spc="-1" strike="noStrike">
                <a:solidFill>
                  <a:srgbClr val="ffffcc"/>
                </a:solidFill>
                <a:latin typeface="Times New Roman"/>
              </a:rPr>
              <a:t>S</a:t>
            </a:r>
            <a:r>
              <a:rPr b="1" i="1" lang="sk-SK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mostatné úpolové systémy. Vzájemně se odlišují znaky, jako vlastní název, vývoj, prostředky, organizace</a:t>
            </a:r>
            <a:r>
              <a:rPr b="1" i="1" lang="sk-SK" sz="2400" spc="-1" strike="noStrike">
                <a:solidFill>
                  <a:srgbClr val="ffffcc"/>
                </a:solidFill>
                <a:latin typeface="Times New Roman"/>
              </a:rPr>
              <a:t>, ..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Rozdělení (podle zaměření)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Soutěžné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Sebeobranné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K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omplexně rozvíjející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6T02:01:25Z</dcterms:created>
  <dc:creator>Home</dc:creator>
  <dc:description/>
  <dc:language>en-US</dc:language>
  <cp:lastModifiedBy>user</cp:lastModifiedBy>
  <dcterms:modified xsi:type="dcterms:W3CDTF">2006-03-07T11:15:46Z</dcterms:modified>
  <cp:revision>4</cp:revision>
  <dc:subject/>
  <dc:title>Systematika (taxonomie) úpolů</dc:title>
</cp:coreProperties>
</file>