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21CB-F15A-47D8-BCEA-B62831F8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1F42-3FEE-4EB0-85BA-35333781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6674-4899-47D7-9EB2-9C2815F4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535C-5978-438B-BEDF-2294B238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B528-3EF6-4C89-B84A-6F11BF42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1B5C-10C0-4059-BD34-F6E9DC2B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DE9C-CB37-4B18-92CC-811E7AAA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A08E-BB89-460A-A6F7-4F648A7D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AF47-C2B3-4256-A153-027BC202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C8C8-34FC-4B7A-AAE7-36F7DD98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E26C-4211-4C9E-B600-87A838C4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F49C-D9CC-4937-BE41-22B41D70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F7AF-8450-4D9E-BD7C-B4D0CD99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A64A-290A-4198-95FF-1532C939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64DA-A4A6-4077-9EC9-6F27E279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2AA9-AFA3-485E-A0A1-28D925C5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7A84-26C8-4FC3-B9C3-232B7F20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DC1E-DEFF-478A-A165-7D434518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6D56-F73F-49C5-9F42-62658736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7560-03C6-4960-B7F0-C0D7BE1B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5D13-96AE-46AD-8987-6572063F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A2E8-B225-4B3F-99E5-7154BD8A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8804-99CA-4707-A324-F48F67BE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6EEC-7854-429E-9137-069D457E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AAA2-F69C-4328-AD33-425F3B648D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CB08-AC03-45CB-AF29-935A19463E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cc66"/>
                </a:solidFill>
                <a:latin typeface="Times New Roman"/>
              </a:rPr>
              <a:t>Úpolové sporty na světových hrách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Formy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ální souboj dvou soupeřů s využití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hodů, držení apod. v boji v postoji i na zemi (džůdó, zápas, sumó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(box, karate (kumite), taekwond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a hodů, držení atd. (wušu (sanšou), džúdžucu (fighting systém)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se zbraněmi (š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inový souboj dvou družstev (přetahování lan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y technik úpolového sportu se zbraněmi nebo beze zbra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dividuální (karate (kata), wušu (taolu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kupinové (aikidó, karate, wušu, džúdžu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ůvod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989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pské (přetahování lanem, še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americké (box, záp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ij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ponské (aikidó, džúdó, džúdžucu, karate, sum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rejské (taekwo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nské (wuš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Světové hry – předsíň 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ždé 4 roky, rok po OH (2005, Duisbur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uje Mezinárodní sdružení světových her (International World Games Association, IWG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patronátem Mezinárodního olympijského výboru 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oučasnosti 32 spor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é sporty v programu W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ikid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žu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ikid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7800" y="1546200"/>
            <a:ext cx="6046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žúdžuc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906480"/>
            <a:ext cx="39402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28920" y="1523880"/>
            <a:ext cx="36558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521000"/>
            <a:ext cx="694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7913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ercentuální podíl úpolových sportů na olympijských a světových hrách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077320" cy="297180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1981080"/>
                <a:gridCol w="14479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rt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 to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polový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dí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etní) Olympijsk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větov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42:32Z</dcterms:created>
  <dc:creator>Home</dc:creator>
  <dc:description/>
  <dc:language>en-US</dc:language>
  <cp:lastModifiedBy>HOME</cp:lastModifiedBy>
  <dcterms:modified xsi:type="dcterms:W3CDTF">2006-03-12T09:26:20Z</dcterms:modified>
  <cp:revision>4</cp:revision>
  <dc:subject/>
  <dc:title>Úpolové sporty na světových hrách</dc:title>
</cp:coreProperties>
</file>