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114-4F1B-41F3-A4EB-6C4A0CAF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7A9-F8AB-4C54-AE36-7625C5E6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AB9-A7AF-4776-935E-18CA0394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9F24-CD97-4199-A061-90C5F987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3A9E-CF3F-4E20-8B3F-1C0B3243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9646-1D47-439C-A696-852F30AE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18C9-EE34-4042-A1F1-A8288625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521D-6300-48D6-AFD0-D2119735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2F21-C185-4756-8752-9707CBE6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87D2-9643-47B5-93D8-A8755C13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4F05-9254-4C91-9170-7DAF9A16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B6F-A79F-4F12-80E1-C39CFB61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B612-618F-4257-8388-1C83A679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712A-21CC-4101-9DBC-4BB1F2F4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84F8-78FA-4ECE-B6EC-E21A8822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73E8-4CE9-4BF7-AD9F-62986743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6747-ED20-487C-B292-A3F659C5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9CC9-1448-4F09-A539-7FF3E45A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68A-9DEC-440D-A961-4DB0C9F5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D546-6934-478E-AD2F-841859F4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AF6B-3A25-41E9-8D44-771385FC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9D7-877B-446D-89EF-7970A61E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26C8-1C57-4B94-994D-F9560A50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6A56-7D43-4512-9F49-F9B6990E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3E85-CF3B-4BA5-A36C-58F6C34DA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8D6C-FB2E-44C9-8F2F-03CC75D74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I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3-12T11:48:31Z</dcterms:modified>
  <cp:revision>10</cp:revision>
  <dc:subject/>
  <dc:title>Úpoly v osnovách školní TV</dc:title>
</cp:coreProperties>
</file>