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C31-6B04-49B8-B405-AF6119FF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2C0-C765-478A-AF1E-EF4DFE22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586-60E8-4E87-9B4E-65463D01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86A-F057-4903-A505-8C4658BA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52D0-F3C4-4F6E-87CF-4919C3E9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32C9-82EE-4772-B4F7-BFB5B9DD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E1CA-4716-4EB9-A4E7-E58160C1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F296-6471-4DA5-900E-1BBDDC3B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889C-59F5-4299-A24B-CD020FC6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12F5-662E-4763-835D-816AAC89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EC26-2E01-4458-BC0E-4803D41B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40F-A79F-410A-B93B-46BF5419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DA14-FC29-4F1E-B7F9-5C3DE43F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F17A-43D2-4486-84C7-C5C7D0D1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B493-6811-44A8-A2FA-B147007E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5068-2E87-4A02-8B98-DC0E521E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297D-AEED-4ADB-9101-81C2466A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7D8-859C-434A-AF0E-879DDBFC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68A-5A50-4CAD-8D50-D4204818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A82-9BC5-47FB-94FA-7CA8811C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CE0-99BB-4B32-9C8C-C937F349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1DF-F96D-404E-9E2A-FF0B90C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EB8-B7A8-4923-9739-A0684844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A84-0EE9-46DF-AC15-6F32B3A8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3BD7-6DE2-4DFF-A668-37C7AEFF9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BF7E-704D-4105-A5BE-DDAD7CE8C4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i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a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user</cp:lastModifiedBy>
  <dcterms:modified xsi:type="dcterms:W3CDTF">2006-02-26T04:57:23Z</dcterms:modified>
  <cp:revision>3</cp:revision>
  <dc:subject/>
  <dc:title>Determinanty didaktiky úpolů</dc:title>
</cp:coreProperties>
</file>