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8D4-9A50-49F2-8CA9-E73A8980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09CB-6010-45E9-81A1-BB015768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3E9C-6516-4EE8-9693-E9B0C069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8423-C8CA-4641-8A69-20FFE48C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975A-9AAE-443B-AE68-2FFDB223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3897-A0AC-48DF-8262-06047090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D4B8-351B-484D-99CC-1F0B65D6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2B0C-07B3-48F7-8D46-CA5356B1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35D6-F697-4AD8-B6AA-A7B43DC1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00A7-04EC-4E17-9E4C-69671435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218A-57A5-42D8-96F2-2BF8B4CB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80D7-DB9F-4DAC-9273-0FC7453D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D9D9-AFC2-4427-9088-FD8EAD08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E8C9-5E5B-4474-80F1-BABDAC09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EB4A-A9B6-4E77-907E-BD7B28FF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F8D4-7D25-4F5F-8BB7-4D1E20FF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6EAD-A226-4AF2-8B20-6592859D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D05F-8FDA-4141-B4CB-0612EDC2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012B-0059-4043-BD8B-2EBB8000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D16A-1B56-4B25-AA60-1396B8F9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E198-75BD-4222-9E81-83B8B7C4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1948-3C05-4A0E-84CA-BD723056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1599-5B42-4E7C-A5FF-E07E794A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5E8A-AA87-4923-8D97-F07BB679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CFF4-9032-4591-AA75-8D0408F6CBBB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54E0-F2DB-4389-B6F9-A0CCBEF20C0B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organizova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outěžn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činno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Reguli</cp:lastModifiedBy>
  <dcterms:modified xsi:type="dcterms:W3CDTF">2006-03-07T13:39:17Z</dcterms:modified>
  <cp:revision>11</cp:revision>
  <dc:subject/>
  <dc:title>Systematika úpolov</dc:title>
</cp:coreProperties>
</file>