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9661-5186-41E4-B37E-6D0696527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42DA-9FC5-4726-84A4-2C3579EE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6212-25D8-420F-8907-9BA9DA0F9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B15F-865B-44FA-81BD-6811B7B7C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C596-8A50-44DC-A6C8-FE586EF8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2801-5E92-45D8-BB1A-B473D889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6FBD-32FC-4AB7-9431-8D8EA143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D0C9-4ECA-48F1-8517-EF4493DA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8B66-B5AF-4E43-9EFD-624BBCB1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04F3-193B-426D-9B4D-EE4D0838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3E37-EDB9-49EE-8AE8-FF7D416B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1D9D-300D-47CE-AACB-623F776E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5929-EA02-4E19-B11A-EB980351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3000-7DD9-4F8D-B615-F022C106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EC53-867C-461D-B127-DF2E2EE3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824F-F562-4545-B0F9-B63D9D58E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EDD1-FC15-4CCD-BDE6-718A97A84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B74A-E783-4057-8BA0-CAA05BF4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828D-A77F-40EE-879F-50B79D39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F034-ED51-4A36-827D-722B47D3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45AF-3D31-4DA8-8F4A-61DC14AC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07F3-BB2C-4156-BE28-C67F77DD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BB1A-C5B4-401E-9393-9AA4D0AB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A691-1BE2-4A05-9AE0-D75878BB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8838-5FB4-4AD0-93ED-D1B426FB0243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50DD-09C9-4254-89EF-D164BC014FE0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Rozvoj úpolových pohybových dovednost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časového omezení (cvičení se končí splněním úpolového úkol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ovým omezením (cvičení se končí po uplynutí určeného čas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prostorového omezení (cvičenci využívají všechen dostup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ovým omezením (cvičenci mohou využívat jen omeze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y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omezení prostředků (cvičenec může použít na splnění úkolu jakýkoliv pohybový prostředek v souladu s druhem cvičen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omezením prostředků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Způsoby rozvoje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Nácvik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Výkon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Nácvik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učení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 pohybovým dovednostem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určení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Výkon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rojev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hybov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h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dovednost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í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portov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podle soutěžního nebo jiného (např. zkušebního) řádu (i verbálně formulovaného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beobrann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ve skutečné krizové situaci, vyžadující konat v mezích nutné obrany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rozdělení úkol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rozeznáváme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viče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rozdělením úkolů (na obránce a útočníka, jeden z cvičenců je po dobu jednoho cvičení vždy jen obráncem nebo jen útočníkem, jejich pohybové (úpolové) úkoly se liš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rozdělení úkolů (cvičenci jsou současně obránci i útočníky, úkoly zúčastněných jsou zpravidla stejné)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počtu účastník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(mohou mít rozdílné nebo stejné úkoly) rozdělujeme cvičení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dvojic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kupin (za skupinu považujeme již triádu a každý další větší celek)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aždý proti každému – každý člen skupiny bojuje proti všem ostatním sám za seb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upina proti skupině – cvičenci bojují společně, rozdělení ve skupinách, členové každé skupiny navzájem kooperují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jednotlivec proti skupině – cvičenec bojuje proti skupině jako celku, nebo postupně proti jednotlivcům ze skupin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63634"/>
                </a:solidFill>
                <a:latin typeface="Times New Roman"/>
              </a:rPr>
              <a:t>Podle </a:t>
            </a:r>
            <a:r>
              <a:rPr b="1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ásti těla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jako cvičení: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až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oho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trup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hlavy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binované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řad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řad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a nářadí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či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čin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náčiním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21:10:25Z</dcterms:created>
  <dc:creator>Home</dc:creator>
  <dc:description/>
  <dc:language>en-US</dc:language>
  <cp:lastModifiedBy>HOME</cp:lastModifiedBy>
  <dcterms:modified xsi:type="dcterms:W3CDTF">2006-03-08T08:12:34Z</dcterms:modified>
  <cp:revision>7</cp:revision>
  <dc:subject/>
  <dc:title>Rozvoj pohybových dovedností</dc:title>
</cp:coreProperties>
</file>