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EA7-A360-4FF4-8C8C-7641FB74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3B5-998A-4605-B901-B9228386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56E-ED21-4236-B6FB-D07058E0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A80-373C-49E6-9539-CD88E388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6091-64CB-4C7D-BF33-9DA65538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C523-D4AF-48A0-A282-64F00E86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018E-AAC8-463E-BCC6-D4A89A75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9797-5E5D-463E-BE1F-B822BE03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BA9A-73C7-45B1-B26B-EB4CCEDC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05D2-C985-4D4B-B586-FDFF7A45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1F56-8ECE-4E21-823F-D85A9C87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0E3-B8BB-4337-AAF2-1B0B8AEC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CB1E-AE7F-46B3-9F1E-DD535BDD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6354-BFA7-4DE4-A297-31263C99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4FE2-DAC3-4BB3-A862-54E2251D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F33F-093E-4E41-944B-10975314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5A80-9183-491C-8810-E1497240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996-BC24-4A99-96CF-7215C7E6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862-2490-456E-945F-C0A2A109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F69-41E5-4D03-A745-815E7195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B35-EA60-4A22-BAB1-09073836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1DE-442B-4CCA-8C19-6B2C995F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65B-9C99-4769-97AF-AF8AE62C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A16-E22C-4CF8-8A0D-F1778186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165E-7005-4FAD-89A6-A6898F1EE3B1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55C8-193E-47EB-8EF2-105A5E63D0CB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s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čs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HOME</cp:lastModifiedBy>
  <dcterms:modified xsi:type="dcterms:W3CDTF">2006-03-08T06:55:19Z</dcterms:modified>
  <cp:revision>3</cp:revision>
  <dc:subject/>
  <dc:title>Bojová umění</dc:title>
</cp:coreProperties>
</file>