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CE5C-DA84-4E44-B776-851D3B57E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9BF2-380F-4E8D-B313-E82A0DB20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FCDC-7A6C-4C32-A089-C0C71E2E5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E58A-FC7E-4932-959B-68C4E6EBE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B55AC-AA77-4768-B9AA-9F7BFBCD7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974F6-A951-4113-AE96-F4508429D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11269-8E4B-4BE5-A6E8-FF98CF40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CBB21-0CF8-4D95-BEA7-EDC54A8F2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045D5-2D04-4B15-A69F-AC5ACFADB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32960-3757-43A5-B5FF-37BC2D3CB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46303-33A8-4DF9-A8DA-F4F6A9CC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08A6-60EE-4752-ACAC-ABF187DC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0A7A6-4A00-4A93-83F7-C3FC0763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8B34B-9054-4206-BBA1-EFB819A5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E45FF-94FD-4A30-92A8-82178BC24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E40B7-70B7-4161-A9C4-C33BA743B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18974-652E-4E5B-8CDD-BE62A304D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2AE9-6B39-4A84-B2BF-DDDB7BEE4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1B53-D2DF-42AB-942A-3CC315C37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E6BC-78EF-47A5-AA38-37CC41D09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AC5F-221F-441D-8462-90F5C0071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E326-B7E0-47A9-A29F-F54DA890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3EAC-054D-4A0C-9F52-08EA1F90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51D0-DBCC-4ABC-8E8D-9EEE0FF1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F7016-95FF-4554-8F72-AB97FCEEC3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3B7A2-373D-4FF3-ACE0-590A9425A8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1426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300" spc="-1" strike="noStrike">
                <a:solidFill>
                  <a:srgbClr val="ffff00"/>
                </a:solidFill>
                <a:latin typeface="Times New Roman"/>
              </a:rPr>
              <a:t>Úpolové sporty v Olympijském hnutí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</a:rPr>
              <a:t>Uznané IOC, ale nezařazené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Karate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World Karate Federation, WKF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řetahování lanem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Tug of War International Federation, TWI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umó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International Sumó Federation, IS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Wušu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International Wushu Federatio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, IWF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Kara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81280" y="1285920"/>
            <a:ext cx="531180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Přetahování lan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95480" y="1365120"/>
            <a:ext cx="6861240" cy="48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Sumó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55640" y="1131840"/>
            <a:ext cx="770400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Wušu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187280" y="1168560"/>
            <a:ext cx="676944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</a:rPr>
              <a:t>Paralympijské úpolové spor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Šerm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 vozíčkářů 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1960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Džúdó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 pro zrakově postižené 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1988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lympijské hnutí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zinárodní olympijský výbor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IO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zační výbory olympijských 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árodní olympijsk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ýb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zinárodní feder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árodní organiz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lu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otn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í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rtovc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</a:rPr>
              <a:t>V programu O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Šerm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1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896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Zápas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1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896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Box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1904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Džúdó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1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964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Taekwondo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2000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Úpolové sporty na novodobých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ympijských hrách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915840"/>
          <a:ext cx="7521840" cy="594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15840"/>
                    <a:ext cx="7521840" cy="594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Šer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280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Záp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8200" y="1227240"/>
            <a:ext cx="792144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Bo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92360" y="1251000"/>
            <a:ext cx="561636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Bo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28560" y="1243080"/>
            <a:ext cx="790416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Džúdó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87400" y="1231920"/>
            <a:ext cx="714060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2:27:32Z</dcterms:created>
  <dc:creator>Home</dc:creator>
  <dc:description/>
  <dc:language>en-US</dc:language>
  <cp:lastModifiedBy>HOME</cp:lastModifiedBy>
  <dcterms:modified xsi:type="dcterms:W3CDTF">2006-03-12T09:24:25Z</dcterms:modified>
  <cp:revision>7</cp:revision>
  <dc:subject/>
  <dc:title>Úpolové sporty uznané IOC</dc:title>
</cp:coreProperties>
</file>