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0D1D-F700-431C-AE8A-594DB998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857B-EFA8-4D78-8212-306F78A5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1D73-58D6-4848-87F9-7E57C096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694-8329-42DE-90F2-A0F862E9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5C0D-42B1-4F30-BA4A-A9EDFDA6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3800-A12F-4735-91EA-7C552839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0D50-C639-457F-94B2-DEDD1816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81C3-3E64-482F-8DF6-ECE3067D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EF10-E8E8-4886-A97B-01076D72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56AC-9F8C-458D-A97A-5A323BF5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58FA-BF59-4D20-99A9-2281AD3D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423-3E1B-4BA1-B9AA-68EB66A4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19D2-8E71-4B2F-A374-63825584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6127-410A-483C-A28D-59C1158E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7ADE-BFA8-4FAE-A5B6-88F7F13B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8200-16CE-4D6E-80D8-0551C10A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183E-FCEB-4A9C-84A4-E4733BC9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9E92-C523-4FC1-88E9-D7373DDA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CCAE-40C9-4DB5-A669-C36C7BFA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2C8-8993-496F-BC5C-7C95C617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436D-8058-450C-A6C1-60ECC4A0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7EC7-9345-4754-8781-8F47A57A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CE2-2B27-4799-8A04-1DFE3E05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772-1A44-474B-96C2-DA459879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AC6F-AD73-4FB6-866D-FF384E0165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064C-2DE5-4E46-86BB-04E9950375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údó, džú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HOME</cp:lastModifiedBy>
  <dcterms:modified xsi:type="dcterms:W3CDTF">2006-03-12T09:26:20Z</dcterms:modified>
  <cp:revision>4</cp:revision>
  <dc:subject/>
  <dc:title>Úpolové sporty na světových hrách</dc:title>
</cp:coreProperties>
</file>