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5F05C-8B41-4E7F-BF3B-9DE4819D7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EF654-C91B-4BA4-AD9E-99CF7A93F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A33EE-BD95-4554-BEB9-5624BE134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9B7DA-EE6F-4FB4-A97A-B06BAB6B7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D00E7-8F68-472C-8EEE-BDCB512E1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EBBDC-D830-40F3-8A51-06AF75855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6DE57-DEB8-4370-8E75-9E8A50AD6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D0C5A-A250-4314-BAA9-026EE5908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1D5FE-70D2-430E-9DC6-8DBCDD6D2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23E41-111B-424B-BF01-34D89440E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6DA43-D975-4C8D-9D51-514B3F208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BA0FB-DF1B-48D7-BA99-68E5EE5F8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068F7-E3CE-4FB5-B56B-CD26AD19A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490E5-B9D6-4D65-8E9E-FBF590652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307DE-19F8-4257-80ED-F0E041440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1D283-0DF7-4A1C-ABB7-29E70E814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3308C-C3A4-4151-9AF8-82765ED15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4CA8B-9091-447A-84CD-532035C91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3645C-A7DB-4C46-83A0-A0CD4D2EF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B4822-2BBA-4777-8856-9AC8104CC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EA4B0-69D9-492D-A184-4E1B28D8E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AEFA9-C09B-4D6E-8EF3-9D49F7B4C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FC1F1-BBCF-4466-BFA2-2871A1F25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40877-9CC8-481C-BA8F-D1A88D9A6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839080" cy="6858000"/>
            <a:chOff x="0" y="0"/>
            <a:chExt cx="883908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5105160" cy="4876560"/>
              <a:chOff x="0" y="0"/>
              <a:chExt cx="5105160" cy="487656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5105160" cy="487656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18320" y="420120"/>
                <a:ext cx="4268160" cy="40356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837000" y="840600"/>
                <a:ext cx="3431160" cy="319464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1255320" y="1261080"/>
                <a:ext cx="2594520" cy="23544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590120" y="1597680"/>
                <a:ext cx="1924560" cy="16812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3200400" y="3200400"/>
              <a:ext cx="3886200" cy="3657600"/>
              <a:chOff x="3200400" y="3200400"/>
              <a:chExt cx="3886200" cy="3657600"/>
            </a:xfrm>
          </p:grpSpPr>
          <p:sp>
            <p:nvSpPr>
              <p:cNvPr id="8" name=""/>
              <p:cNvSpPr/>
              <p:nvPr/>
            </p:nvSpPr>
            <p:spPr>
              <a:xfrm>
                <a:off x="3200400" y="3200400"/>
                <a:ext cx="3886200" cy="36576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518640" y="3515400"/>
                <a:ext cx="3249000" cy="30268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3837240" y="3830760"/>
                <a:ext cx="2611800" cy="239616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155840" y="4146120"/>
                <a:ext cx="1974960" cy="1765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4410720" y="4398480"/>
                <a:ext cx="1464840" cy="12610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4495680" y="152280"/>
              <a:ext cx="4343400" cy="4114800"/>
              <a:chOff x="4495680" y="152280"/>
              <a:chExt cx="4343400" cy="4114800"/>
            </a:xfrm>
          </p:grpSpPr>
          <p:sp>
            <p:nvSpPr>
              <p:cNvPr id="14" name=""/>
              <p:cNvSpPr/>
              <p:nvPr/>
            </p:nvSpPr>
            <p:spPr>
              <a:xfrm>
                <a:off x="4495680" y="152280"/>
                <a:ext cx="4343400" cy="4114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4851360" y="506880"/>
                <a:ext cx="3630960" cy="340524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207760" y="861480"/>
                <a:ext cx="2918880" cy="26956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563440" y="1216080"/>
                <a:ext cx="2207160" cy="19864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5848560" y="1500120"/>
                <a:ext cx="1637280" cy="14184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66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9CA61-43F3-4C1C-97B9-B695D37A53AD}" type="slidenum">
              <a:rPr b="1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-360" y="0"/>
            <a:ext cx="9144360" cy="6858000"/>
            <a:chOff x="-360" y="0"/>
            <a:chExt cx="9144360" cy="6858000"/>
          </a:xfrm>
        </p:grpSpPr>
        <p:grpSp>
          <p:nvGrpSpPr>
            <p:cNvPr id="61" name=""/>
            <p:cNvGrpSpPr/>
            <p:nvPr/>
          </p:nvGrpSpPr>
          <p:grpSpPr>
            <a:xfrm>
              <a:off x="0" y="0"/>
              <a:ext cx="8839080" cy="6858000"/>
              <a:chOff x="0" y="0"/>
              <a:chExt cx="8839080" cy="6858000"/>
            </a:xfrm>
          </p:grpSpPr>
          <p:grpSp>
            <p:nvGrpSpPr>
              <p:cNvPr id="62" name=""/>
              <p:cNvGrpSpPr/>
              <p:nvPr/>
            </p:nvGrpSpPr>
            <p:grpSpPr>
              <a:xfrm>
                <a:off x="0" y="0"/>
                <a:ext cx="5105160" cy="4876560"/>
                <a:chOff x="0" y="0"/>
                <a:chExt cx="5105160" cy="4876560"/>
              </a:xfrm>
            </p:grpSpPr>
            <p:sp>
              <p:nvSpPr>
                <p:cNvPr id="63" name=""/>
                <p:cNvSpPr/>
                <p:nvPr/>
              </p:nvSpPr>
              <p:spPr>
                <a:xfrm>
                  <a:off x="0" y="0"/>
                  <a:ext cx="5105160" cy="487656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418320" y="420120"/>
                  <a:ext cx="4268160" cy="40356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837000" y="840600"/>
                  <a:ext cx="3431160" cy="319464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"/>
                <p:cNvSpPr/>
                <p:nvPr/>
              </p:nvSpPr>
              <p:spPr>
                <a:xfrm>
                  <a:off x="1255320" y="1261080"/>
                  <a:ext cx="2594520" cy="23544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"/>
                <p:cNvSpPr/>
                <p:nvPr/>
              </p:nvSpPr>
              <p:spPr>
                <a:xfrm>
                  <a:off x="1590120" y="1597680"/>
                  <a:ext cx="1924560" cy="16812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" name=""/>
              <p:cNvGrpSpPr/>
              <p:nvPr/>
            </p:nvGrpSpPr>
            <p:grpSpPr>
              <a:xfrm>
                <a:off x="3200400" y="3200400"/>
                <a:ext cx="3886200" cy="3657600"/>
                <a:chOff x="3200400" y="3200400"/>
                <a:chExt cx="3886200" cy="3657600"/>
              </a:xfrm>
            </p:grpSpPr>
            <p:sp>
              <p:nvSpPr>
                <p:cNvPr id="69" name=""/>
                <p:cNvSpPr/>
                <p:nvPr/>
              </p:nvSpPr>
              <p:spPr>
                <a:xfrm>
                  <a:off x="3200400" y="3200400"/>
                  <a:ext cx="3886200" cy="36576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>
                  <a:off x="3518640" y="3515400"/>
                  <a:ext cx="3249000" cy="30268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3837240" y="3830760"/>
                  <a:ext cx="2611800" cy="239616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4155840" y="4146120"/>
                  <a:ext cx="1974960" cy="1765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"/>
                <p:cNvSpPr/>
                <p:nvPr/>
              </p:nvSpPr>
              <p:spPr>
                <a:xfrm>
                  <a:off x="4410720" y="4398480"/>
                  <a:ext cx="1464840" cy="12610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" name=""/>
              <p:cNvGrpSpPr/>
              <p:nvPr/>
            </p:nvGrpSpPr>
            <p:grpSpPr>
              <a:xfrm>
                <a:off x="4495680" y="152280"/>
                <a:ext cx="4343400" cy="4114800"/>
                <a:chOff x="4495680" y="152280"/>
                <a:chExt cx="4343400" cy="4114800"/>
              </a:xfrm>
            </p:grpSpPr>
            <p:sp>
              <p:nvSpPr>
                <p:cNvPr id="75" name=""/>
                <p:cNvSpPr/>
                <p:nvPr/>
              </p:nvSpPr>
              <p:spPr>
                <a:xfrm>
                  <a:off x="4495680" y="152280"/>
                  <a:ext cx="4343400" cy="4114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>
                  <a:off x="4851360" y="506880"/>
                  <a:ext cx="3630960" cy="340524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5207760" y="861480"/>
                  <a:ext cx="2918880" cy="26956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5563440" y="1216080"/>
                  <a:ext cx="2207160" cy="19864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>
                  <a:off x="5848560" y="1500120"/>
                  <a:ext cx="1637280" cy="14184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0" name=""/>
            <p:cNvSpPr/>
            <p:nvPr/>
          </p:nvSpPr>
          <p:spPr>
            <a:xfrm flipH="1">
              <a:off x="-360" y="2438280"/>
              <a:ext cx="2514600" cy="3429000"/>
            </a:xfrm>
            <a:prstGeom prst="line">
              <a:avLst/>
            </a:prstGeom>
            <a:ln w="9360">
              <a:solidFill>
                <a:srgbClr val="00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629400" y="2209680"/>
              <a:ext cx="2514600" cy="2743200"/>
            </a:xfrm>
            <a:prstGeom prst="line">
              <a:avLst/>
            </a:prstGeom>
            <a:ln w="9360">
              <a:solidFill>
                <a:srgbClr val="00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 flipV="1">
              <a:off x="5105520" y="0"/>
              <a:ext cx="380880" cy="4952880"/>
            </a:xfrm>
            <a:prstGeom prst="line">
              <a:avLst/>
            </a:prstGeom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04B1C-F821-4ECE-8CCE-F471D5C0445A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996600"/>
              </a:buClr>
              <a:buSzPct val="110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ff"/>
                </a:solidFill>
                <a:latin typeface="Times New Roman"/>
              </a:rPr>
              <a:t>Základní úpolová technik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raty těl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Rotace kolem podélné osy těla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aeaea"/>
                </a:solidFill>
                <a:latin typeface="Times New Roman"/>
              </a:rPr>
              <a:t>Vertikální stabilita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aeaea"/>
                </a:solidFill>
                <a:latin typeface="Times New Roman"/>
              </a:rPr>
              <a:t>Provázání s pohyby nohou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aeaea"/>
                </a:solidFill>
                <a:latin typeface="Times New Roman"/>
              </a:rPr>
              <a:t>Využití – úhyby, přemístění, hody..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řemístění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</a:rPr>
              <a:t>V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e vztahu k partnerovi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-32220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k partnerovi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-32220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</a:rPr>
              <a:t>o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d partner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-32220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řed partner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-32220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za partner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-32220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</a:rPr>
              <a:t>p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římo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-32220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s obratem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ff"/>
                </a:solidFill>
                <a:latin typeface="Times New Roman"/>
              </a:rPr>
              <a:t>Přemístění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řemístění skokem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63880" indent="-26388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         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řískoky 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63880" indent="-26388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         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odskok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638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638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</a:rPr>
              <a:t>Chůze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63880" indent="-26388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řekročením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63880" indent="-26388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sunem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638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638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eaeaea"/>
                </a:solidFill>
                <a:latin typeface="Times New Roman"/>
              </a:rPr>
              <a:t>Pohyb začíná noha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63880" indent="-26388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zadní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63880" indent="-26388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řední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ff"/>
                </a:solidFill>
                <a:latin typeface="Times New Roman"/>
              </a:rPr>
              <a:t>Přemístění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inimalizování vertikálního pohybu těžiště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Neustálý kontakt s podložkou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Vertikální stabilita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Jednota pohybu těla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vázání kontaktu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Kontakt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horními končetinami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dolními končetinami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t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rupem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h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lavou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vázání kontaktu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Způsob kontaktu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dotykem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úchopem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objetím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vedání, nošení a spouštění živého břemen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těžiska obou cvičenců m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jí být co nejblíž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b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řemeno zvedáme silou z pokrčených nohou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z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áda jsou narovnaná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zachování stability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ádová technik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odle směru pádu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653760" indent="-25128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vpřed,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653760" indent="-25128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vzad,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653760" indent="-25128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stranou,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653760" indent="-25128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</a:rPr>
              <a:t>k</a:t>
            </a: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ombinované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01680" indent="-30168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odle otočení kolem příčné osi těla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653760" indent="-25128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s převratem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653760" indent="-25128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bez převratu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01680" indent="-30168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odle způsobu tlumení pádu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653760" indent="-25128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bez zaražení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653760" indent="-25128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se zaražením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ádová technik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odle letové fázy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586800" indent="-22572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bez letové fázy,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586800" indent="-22572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s letovou fázou,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270720" indent="-27072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odle úrovně ve které pád začíná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586800" indent="-22572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z postoje,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586800" indent="-22572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ze snížených poloh,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270720" indent="-27072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odle provádějícího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586800" indent="-22572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</a:rPr>
              <a:t>n</a:t>
            </a: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echtěné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586800" indent="-22572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cílené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270720" indent="-27072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odle partnera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586800" indent="-22572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neúmyslné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586800" indent="-22572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úmyslné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ff"/>
                </a:solidFill>
                <a:latin typeface="Times New Roman"/>
              </a:rPr>
              <a:t>Průpravné úpol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růpravná cvičení pro jednotlivé úpolové sporty</a:t>
            </a:r>
            <a:r>
              <a:rPr b="1" i="1" lang="sk-SK" sz="2800" spc="-1" strike="noStrike">
                <a:solidFill>
                  <a:srgbClr val="eaeaea"/>
                </a:solidFill>
                <a:latin typeface="Times New Roman"/>
              </a:rPr>
              <a:t>, sebeobranu a tělesnou výchovu a sport</a:t>
            </a:r>
            <a:r>
              <a:rPr b="1" i="1" lang="sk-SK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Rozvíjejí úpolové předpoklady pro nácvik úpolových sportů a sebeobrany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aeaea"/>
                </a:solidFill>
                <a:latin typeface="Times New Roman"/>
              </a:rPr>
              <a:t>Rozdělení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eaeaea"/>
                </a:solidFill>
                <a:latin typeface="Times New Roman"/>
              </a:rPr>
              <a:t>Základní úpolová technik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eaeaea"/>
                </a:solidFill>
                <a:latin typeface="Times New Roman"/>
              </a:rPr>
              <a:t>Základní úpol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ff"/>
                </a:solidFill>
                <a:latin typeface="Times New Roman"/>
              </a:rPr>
              <a:t>Základní úpolová technik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Courier New"/>
                <a:ea typeface="Times New Roman"/>
              </a:rPr>
              <a:t>o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       poloh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01680" indent="-30168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Courier New"/>
                <a:ea typeface="Times New Roman"/>
              </a:rPr>
              <a:t>o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       přechody (mezi polohami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01680" indent="-30168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Courier New"/>
                <a:ea typeface="Times New Roman"/>
              </a:rPr>
              <a:t>o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       pohyby paží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01680" indent="-30168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Courier New"/>
                <a:ea typeface="Times New Roman"/>
              </a:rPr>
              <a:t>o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       pohyby nohou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01680" indent="-30168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Courier New"/>
                <a:ea typeface="Times New Roman"/>
              </a:rPr>
              <a:t>o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       obraty těl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01680" indent="-30168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Courier New"/>
                <a:ea typeface="Times New Roman"/>
              </a:rPr>
              <a:t>o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       přemístění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01680" indent="-30168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Courier New"/>
                <a:ea typeface="Times New Roman"/>
              </a:rPr>
              <a:t>o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       navázání kontaktu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01680" indent="-30168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Courier New"/>
                <a:ea typeface="Times New Roman"/>
              </a:rPr>
              <a:t>o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       zvedání, nošení a spouštění živého břemene (partnera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01680" indent="-30168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Courier New"/>
                <a:ea typeface="Times New Roman"/>
              </a:rPr>
              <a:t>o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       pád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ff"/>
                </a:solidFill>
                <a:latin typeface="Times New Roman"/>
              </a:rPr>
              <a:t>Poloh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aeaea"/>
                </a:solidFill>
                <a:latin typeface="Times New Roman"/>
              </a:rPr>
              <a:t>Střeh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ravý střeh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levý střeh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aeaea"/>
                </a:solidFill>
                <a:latin typeface="Times New Roman"/>
              </a:rPr>
              <a:t>Úroveň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spodní střeh (od pásu dolů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střední střeh (v úrovni trupu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</a:rPr>
              <a:t>h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orní střeh (v úrovni krku a hlavy)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ff"/>
                </a:solidFill>
                <a:latin typeface="Times New Roman"/>
              </a:rPr>
              <a:t>Poloh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střehový postoj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střehový klek (na jednom, nebo na obou kolenech, případně ve vzporu, či podporu klečmo – vysoký a nízký parter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střehový sed (s oporou, nebo bez opory o paži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střehový leh (za zádech, na boku a na břichu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ff"/>
                </a:solidFill>
                <a:latin typeface="Times New Roman"/>
              </a:rPr>
              <a:t>Biomechanické faktory stabilit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velikost plochy opory (čím je plocha opory větší, tím je poloha stabilnější),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výška těžiště nad plochou opory (čím je těžiště níž, tím je poloha stabilnější),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velikost ůhlu stability (polohou těžiště nad plochou opory, čím ostřejší je ůhel stability, tím je poloha stabilnější)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řechod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aeaea"/>
                </a:solidFill>
                <a:latin typeface="Times New Roman"/>
              </a:rPr>
              <a:t>Z vyšší polohy do nižší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aeaea"/>
                </a:solidFill>
                <a:latin typeface="Times New Roman"/>
              </a:rPr>
              <a:t>Z nižší polohy do vyšší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hyby paží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aeaea"/>
                </a:solidFill>
                <a:latin typeface="Times New Roman"/>
              </a:rPr>
              <a:t>Základní pohybové vzorc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aeaea"/>
                </a:solidFill>
                <a:latin typeface="Times New Roman"/>
              </a:rPr>
              <a:t>Navázání kontaktu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aeaea"/>
                </a:solidFill>
                <a:latin typeface="Times New Roman"/>
              </a:rPr>
              <a:t>Všechny úder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aeaea"/>
                </a:solidFill>
                <a:latin typeface="Times New Roman"/>
              </a:rPr>
              <a:t>Provázání pohybu těla s pohybem paží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hyby nohou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aeaea"/>
                </a:solidFill>
                <a:latin typeface="Times New Roman"/>
              </a:rPr>
              <a:t>Kop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aeaea"/>
                </a:solidFill>
                <a:latin typeface="Times New Roman"/>
              </a:rPr>
              <a:t>Základní krok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1T20:54:38Z</dcterms:created>
  <dc:creator>Home</dc:creator>
  <dc:description/>
  <dc:language>en-US</dc:language>
  <cp:lastModifiedBy>user</cp:lastModifiedBy>
  <dcterms:modified xsi:type="dcterms:W3CDTF">2006-03-07T12:03:18Z</dcterms:modified>
  <cp:revision>6</cp:revision>
  <dc:subject/>
  <dc:title>Základní úpolová technika</dc:title>
</cp:coreProperties>
</file>