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2C65-198B-403F-9431-DDA2F45E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292E-4581-4A77-82EF-6EC4BBB5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F36F-BF90-4CAA-8630-E6480E2D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DD52-8294-4BDE-B2D8-C8E852A0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4BFA-5BF8-4761-95A5-8AAAF69C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6DBE-9A68-49D1-A6F2-F9B9882B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7881-4323-4EF8-8E2D-98C7CA1C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719A-D690-4341-ABF0-24FAA098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1D33-795B-467D-B599-5C8BB4C7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30B4-1010-4B26-8C02-1F68D718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E852-D3ED-47B4-AE33-32B5821F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1835-FC02-4CAF-AA16-81991BF3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1B34-8BA0-400C-942D-FF0EE4A7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49D2-81D1-4304-8EA7-23986A7E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80E1-6027-41CE-9CE4-CE22B4DB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F5CB-C970-44F4-BA4E-DE0EECEE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D4D2-619E-49AD-9ECC-600C2DC0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024C-5AD7-4C28-BC67-91B70061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5B77-01E9-4F07-914C-A80A8A15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5B39-E052-4427-A433-4E1057C6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654-B2D7-45B6-A786-7286CBD4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AAF9-8543-430B-8B22-1F9A1CA2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55FE-04B2-4183-968E-5CF16589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4D23-E96E-4C06-B478-6AB17E81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4A67-AE51-4E9C-8745-814B58AC75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5A9B-C6B3-4D57-AED3-4235B6BD15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i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a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user</cp:lastModifiedBy>
  <dcterms:modified xsi:type="dcterms:W3CDTF">2006-02-26T04:57:23Z</dcterms:modified>
  <cp:revision>3</cp:revision>
  <dc:subject/>
  <dc:title>Determinanty didaktiky úpolů</dc:title>
</cp:coreProperties>
</file>