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12A5-E18E-4F6A-958E-EE41977C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96F8-9C55-4D19-88E1-B904086B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4831-8EE3-4C4F-9B15-0205FFB0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4EB9-92DE-4F1A-B4B6-B5BDDF5B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D51D-6651-46EF-B640-3D77506F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5D6B-66D0-4936-B80F-96DE135E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FB85-0281-46B5-92FB-A40C49D1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B751-9334-4223-A666-50F48FF9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5CC4-C38F-4C95-94CD-B1269323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3737-146A-4363-9383-93E651DF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85A1-8DFB-4F17-AE05-D70B689D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A328-F2BB-4ABF-8F2C-D5EAF3F5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D7ED-1560-4AB7-9683-7C2D9BEE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DEBD-F9AE-46E4-8FC1-BF0D9A33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102B-4ACC-4E8D-BA74-FA0F9BE4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CE17-5C86-45EB-8011-E8668625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98E4-80FD-4CB0-B4D2-5CAAE4A7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C1CC-60B5-42C9-8915-5A13A15B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4F86-D7D0-477B-B0C9-FB62B128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52CE-EEE3-4AE0-8587-C3AFC93A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E07D-15BA-439D-B11B-08901939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04B-55DF-4F88-AFBB-867F5A65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4400-4C7B-434B-91B1-6F7C5B94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89F1-5E94-4476-9293-27C19E16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9521-B5C6-4923-80D0-A1A93B49B684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0EB8-A543-43BE-9094-927E07942BBC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Z historie úpolových činnost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akralizace – posvěcení násil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ové činnosti jako nedílná součást vzdělání a dobrých mrav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řeba omluvy násil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Boží vů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yšší ideá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Společenská nevyhnutnost (sebeochr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Helénské období – starověké Řec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istori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ozofov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e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anhelénské h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lympijské hr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ápas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l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18. Olympiáda, 706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x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ygm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23. Olympiáda, 68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boj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nkration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33. Olympiáda, 64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Kalokagat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Řecký ideál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jení duševní a tělesné krás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 různých městských státech byla jinak chápána (Atény...Spar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0360" y="20520"/>
            <a:ext cx="8388360" cy="522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4960" y="546588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Řecko, amfora s malbou od Andocide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25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Řím – úpadek spor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Gladiatorské zápas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rofesionalizm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eci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rut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ozvoj vojenstv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- Evrop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7 ctností (septem probitates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ízda na koni (equ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avání (na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ukostřelba (sag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ápas (caestibus), šerm (cer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v (aucupari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šach (scacis lude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ršování (versificare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– samurajové, Japons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unbu rjódó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vojí cesta – vzdělání v boji i kultuř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á výchov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7 let pá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14 let pano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21 let rytí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axe rytíř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turna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o 15. – 16. století bojový charak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Fiktivní systém inscenovaných souboj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ehistor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ové činnosti na počátku lidstv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 a získávání potrav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ochrana ro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ělesná cvičení, h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Měšťanská a lidová ku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řesťanství : Ora et labora (modli se a pracuj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lečenské vrstv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ellatores (ti, kteří válč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ratores (ti, kteří se modlí, duchovenstv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boratores (ti, kteří pracuj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é akademie (17. 18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ástup humanizmu, znovuobjevování antických i rytířských ideá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akade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antrop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Úpoly v tělovýchovných systémech (19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ěmecko – turnérské hnutí (vlastenectví+branná příprava+gymnastik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Švédsko – gymnastika vojenská, pedagogická, zdravotní, estetick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rancie – F. Amoros, tělesná výchova pro mláde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nglie – orientace na s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ostupná diferenci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a počátku – všichni všech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zději rozdělení (i  s vnitřní specializací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Lov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Bojovní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dokonalení technologií = zdokonalení bo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Elektronicé informační zdro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ron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 Chronological history of the Martial Arts and Combative Spor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ttp://ejmas.com/kro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tarověké civiliz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rcheologický výzkum dokazuje existenci řízeného nácviku úpo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0"/>
            <a:ext cx="40273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2200" y="2081160"/>
            <a:ext cx="33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31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31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Rukojeť obřadního nož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959360" cy="63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5120" y="1341360"/>
            <a:ext cx="373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um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aleziště Džafaja u Bagdád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8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ronzová soš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3120" y="53211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, Ben Has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robka prince Chetih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05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níci – mýtičtí hrdinov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řiznání magických vlastností bojovníkům – hrdinů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hové nebo jejich potom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omek boha a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lověk ve spojení s božskou sílou (předměte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2:21:27Z</dcterms:created>
  <dc:creator>Home</dc:creator>
  <dc:description/>
  <dc:language>en-US</dc:language>
  <cp:lastModifiedBy>user</cp:lastModifiedBy>
  <dcterms:modified xsi:type="dcterms:W3CDTF">2006-03-07T11:12:11Z</dcterms:modified>
  <cp:revision>7</cp:revision>
  <dc:subject/>
  <dc:title>Z historie úpolových činností</dc:title>
</cp:coreProperties>
</file>