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89F-C516-4DAF-A4BF-74A4C5CE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E28-C03D-47F4-8013-5AB8A486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E15A-BED5-44DD-A28B-E9D241C2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432-3B37-4C27-8FAC-B615C8A1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E509-4737-444A-AC89-17FF588D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57ED-5D28-4B51-A7D8-8CD4F684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52CC-42FD-4FE4-AF51-8D842F2D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23FA-C44F-4F85-A219-AAA4F229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A266-E7C6-4D95-9DD9-6C3004E1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E61A-9DA0-4F2A-B160-93922517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DED5-EFD9-47D9-8A39-485A0767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D58A-BD42-4C2B-A070-9CF1CCF3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8927-71AF-4350-BB91-510DBB45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8BEA-CF84-4EAA-A9FF-1BD54919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AB66-6667-407C-9ED2-34C9035E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BCA5-B019-4B2B-BD81-2B410038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DC23-7743-4DEC-833B-A39A02F9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5FE-55CD-4CF4-9E2C-5A479E18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FD2-7EE4-47CC-9900-E29D4984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662-936D-42DB-AC8B-5EDB7A5A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2AA-3AE8-4A9E-85DD-95592B1A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3C0-78E6-4617-A8A2-974D5D67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0F7-0446-4D86-B19E-A60647F6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72AA-6423-4171-9F78-2A3A87CD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DA1B-780C-4844-9D09-339BA5199206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1AE0-5911-455D-B416-71577B147F82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é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é sporty systém zkoušek, titulů 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 </a:t>
            </a: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é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é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Gracie džúdžucu, capoeira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ázijs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Reguli</cp:lastModifiedBy>
  <dcterms:modified xsi:type="dcterms:W3CDTF">2006-03-07T13:48:26Z</dcterms:modified>
  <cp:revision>4</cp:revision>
  <dc:subject/>
  <dc:title>Úpoloo</dc:title>
</cp:coreProperties>
</file>