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6053-B3D8-40E5-9C18-E84D7B9B8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1C88-11AA-443B-891C-429DFA072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501C-961C-4B79-AD47-168202234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97D0-857D-4A57-86F8-BF5664067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C3088-A258-408D-9EB4-EEE3D5B65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49000-136C-4F4D-BF38-CB4534CEA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1C3E6-AAA4-48E8-834B-FC9A07185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7D9EE-3B87-4936-B648-71953EFF8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5A766-A6B0-47BD-A34A-DF5CE12A9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9DF52-2D64-459C-A164-10E7B71C6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EB0E1-1EDD-4555-8610-D1EDC3C6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E097-F99D-4F75-A03A-19CD414C9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2D9B7-E938-4CD7-95B0-77383931E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CD442-67DC-4337-B930-C1548C3C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0105E-F642-4D9A-BF85-695E154B2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8090C-312D-48DA-94E2-8CF07ACBE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B8FB6-8AA2-4B83-90FA-037E52A11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27D3-DDFF-4FB6-A58A-D90448022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486A-9E4F-4061-89A4-9E2641177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BAA7-5246-492A-94A8-49BC721FE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EFC1-3745-4EFA-978C-B92C2C833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C873-F592-4C33-A5E5-95F06B6E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B4C9-6D7C-4684-8C60-770EB233D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4A45-2338-474F-93D7-4A047B0B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91F2A-54C7-40B8-A249-AE09A97338D8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D6FF4-2D8A-4B80-8B54-FC7863AF07BA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Systematika (taxonomie) úpolů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Sebeobran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vzniká aplikací úpolů </a:t>
            </a:r>
            <a:r>
              <a:rPr b="1" i="1" lang="sk-SK" sz="3200" spc="-1" strike="noStrike">
                <a:solidFill>
                  <a:srgbClr val="ffffcc"/>
                </a:solidFill>
                <a:latin typeface="Times New Roman"/>
              </a:rPr>
              <a:t>pro potřeby</a:t>
            </a:r>
            <a:r>
              <a:rPr b="1" i="1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nutné obran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cc"/>
                </a:solidFill>
                <a:latin typeface="Times New Roman"/>
              </a:rPr>
              <a:t>Rozdělení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osobní (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a </a:t>
            </a: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ebeobrana</a:t>
            </a: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 žen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rofesn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Schéma systematik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 úroveň úpolových p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ř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dpoklad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rů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ravné úpol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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 úroveň úpolových systém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Úpolové 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or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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 úroveň úpolových aplik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eb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bran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1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8</a:t>
            </a: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62 Sokolská soustav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 algn="just">
              <a:spcBef>
                <a:spcPts val="799"/>
              </a:spcBef>
              <a:buClr>
                <a:srgbClr val="ffffcc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vičení bez nářadí a bez pomoci neb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    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dporu jiných cvičenců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.    Cvičení nářaďov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I.   Cvičení se skupině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V.  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Úpol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1862 Sokolská soustav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. bez náčiní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dpory. Cílem je jenom překonávat odpor spolucviče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nce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a jeho činnost je dopředu známá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Zápas.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Ne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jen  odpor protivníkovi, ale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snaha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přemoci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ho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 Shodit ho na zem tak, aby se stal jeho další odpor nemožný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ox – rohování.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Ú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ok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y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pažemi nebo nohami, jako i odvracení těchto útok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. s náčiním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 šerm šavl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 šerm fleuretem (končířem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šerm holí: krátkou (80-100 cm), dlouhou (do výše cvičencovy brady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4. šerm bodáke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5.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šerm dýkou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Autoři zabývající se úpol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1939 - F. Smotlach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53 – J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Pavlíč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56 – V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Roubíč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57 – R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Kříž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70 – V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Roubíč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80 – V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Roubíč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84 – I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Fojtí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93 – M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Ďurec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Taxonomi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H</a:t>
            </a:r>
            <a:r>
              <a:rPr b="0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erarchické zařazení určitých prvků podle předem stanovených kriteri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stupuje se od nejjednodušších po nejsložitějš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stupuje se od vývojově starších k mladší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Sleduje i d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</a:t>
            </a: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daktické cí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Schéma systematik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 úroveň úpolových p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ř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dpoklad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rů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ravné úpol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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 úroveň úpolových systém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Úpolové 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or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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 úroveň úpolových aplik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eb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bran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Prostorové vztahy úpolů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235240" y="1447920"/>
          <a:ext cx="467352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5240" y="1447920"/>
                    <a:ext cx="467352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Průpravné úpol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růpravná cvičení pro jednotlivé úpolové sporty</a:t>
            </a:r>
            <a:r>
              <a:rPr b="1" i="1" lang="sk-SK" sz="2800" spc="-1" strike="noStrike">
                <a:solidFill>
                  <a:srgbClr val="ffffcc"/>
                </a:solidFill>
                <a:latin typeface="Times New Roman"/>
              </a:rPr>
              <a:t>, sebeobranu a tělesnou výchovu a sport</a:t>
            </a:r>
            <a:r>
              <a:rPr b="1" i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Rozvíjejí úpolové předpoklady pro nácvik úpolových sportů a sebeobran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dělení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Základní úpolová technik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Základní úpol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Úpolové sport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ffffcc"/>
                </a:solidFill>
                <a:latin typeface="Times New Roman"/>
              </a:rPr>
              <a:t>N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jvětší a rozhodující skupin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úpolů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mostatné úpolové systémy. Vzájemně se odlišují znaky, jako vlastní název, vývoj, prostředky, organizace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</a:rPr>
              <a:t>, ..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dělení (podle zaměření)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outěžn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ebeobrann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K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mplexně rozvíjející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02:01:25Z</dcterms:created>
  <dc:creator>Home</dc:creator>
  <dc:description/>
  <dc:language>en-US</dc:language>
  <cp:lastModifiedBy>Reguli</cp:lastModifiedBy>
  <dcterms:modified xsi:type="dcterms:W3CDTF">2007-03-07T10:29:29Z</dcterms:modified>
  <cp:revision>7</cp:revision>
  <dc:subject/>
  <dc:title>Systematika (taxonomie) úpolů</dc:title>
</cp:coreProperties>
</file>