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A523-A3EE-4292-B425-BCC6C1CF8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4EC8-D074-441A-A87F-8B3ABA89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573F-297A-4793-BDF2-0AAB6315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F9B8-6361-4182-A6D5-2F86D2ECD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FE0F-7AE1-4642-A34F-28928920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8CD5-C9A6-4E38-AE86-645E1C25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607B-4164-471D-B6A8-8177ED50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B2EC-0E0E-4441-AAF9-0CBD1CF9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E822-DD7D-43D3-8F71-266849D6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D82C-400C-4B01-BBEC-7B57EB23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9F92-A17F-4A48-9638-811E3FBD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E207-0E5F-409C-8FC9-F7667FEF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DF06-70D8-47C3-8C8E-BEE18E06ECE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ushido</a:t>
            </a:r>
            <a:br>
              <a:rPr sz="4000"/>
            </a:br>
            <a:r>
              <a:rPr b="1" lang="ja-JP" sz="5400" spc="-1" strike="noStrike">
                <a:solidFill>
                  <a:srgbClr val="000000"/>
                </a:solidFill>
                <a:latin typeface="AR行楷書体H"/>
                <a:ea typeface="AR行楷書体H"/>
              </a:rPr>
              <a:t>武士道</a:t>
            </a:r>
            <a:br>
              <a:rPr sz="5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r. Inaz</a:t>
            </a: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ó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Nitob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8760" y="2142720"/>
            <a:ext cx="81439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3357720" y="2143080"/>
            <a:ext cx="5786280" cy="4572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0" y="2143080"/>
            <a:ext cx="3357720" cy="4714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6286680" y="0"/>
            <a:ext cx="2714400" cy="2071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30718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BUSHIDO  </a:t>
            </a:r>
            <a:r>
              <a:rPr b="1" lang="cs-CZ" sz="2800" spc="-1" strike="noStrike">
                <a:solidFill>
                  <a:srgbClr val="000000"/>
                </a:solidFill>
                <a:latin typeface="Franklin Gothic Demi"/>
              </a:rPr>
              <a:t>The Soul of Japa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Franklin Gothic Demi"/>
              </a:rPr>
              <a:t>An Exposition of Japanese Thought by </a:t>
            </a: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INAZO NITO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-360" y="1214280"/>
            <a:ext cx="9001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LEEDS &amp; BIDDLE CO.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iladelphia, 1900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Bušido. Duše Japonsk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Josef Pelcl, Praha, 1904, přeložil Karel Ho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http://busido.szm.sk/InazoNitobe_Busido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bushido-large"/>
          <p:cNvPicPr/>
          <p:nvPr/>
        </p:nvPicPr>
        <p:blipFill>
          <a:blip r:embed="rId1"/>
          <a:stretch/>
        </p:blipFill>
        <p:spPr>
          <a:xfrm>
            <a:off x="6877080" y="3645000"/>
            <a:ext cx="2266920" cy="321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26603219"/>
          <p:cNvPicPr/>
          <p:nvPr/>
        </p:nvPicPr>
        <p:blipFill>
          <a:blip r:embed="rId2"/>
          <a:stretch/>
        </p:blipFill>
        <p:spPr>
          <a:xfrm>
            <a:off x="2627280" y="3573360"/>
            <a:ext cx="2050920" cy="3284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060316_bushido"/>
          <p:cNvPicPr/>
          <p:nvPr/>
        </p:nvPicPr>
        <p:blipFill>
          <a:blip r:embed="rId3"/>
          <a:stretch/>
        </p:blipFill>
        <p:spPr>
          <a:xfrm>
            <a:off x="4716360" y="3645000"/>
            <a:ext cx="2068560" cy="321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seven-virtues-of-bushido-calligraphy-semicursive"/>
          <p:cNvPicPr/>
          <p:nvPr/>
        </p:nvPicPr>
        <p:blipFill>
          <a:blip r:embed="rId4"/>
          <a:stretch/>
        </p:blipFill>
        <p:spPr>
          <a:xfrm>
            <a:off x="0" y="3666960"/>
            <a:ext cx="238140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03:21:34Z</dcterms:created>
  <dc:creator>Owner</dc:creator>
  <dc:description/>
  <dc:language>en-US</dc:language>
  <cp:lastModifiedBy>Your User Name</cp:lastModifiedBy>
  <dcterms:modified xsi:type="dcterms:W3CDTF">2010-02-18T08:50:28Z</dcterms:modified>
  <cp:revision>30</cp:revision>
  <dc:subject/>
  <dc:title>武士道</dc:title>
</cp:coreProperties>
</file>