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DD5-0EAF-4625-97AB-1891B94C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901-FC51-4DF8-A9F2-C1A4CC70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F32-F968-4D7F-8CA3-F17EFDFD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132-B45D-4978-887A-F63D5F07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FDE-41E1-4910-8DA0-21AD7974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72B-14E4-41A0-9AC0-604377FF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338-B05C-496B-B2BB-C9F7D32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F04-A842-450C-9DA1-185F7675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374-C0C0-480D-9BEA-4985A0D7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DFF-7EE4-41B3-AAAD-ACFB60B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CB3-E6AD-4A50-A329-0724C0DE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215-B65F-481C-9D36-5E7754D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F42C-45BA-4E5F-B54C-14B6D5658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AVOTNÍ TĚLESNÁ VÝCHOVA – bp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023z, bp02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ZATÍŽE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CVIČEBNÍ JEDNOTCE / VYUČOVACÍ H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základní křivky zatížen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edno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rchol je v rozvíjející části) – pro oslabení hyb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vou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2 vrcholy v rozvíjející části) – pro astma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 vyrovnaným zatížením v rozvíjející čá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írně kolísající zatížení intervalového charakteru)  - pro jedince s nadváhou, obezitou a pro kardi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čební jednotky / vyučovac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řizpůsob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hu zdravotního osla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kému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ému rozvoji cvičenců/žáků a jejich předcházející pohybové prů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ční zdatnosti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jmu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mínky předmětu pro závěrečnou zkouš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ednášky – 75% úč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vování 3 dílčích testů ( znalost svalů a jejich funkce, diagnostika PA, vyrovnávací cvičení) – každý test min. 60% úspěšnost odpově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házka na semináře KC, ZTV, metodický výstup,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álková, J. 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y. 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1. 120 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yslová, V 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. I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3. 106 s. ISBN 80-86586-03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áček, M., Máčková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yziologie tělesných cvič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: MU, FSpS a PdF, 2002.112 s. ISBN 80-210-160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ter, Michael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ečink : 311 protahovacích cviků pro 41 sport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1. vyd. Praha : Grada Publishing, 1999. 228 s. ISBN 80-7169-7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I., Aláčová, P. G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šetřování svalového aparátu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6. ISBN 80-85783-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 I., Miklánková,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ahování a posilování pro zdraví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5. ISBN 80-85783-47-9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osnovy (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 pro fotbalis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Marta Bursová - Jaromír Votík - Jiří Zalabák. První vyd. Praha : Olympia, 2003. 95 s. ISBN 80-7033-793-1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Exercise in rehabilitation medic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Walter R. Frontera - David M. Slovik - David Michael Dawson. 2nd ed. Champaign : Human Kinetics, 2006. ix, 454 s. ISBN 0-7360-5541-X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ránková, Lenka - Fiala, Jindřich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, dopopručení-návo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 : Ústav preventivního lékařství, lékařská fakulta Masarykovy univerzity, 2002. 14 s.</a:t>
            </a:r>
            <a:br>
              <a:rPr sz="1400"/>
            </a:br>
            <a:br>
              <a:rPr sz="800"/>
            </a:b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Z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otní tělesná výchova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je specifická forma tělesné výchovy (TV) určená pro zdravotně oslabené jedince, tedy jedince zařazené do III. zdravot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kupiny dle zdravotnické klasifikace. Je určena všem věkovým skupin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DRAVOTNÍ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měřeně vyvinutí s vysokým stupn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ovanosti, připraveni k plnému tělesnému zatíž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V a sport neomezeně, kvalifikovaný učitel, tren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méně trénovaní (totéž jako I. sk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zdravotně oslab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rvalé nebo dočas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tělesného vývoje, tělesné stavby a zdravot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u) – mají určitá ome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probovaný učitel TV – zk. Ze ZTV /cvičitel Z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í jedi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LTV (pouze fyzioterape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zdravotního oslab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ybný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spirač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ovaskulár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abolické a endokrinologické por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strointestinál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ynekologick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vová a neuropsych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ys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rší vě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ÍLE A ÚKOLY ZT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í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TV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m způsob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stranit nebo zmírnit zdravotní oslabení a posílit orga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kytnout zdravotně oslabenému možnost sportovního vyžití ve vztahu k jeho schopnostem a 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it předpoklady pro všestranný harmonický vývoj zdravotně oslabeného jed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stř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volň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olnit klouby a svalové kontra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tah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bnovit fyziologickou délku sval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il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výšit zdatnost oslabených svalů a svalových skupin) – dynamické/st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ch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é/dynamické, druhy de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elaxač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polohy, podmínky, dru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ytrvalost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výběr, měření, Zottova tabu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vnováž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á/dynamická/balancov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é – ZG, RG, plavání a jiné sp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IČEBNÍ JEDNOTKA / VYUČOVACÍ H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i trvání 45 min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1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)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yrovnáv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5 – 2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kondiční/rozvíjející (10 – 15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ávěreč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7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00:42Z</dcterms:created>
  <dc:creator>koprivova</dc:creator>
  <dc:description/>
  <dc:language>en-US</dc:language>
  <cp:lastModifiedBy>koprivova</cp:lastModifiedBy>
  <dcterms:modified xsi:type="dcterms:W3CDTF">2010-12-20T14:33:06Z</dcterms:modified>
  <cp:revision>3</cp:revision>
  <dc:subject/>
  <dc:title>ZDRAVOTNÍ TĚLESNÁ VÝCHOVA – bp023</dc:title>
</cp:coreProperties>
</file>