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2F5-35B1-4F6E-AA98-47B118C6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843-A6DA-4E01-9738-3DD60268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98A-4B5B-44D1-B0F8-90BBA4CE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FE7-CA70-4380-B568-D18F4FEA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B31-A001-440F-B01C-38102C72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578-65F6-43B9-9AFA-8FCC651C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F40-66DA-46B8-875C-5351411A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894-FBE6-4A1F-9CC5-D61C46EC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8D3-7770-4D0E-926D-4A3616C9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24E-DB1B-4EE5-BAA1-78932BE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EC7-5AA0-4FEF-BF10-62B9561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3C8-B490-4DBF-9363-2381ECF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0B47-8D0B-4A0A-8895-BA39B70CA7A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dýchac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z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OB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ekážka v proudění vzduchu, zúžení dýchacích cest) -  Astma bronchiale, záněty dýchací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při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RESTRIK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ění se pohyblivost plic a hrudníku, dochází k omezení dýchací plochy) – deformity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echová gymnasti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tatické a dynamické dechové cvi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ekce 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lava, hrudník,knoflíková ram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prava sval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vnováhy (HZ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19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 a tělesná zátě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nzivní těl.zátěž v nevhodném prostředí -častý faktor vyvolávající pozátěž. bronchospasmus (70 – 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hodná a pravidelná 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zlepšuje dýchací a oběhový systém, zlepšuje funkci Po Ap, příznivě působí na psych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ka (!alergeny ve formě py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ízda na kole (! alergeny a dobu trvání při 75% HF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á zátěž ( tenis, volejbal, basktetb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CÍL: zlepšit adaptaci organismu na fyzickou zátě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ma bronch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onické zánětlivé onemocnění dýchacích cest, je charakterizováno záchvaty výdechové dušnosti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onchospasmem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olané generalizovanou obstrukcí dýchacích cest různého stupně a trvání, která je částečně nebo úplně reverzibilní buď spontánně nebo po léčebném zá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pouštěc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nebo suchý vz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hové podněty, dráždivé látky v ovzduší, aler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měrná tělesná zátě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ekce dýchacích c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iologie a příčiny vzniku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Atopická dispozice - vroze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ergická reakce zprostředkovaná imunoglobulinem E (IgE) – imunitní pořecitliv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takt s alergen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ch, pyl, roztoči, plísně, srst zvířat, potrav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Nerovnováha ve vegetativním nervovém systém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výšená aktivita parasympatiku –nervus vagus; blokád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ů sympat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 – stanovení diagnó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mn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kální vyšetření – poslech, držení 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výdechové ry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vyšetření – Spiroergometrie, Spirometrie (VO2 max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dilatační testy (měření výdech.rychlosti před a po podání látky rozšiřující průduš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provokační testy – ve vztahu k pracovnímu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v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T, deformity hrudníku, snížená vitální kapacita plic, snížená výko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ční poruchy (funkce dých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imunit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e sféře psychické a 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unolog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r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ýšená činnost IS na některé látky zevního prostředí 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munologická hyperreaktiv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Projevuje se jako rýma, průduškové astma, atopický ekzém, potravinová al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u dětí je v 80-90% alerg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 – nejvyšší výskyt AB (není průmysl znečišťující ovzduší, ale převažuje zemědělství – chov ov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topické, aler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B (spojeno často s atopickým ekzémem) – má genetický z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endogen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– citlivost na bakteriální antigeny v dýchacích cest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zátěžové ast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EIA-exercise induced asthma)- 4-10min. na zač., nebo do 20-40-min po intenzivní zátěži (chladný a suchý vzd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hladové as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spirinové (AIA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eakce na kyselinu acetylsalicilov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tíže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mitentní – ojedinělé záchvaty, 1-2x /měsíc/noční, PEF nad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perzistující – max. 1x denně, více než 2x noc/měsíc, PEF na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 těžké perzistující – každodenní, noční častěji než 1x týdně, PE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é perzistující astma – kontinuální příznaky s omezením životních aktivit, PEF pod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éčba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 - na základě momentálního stavu nemocného (klidový stav, období záchvatu, pozáchvatový st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matoterapie (speleoterapie, pobyt na horách, u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eňs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ací 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15:09Z</dcterms:created>
  <dc:creator>kopřivovi</dc:creator>
  <dc:description/>
  <dc:language>en-US</dc:language>
  <cp:lastModifiedBy>koprivova</cp:lastModifiedBy>
  <dcterms:modified xsi:type="dcterms:W3CDTF">2010-12-20T15:28:18Z</dcterms:modified>
  <cp:revision>19</cp:revision>
  <dc:subject/>
  <dc:title>Oslabení dýchacího systému</dc:title>
</cp:coreProperties>
</file>