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22B-2597-44CB-A20F-958EBF4A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91C-1E58-419A-AB0F-AA18F895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AA3-D242-421B-856C-284AF5D7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583-7679-459B-A00E-1F100AF8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038-BA08-4646-9492-1EFC2B0F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AC1-30BB-4DB1-BB04-98E7F141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E2EF-91A3-4453-9122-09BDB4A5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D9E-BF2C-4824-A001-B23EB19E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C6E-40B9-4B6C-9520-E06C3F73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90B-05CF-498B-9216-F55BFF20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9830-6FCF-467D-9AF5-B0D88B09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415-FAED-4211-887B-1293E893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DC6D-CDA1-49AA-BEDD-C5D353C59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vilizační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růst za posledních 10 let o 4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R – prudký nárůst DM I. typu u dětí do 9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 stárnoucí populace (DM II. Typ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k, nevhodné stravovací návyky – velký příjem tuků, malá fyzická aktivita, obezita, nezdravý životní sty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TV proce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Je nutné znát zdravotní stav nemocnéh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da je v inzulínovém režimu, nebo pouze užívá perorální antidiabetika – PAD. Pokud je aplikován inzulín je nutné znát kam, zda se vyskytuje orgánová kompl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át symptomatologii všech akutních stavů DM a umět je správně vyřeš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ZTV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nezařazovat diabetiky dekompenzovan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zejména s ketoacidózou či častou hyperglykém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řesahovat možnosti cvičenců, sledovat TF (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60-70% max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erobní a silová cvičení prokládat relaxacemi, PA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4x týdně v délce cca 4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vičební jednotku přizpůsobovat věku diabetiků, jejich typu DM a úrovni fyzické zdat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á je spolupráce s diabetologem zejména u dětí a seni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výraznější polyneuropatii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nezatěžovat staticky chodid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átěži se vyhýbat poloze v leže na břiše a všem cvikům, při kterých dochází ke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zvýšení tlaku za oč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betes Mellitus –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560" y="1599840"/>
            <a:ext cx="67611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abolické onemocn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orucha metabolismu sacharidů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konalé hospodaření s glukózou je řízeno souhrou několika horm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Inzuli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hormon produková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buňkami slinivky břišní – má 2 funk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ává pokyn k ukládání glukózy do zásob v játrech (glyko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emyká buňky v těle, aby mohla do nich glukóza vstoup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M I.typu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/ při nedostatku inzulinu (10% z celkového počtu diabetiků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důsledkem autoimunit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estrukce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ß buněk ostrůvků slinivky břišní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které neprodukují žádný inzulin, tento hormon v těle zcela chybí!!! – je nutno dodat inz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častěji postihuje děti, dospívající a mladé jedince do 35 let - nebývá spojen s obezitou (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juvenilní D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činy vzniku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50% genetika, 50% zev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zna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nadměrná žízeň, nadměrné močení, hubnutí a únava, přechodné poruchy zrakové ostrosti, dech páchnoucí po acet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aboratorní vyšetření – hyperglykémie (vyšší než 11,1 mmol/l, glykosurie (cukr v moči), ketolátky v krvi i v moč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typ diabetu se sklonem ke ketoacidó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M II.typ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/ při snížené účinnosti inzulí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kyt převážně u dospělých a stárnoucí pop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kombinace genetických predispozic a zevních faktorů (snižuje se fyzická aktivita a zvyšuje se příjem ži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rizikovějším faktorem je OBEZ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znaky: málokdy subjektivní potíže, je prokázán až při screeningu (ketoacidóza, přítomnost již komplika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Hyperglykémi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(glykémie vyšší než 11,1 mmol/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glykémii nižší než 17 mmol/l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Léčba inzulinem + pohy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glykémii nad 17 mmol/l se nedoporučuje sportovat – možnost vzniku diabetické ketoacidó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yperglykemické koma – při nedostatku inzulínu – ihned podat inzulín a zavolat léka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glyké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orma: 3,5 – 5,5 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atologický pokles glykémie pod 3,3 mmol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či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podání velkého množství inzulínu, nebo nadměrné zátěže, nebo nedostatkem jíd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roje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malátnost, únava, vyčerpanost, dezorientace, poc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ypoglykemický záchvat– při vědomí podat cukr do úst (mezi tvář a zuby), při ztrátě vědomí ihned zavolat lékařskou pom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omplikace způsobené diabetem /hyperglykémi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iže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ledvi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nefro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iže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retinop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erv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neuro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emocně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oho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no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znam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hodně zvolená PA vede k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většení svalové hmo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a je zásobárnou glykogenu. Z něj se může v případě poklesu glykémie uvolnit glukóza, proto dochází k menším výkyvům glykémie během dne a při cvič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 je významným prostředkem př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dukci nadvá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ejména u DM 2. typu. Navíc soustavný sportovní trénink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vyšuje citlivost buněk na inzulí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vičit po jí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ejlépe 2 hod. po podání inzulínu,  mít u sebe vždy nějakou formu cuk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ržovat pitný rež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opakovaných potížích v souvislosti s pohybem vždy konzultovat s lékařem případné upravení dávek inzulí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léčbě inzulínem kontrolovat glykémii před i po cvičení a zejména tehdy, je-li PA prováděna po dlouhé době, déle než hodinu a nebo s nezvyklou intenzit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5:50:55Z</dcterms:created>
  <dc:creator>koprivova</dc:creator>
  <dc:description/>
  <dc:language>en-US</dc:language>
  <cp:lastModifiedBy>koprivova</cp:lastModifiedBy>
  <dcterms:modified xsi:type="dcterms:W3CDTF">2010-12-21T12:29:21Z</dcterms:modified>
  <cp:revision>20</cp:revision>
  <dc:subject/>
  <dc:title>Diabetes Mellitus </dc:title>
</cp:coreProperties>
</file>