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FEA0-83C1-4C3B-AB58-21861005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E6D0-5809-4127-B688-470C9667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D106-0827-4103-9657-721BE36E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2113-AEC4-4D17-9BDF-21B167A5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FC9B-E57C-40C4-B2BA-1D25ABAE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3AA6-6736-40BB-8C4A-193F3385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9BB3-BF34-48E3-9B80-28CDFD86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C813-1B70-45C6-8AC2-1AA79A4D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A175-C282-457D-815C-D50A5C8D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0F98-CB64-443F-B9E3-90CDF6B3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4AC7-0DE8-444D-8672-9293012D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81C8-B2B1-4B06-9772-12A31E7F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D856-A66C-4B0D-AA12-96577A900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labení gynekologick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ožděný vývoj děloh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pravidelné menstruační cyk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olestivá menstru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azivové bole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ně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kloněná dělo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plod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kles dělo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rucha udržení moči (inkontin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ádorová onemocně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án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něty vnějších a vnitřních rodi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kutn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áněty – vždy řádně vyléčit (nedoporučuje se sport a pohy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lodnost (neprůchodnost vejcovodů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ronick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áněty – vhodná jsou lehká kondiční cvičení a cvičení na prokrvení a uvolnění pánevní 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kloněná dělo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říči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VDT, ochablost svalů – břišní, hýžďové a pánevní dno, zácpa, zadržování moči, může být i vroze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ůsledk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bolesti v kříži, pokles pánevních orgánů, obtížnost otěhotně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hodná cvičen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obrácené polohy – pánví vzhů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plod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říči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tické (hormonální poruchy, malá děloha, neprůchodnost vejcovod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horoby, záněty, srůsty (např. po operaci apendix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sych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hodná cvičen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Mojžíšová (vyrovnávací cvičení na úpravu funkce sval. systému + manipulace kostrč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kles dělo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říčiny vzni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vrdé dopady a doskoky, prudké zvýšení nitrobřišního tlaku, zvedání těžkých břemen, chronická zácpa, porod (ihned po porodu těžká práce a posilování břišních svalů!!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hodné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ou polohy jako „svíčka“, podpor klečmo na předl. , vtahování svalů pánevního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nkontinence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porucha udržení moč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echodného i trvalého ráz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říči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vzniku:vrozené i získané (chorobami, infekcemi, záněty), pokles dělohy a orgán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tresová inkontinenc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smích, kašel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3 stupně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 kašli, smíc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 rychlém pohybu (běh), zvedání bř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 chůzi, při změně polohy (sed-stoj, leh-sto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nkontinence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porucha udržení moč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hodné chování – nejdříve lékařské vyšetření ( případný operativní zákr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prazdňování před pohyb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lování svalů pánevního dna ( ve stoji, v sedu na židl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ická poho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ádorová onemocně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ence – včasné odhalení, léč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dravý životní sty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bnova psychické a fyzické rovnová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ZTV dle závažnosti onemocně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teratur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damírová, J.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ynegymnastik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 Praha:Jan Vašut, 199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ánevní skl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svalová rovnováh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tahova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valy v L obl. – m. erector trunci, m. quadratus lumb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lexory kyčle- m.rectus  femoris, m. iliopso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dduktory kyčelního klou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silov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řišní svalst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ýžďové svalst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valy pánevního d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neprovádějí pohyb v kloubu, rozprostírají se plošně – od stydké kosti až po kostrč – probíhají podél, napříč i kruhovitě – svěrače (kolem ústí močové trubice, konečníku) -pracují společn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valy pánevního dna (SPD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ásady posilován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- leh na zádech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ědomé stahování SP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ržet stažené několik sec. (cca 10 se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olnit na dvojnásobnou dobu (20 se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om v polohách sedu (náklon vpřed a vz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ádět denně 1 – 2 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ěhotenství (fyziologický sta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Vhodná P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u nerizikového těhotenství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pro těhotné a plavání pro těhotné (fitb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DT – poloha pán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na posílení svalové rovnová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na udržení dobrého stavu plosky no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vhodná cvičen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švihy, dopady, prudké pohyby, visy, zádrže dechu, opatrně v době obvyklé menstruace a ve 3 a 6. měsí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Šestinedělí / fyziologický sta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kud je porod bez komplikací – cvičit ihned druhý den – poloha na břiše –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osílení pánevního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zavinování děloh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lohovat s dítětem na tě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tvorby mléka (pohyby ramen a posilování prsních sval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výšení krevního oběhu (polohování D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silování břišních svalů, cvičení na S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limakterium/přec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rozený proces – po 40.roce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orucha= předčasné nebo opožděné klimakteriu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mě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nížená produkce ženských pohlavních hormonů – menopauza - ztráta plod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rucha rovnováhy funkce štítné žlázy, nadledvinek a nervového systému („návaly“, bolesti hlavy, nespav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sychická labilita – přecitlivě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steoporóz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obd. Postklimakte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limakterium/přec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hodn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 – vytrvalostního charakter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vičení zaměřené na SDT, udržovat svalovou rovnováhu, posilovat pánevní 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vhodn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vičení : rychlá změna poloh, cvičení s hlavou dolů, prudké dop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požděný pohlavní vývoj – bolestivá menstru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rucha v období přechodu dítěte v ž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hodná cvičení : uvolnění a prokrvení svalů v oblasti pánevního dna (cvičení na fitballe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olestivá menstruac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 chorobný reflex – psychického původu) – vhodná cvičení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 uvolnění oblasti břicha – dýchací cvičení (poloha „klubíčka“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zivové bole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skytují se v podbřišku v období menstru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hodná cvičen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řišní dých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lnění kyčl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ažení svalů v oblastí kyčl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6:18:59Z</dcterms:created>
  <dc:creator>Kopřivová</dc:creator>
  <dc:description/>
  <dc:language>en-US</dc:language>
  <cp:lastModifiedBy>koprivova</cp:lastModifiedBy>
  <dcterms:modified xsi:type="dcterms:W3CDTF">2010-12-21T12:35:03Z</dcterms:modified>
  <cp:revision>9</cp:revision>
  <dc:subject/>
  <dc:title>Oslabení gynekologická</dc:title>
</cp:coreProperties>
</file>