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DB7-31DC-497B-AA9E-04345A18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231-6B85-4F22-B3F1-0368978A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B92-A00F-4D98-A3E1-E15F60E0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A8F-3B7C-405B-839F-BD1E361D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676-CFD6-4691-957E-258B6C72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D3B-598C-4E07-B9F1-EAD0DCE0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441-24DA-46A1-989D-8FF27440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051-4C95-4EAA-884D-261F9CA9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70E-4D82-4534-96C4-C01DD9C6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A6F-B9C1-490E-BB89-C104DDEC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C60-EB1D-4257-9A17-B3B168CD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3EE-3B6A-4C16-B067-A9BDA257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2322-263A-4028-B1BF-6B74C43DC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kardiovaskulárn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kace a kontraindikace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Žiln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emocněn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arix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riziko vzniku žilního uzávěru, ucpání plicní cévy – embo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Zásady pro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horizontální poloze – imitace chůze, jízdy na 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ndážování 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prava životosprávy, ne statické polohy, nenosit břemena s velkou hmot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cévního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íž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st a poruchy citlivosti konče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vné a tepelné změny k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ýživy tkáně (bércové vředy, gangré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F max = 220 – vě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otonik – 70/min (palpace na radiální tep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gotonik  -   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mpatikotonik – 80/min (zrychlená H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rtovec – 40-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ální TK                120/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ý TK          nad 150/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ý TK           pod 100/60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srdeční funk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p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W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cévních funk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hové, podvazové, tepelné a chladové zkou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 testem 30 min. klid, potom v sedě Hf1 (10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řepů (45s)- ihned poté H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ne si a po 1 min opět HF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výkonnosti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f1+Hf2+Hf3 -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ně než 0       výbo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5                     dob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1-10                průměr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1-15              slab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1 – více        nedostatečn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ka stupínku: 50cm/M, 40cm/Ž, 20-30cm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tupovat rychlostí 30x/1min po dobu 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ukončení sed a měří se Hf (30s)vždy v první polovině druhé (T1), třetí (T2) a čtvrté (T3) min. zot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oba vystupování v s. x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1+T2+T3) 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 55        velmi slab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-64          slabý prům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-79          průmě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0 a více     velmi zda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časového průběh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 aku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ron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e charakteru →  funkční (lze uprav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cká (mož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hrožení živo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urocirkulační ste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/slabost(nervozita, dušnost, nespavost nekoncentrovatelnost) lze ji medikamentozně a vhodným pohybem upr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Hyperkinetický syndr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rychlení HF (tachykardie) vhodnost PA (AE charak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gulační poruchy krevního obě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v klidu, emo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 vzestup systolického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ká poško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CH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nedostatečné prokrvení srdeční svaloviny s nedostatečným přívodem kys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infarkt myokar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ronická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ngina pect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činy: snížení cévního průsvitu (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TS (tepny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ateromatózní pláty – LDL chol., tromb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srdečních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est na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uchy rytmu – bradykardie (zpoma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tachykardie (zrych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š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ky (edémy) - DK (při selhávání P 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Plicní otok ( při selhávání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š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šší než 150/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/80 – zdraví jedinc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ár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95% - jsou neznámého pův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kundární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onemocnění ledvin, srdce, žláz s vnitřní sekrecí, nervové cho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z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bi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x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dia 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víc změny na srdc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většení L komory), na ledvinách (bílkovina v moči), na očním pozadí (zúžení cé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uze 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víc orgánová poškoze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rdce (levostranné selhá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mozku (krvácení, měknu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čního pozadí (krvácení do sítn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tenze = hlavní rizikový faktor IC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sady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PA je vhodná jen pro I a II. stádium 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E, cyklický charakter – intervalová zátě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tenz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60-80% HFmax, 3-5x týdně 30 min.,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e výsledků zátěžového test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yby DK a HK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zlepšení cirkulace k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rola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bez st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roby periferních cé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epen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závěrová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(náhlý uzávěr vmetkem, embo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hronická (pomalu vznikající následkem ATS, diabetu, tox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éčba: - farm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osilování svalstva a zlepšování bočního oběhu – jen u prvních 2 stádií, ostatní L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7:01:41Z</dcterms:created>
  <dc:creator>kopřivovi</dc:creator>
  <dc:description/>
  <dc:language>en-US</dc:language>
  <cp:lastModifiedBy>koprivova</cp:lastModifiedBy>
  <dcterms:modified xsi:type="dcterms:W3CDTF">2010-12-20T15:32:53Z</dcterms:modified>
  <cp:revision>7</cp:revision>
  <dc:subject/>
  <dc:title>Oslabení kardiovaskulárního systému</dc:title>
</cp:coreProperties>
</file>