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1AB0-CCBF-4342-A1D8-EDEDFF974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929C-F76A-4E99-8109-C61EDB147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022F-342A-4DA7-902F-20C0D96E2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4DCD-FB1A-48E8-9984-604EFB55A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2C7F-6B19-480A-9BD6-8B0F43D7A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6789-9FAE-4439-96C2-D9CD7299D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4C1E-D769-4180-B945-3EEAEBACE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77FC-CC3C-4E78-8EBF-C726F3DCD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9E78-DDA1-4978-B283-2F77279E9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5DD6-C440-450D-8CBB-A6A4DA348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637B-7EBE-4BE7-A6EB-E6388A37B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A783-4F6A-4FD8-B4A1-7F22549E7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7D7F6-5CCD-4FEB-9CA6-9E5762E731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ěková období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ejich zvláštnosti a patogeneze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2421000"/>
            <a:ext cx="785988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TOGENEZE – vývoj jedince od narození do smr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ů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kvantitativní změny – končí dospělos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ýv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 – kvalitativní změny – neustává, je po celý živ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edškolní věk (3-6 le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dobí pomalého a klidného růs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končení vývoje hrubé motoriky – udržování rovnová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zvoj jemné motori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čátky abstraktního myšl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jvhodnější období (zejm. 4. rok života) pro tvorbu motorických spoj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ynamická činnost, tvořivá dětská h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ohybová potřeb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)normomotorické dítě (60 % aktivní pohy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)hypermotorické dítě (80 % aktivní pohy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) hypomotorické dítě (40 % aktivní pohy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PUBESC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Mladší školní vě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(6-8) – vytáhlost a poté plno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* postupný rozvoj percepčně motorického uč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* větší výkonnost svalst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* nerovnoměrnost v růstu kostí a svalst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* začínají vady držení těla, sv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ysbalancí, obez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PUBESC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Mladší školní vě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 (8-11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cepčně motorická činnost dokonalejš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ynamičtější pohyb. vývo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ůst pohyb. vytrvalosti, rychlosti, pře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třeba 1 hod. denně intenzivní 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vhodná specializ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šestrannost, rozvoj koordinačních s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BESCENCE (11-1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ormonální změny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častý výskyt VDT, vady páteře (Morbus Scheuermann – H, skoliozy – 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ruchy neurovegetativní regu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ardiovaskulární poru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ezita, mentální anorex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OLESCENCE (15-1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pomalení růs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hyby koordinovan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rchol fyzické výkonnosti, rychlejší růst trénovanosti, roste svalová sí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traktní myšlen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ětší výskyt onemocnění dýchacích cest, kožní problémy,infekční onemocně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řeba sportu – touha po seberealiza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SPĚLO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končení růstu, osifikace kostí (18 – 2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bývání tělesné hmot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xuální dozrá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ětší fyziologická zdatnost –tělesná obratnost, smyslová bystrost, pohotovost, nejkratší doba reakce – vrchol zdraví a sí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30. roku evoluce, po 30. roce invol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ůležitost pohybu pro udržování funkcí jednotlivých systém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ÁŘ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ÁŘÍ je výsledkem stárnu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 to označení pozdních fází ontogene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 důsledkem a projevem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enetick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dmíněných involučních procesů modifikovaných dalšími faktory (choroby, životní způsob, životní podmínk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nější f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trava, přiměřená aktivita, tělesné cvičen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 výslednicí vzájemného působ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enetických faktor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životního prostřed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životního sty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ÁŘ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Biologické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změny v organismu (Po Ap, Nerv a smysl. funkce, kardiovaskulár. sy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Sociální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– důchod (změna ŽS), posproduktivní věk, fáze závisl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Kalendářní (chronologický)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– dříve 60.vě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yní 65 – 74 mladí senioř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75 – 84 staří senioř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85 a více  velmi stař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d  90 let - dlouhověk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s stárnut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číná od samotného poče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kles funkcí(atrofie)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◄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po dosažení sexuální dospěl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ayflick (1997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 to fatální nutnost – nikomu se nemůž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hn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 to normální pro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atoulek, Vilikus (200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Příznivý vliv pohyb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ýšení podílu aktivní tělesné hmoty k tukové hmot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ýšení funkční kapacity kardiov.systé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lepšení některých metabol.parametr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nížení glykém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nížení celkového cholesterolu – zvýšení HDL-cholestero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ýšení pevnosti kos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dukce tzv. endorfinů v mozk. tkáni    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►zlepšení pohody /well-be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tapy vývoje podle klasifikace WH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ládí                                  do 30 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ralost                              31 – 45 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řední věk                       46 – 60 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ší věk                          61 – 75 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áří                                  76 – 90 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lmi vysoký věk               nad 91 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ýběr vhodné P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 třeba respektovat všechny změny vyvolané stárnutí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iologické (úbytek sv.hmoty zejm. D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ruchy zdraví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choroby ve stáří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                (degener.onem.PA, osteoporóza, slabost zraku, sluchu, hypertenze, diabetes…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nezdatnost organismu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poruč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 zátěž denně min.30 min. středn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ntenzity, respektovat zájmy senior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uži po 50 – ideální kombinace   ANAE      (posilování sv. trupu) a AE (50-60% max) zátěž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trvalostní a cyklická čin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avotní tělesná cvič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 aktivity v přírod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togenetický vývo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MLÁD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mbryonální vývoj (prenatální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ovorozenecké období (porod – 28.den) - postnatáln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jenecké obd. (do 1 rok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atole (do konce 3.rok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edškolní věk (3 – 6 l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epubescence (ml. a stř. šk.věk-6-8, 8-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ubescence (11-1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dolescence (15-1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bryonální vývo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vní 2 měsíce: vývoj jednotl.orgánů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genetická výb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itlivost na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škodlivin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zevního prostředí působící prostřednictvím matky (choroby, kouření, drogy, špatná životospráva, alkoholismus…)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►vznik morfologických vad – patrné po porod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!! pozitivní vliv pohyb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od 3. měsíce: obd. fetální (plodové) – jsou vytvořeny základy všech orgánů – vznik růstových a vývojových retardací (postižení mozk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torické projevy prenatálního vývoje C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vní spontánní pohyby – ke konci 6. embr.týd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vní reflexní odpovědi – u 7 týdenního embrya – odklon hla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otorické funk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. měsíc – sval.kontrakce, reakce na taktilní podně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3. měsíc – pohyby DK a HK, úst a hlavič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6.-7. měsíc – reakce na taktilní, akustické, vizuální a chuťové podně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nec 8. měsíce- jsou již založeny všechny svaly – rozvoj geneticky daných motorických vzorců – reflexní posturální motor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vorozenecké období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rod – 28. d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o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nedostatek kyslíku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►příčinou rozvíjející se choroby (DM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rfologického, funkčního poškození (LM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*působení velkých mechanických sil na hlavičku (DM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*předčasné porody (DMO, smyslové vady, poruchy psychik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* nepodmíněné reflex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OJENEC- postnatální vývo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konce 1. rok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dmíněné reflex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ychlý rozvoj motoriky (zejména lokomo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edání hlavičky (2. měs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ase koníčky (3. – 6. měs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stabilní sed (6. měs.)- infantilní kyfó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eze, staví se u nábytku, stabilní sed (9.m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amostatná chůze (12.m, nejzazší norma -18.m,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ntrola vývoje kyčelních kloubů (luxa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ývoj tvaru páteř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 3. měs. -  krční lordó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 6. měs. -  hrudní kyfó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 1 roku  -   bederní lordó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TOLE (do konce 3. roku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ákladní lokomoce – chůze, koncem období i bě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zvoj jemné motoriky (ruka, prs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jení fyzické a psychické slož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ra-spontánní pohyb. aktiv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strost pohyb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mezovat statickou čin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ktivní pohyb.činnost – 75 % doby bdě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4T19:13:55Z</dcterms:created>
  <dc:creator>kopřivovi</dc:creator>
  <dc:description/>
  <dc:language>en-US</dc:language>
  <cp:lastModifiedBy>koprivova</cp:lastModifiedBy>
  <dcterms:modified xsi:type="dcterms:W3CDTF">2010-12-21T13:05:04Z</dcterms:modified>
  <cp:revision>9</cp:revision>
  <dc:subject/>
  <dc:title>      Věková období jejich zvláštnosti a patogeneze    </dc:title>
</cp:coreProperties>
</file>