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F5E-9759-404A-BEC5-9C35EF45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AAD-9FBF-42A3-91D2-3B6BEDA9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6A7-993F-491A-AD2A-A01C11EF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125-83B9-4F74-B4FC-08B56261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56E-1998-4235-B48A-A6D177BB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AF03-D662-4159-98CE-3A4A7035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193-886D-416D-99D4-D42205E9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B51-0F1F-48DA-8F29-FA5617B3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6ED-430D-4A1A-A62A-C27D32D8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0F7-589B-4612-B23D-B0ED1678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A95-DEA1-43A0-8AF3-DF16E6FA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1C3-2696-4237-9E76-BE3BE9B6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DA3B-0E4D-458E-98DD-9BAAE912B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psychická oslab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chvato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rebrovaskulární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nětli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uchy funkční (neuróz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chvatová onem. CN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ojevem mozkové dysfunkce z nadměrné vzrušivosti nervov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vlivem poškození mozku v útlém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horečky, záněty, zranění mo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dědičnost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oby záchva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rand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bezvědomí,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etit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krátkodobá absence vědomí, bez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agnóza na základě EEG vyše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éčb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držovat režim-pravidelný rytmus bdění-sp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iminovat provokační momenty (blikavé světlo, silné emoční prožitky, hyperhydra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. pomo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!  uložit na vhodné místo, kontrola uložení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vičen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náročná PA, pozor na PA ve vodě a ve velkých výškách, ne dlouhodobá rela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erebrovaskulár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škození mozku podmíněné mozkovým infarktem trombotického nebo embolického původu, nebo krvácením do moz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činy:ATS, vysoký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sledek: porucha řeči, hemipar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vičení: střídat svalové napětí a uvolnění,procvičovat zápěstí, prsty- jemná motorika, obnovit narušené pohybové stereotypy (chů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lzheimerov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horoba (postupná ztráta paměti, dem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kamentózní léč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 – rozvoj kognitivních a paměťových funkcí, soběstačnost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nětlivá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akutní fázi vyžadují k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 až v rámci rekonvalescence – konsultace s lékař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MO a L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M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opožděný vývoj všech funkcí – zejména poruchy hy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otonus, hypertonus (spas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é kineziologické vyšetření z hlediska psychomotorického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habilitační techniky (reflexoterapie, Vojta, Bob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M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ADHD) – projevy v moto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eraktivita nebo hypoa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ulsivita, agres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chy pozornosti a koncen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 – PM, cvičení a hry na rozvoj koordinace, pestrost, mo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sych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uróz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neurastenie, psychastenie, hyste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iv stresových situací a neadekvátní reakce na danou situaci (nespav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pozitivní naladění, komunikace, relaxační, protahovací cvičení, PM, cvičení při hud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04:19Z</dcterms:created>
  <dc:creator>kopřivovi</dc:creator>
  <dc:description/>
  <dc:language>en-US</dc:language>
  <cp:lastModifiedBy>koprivova</cp:lastModifiedBy>
  <dcterms:modified xsi:type="dcterms:W3CDTF">2010-12-21T12:52:15Z</dcterms:modified>
  <cp:revision>6</cp:revision>
  <dc:subject/>
  <dc:title>Neuropsychická oslabení</dc:title>
</cp:coreProperties>
</file>