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19D4-FB4D-4E87-9A2E-8D973062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FB9-09F4-44E7-8B8A-3F32DD02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BA7-2346-4C0E-913B-3C80B4F9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9AA0-7A2D-4FDC-8B27-A3860E45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3265-5D79-4F3E-9125-8702760E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A3F4-7A7B-4D62-9D1C-3F3BC7CD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8435-BE40-4841-8980-5A760E78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D5B8-9AD7-4347-842A-94E96FAE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32EC-E659-4838-A61E-D6C895D9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0F9E-48F5-4866-8BD3-209587DB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C4DA-94FB-43A1-8566-6B071F90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3F60-8A45-4B4E-9233-C6CD7A55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A200-8E26-41DC-97DF-2DA5C5A4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3B83-FD2E-45F7-B320-F6473334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D7C9-66A9-4207-B769-7FA50118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B5A2-A6D9-4EE6-96DD-5EED9AD1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F675-A0DA-4B12-B11D-5015E61E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437D-A820-4532-AA1D-DC5C5B46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D782-76A4-4262-A02D-D4434829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667-17B3-451F-A0C3-FF32D80E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8C04-DA49-4EE2-B14F-0F5899CF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975-55FE-4E95-818D-0F456049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0056-0422-420E-99FA-6F9295EA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ECE-8A90-4BD0-B19A-203B13B7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730A-7D4B-45F2-9C80-DB962C5B1E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A4BE-C597-49B3-B74F-759E032EF5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sps.muni.cz/impact/atletika-3/" TargetMode="External"/><Relationship Id="rId2" Type="http://schemas.openxmlformats.org/officeDocument/2006/relationships/hyperlink" Target="http://www.fsps.muni.cz/impact/atletika-2/" TargetMode="External"/><Relationship Id="rId3" Type="http://schemas.openxmlformats.org/officeDocument/2006/relationships/hyperlink" Target="http://www.fsps.muni.cz/impact/didaktika-atletiky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 a metodických výstup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42440" y="3645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É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979640" y="549360"/>
            <a:ext cx="5238720" cy="512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šeobecné             Výběr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979640" y="0"/>
            <a:ext cx="5238720" cy="507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íle – výchovné, vzdělá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979640" y="1125360"/>
            <a:ext cx="5238720" cy="503280"/>
          </a:xfrm>
          <a:prstGeom prst="rect">
            <a:avLst/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ástečné                   Etap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187280" y="1628640"/>
            <a:ext cx="186696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1332000" y="2060640"/>
            <a:ext cx="1533600" cy="1224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BSAH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diční příp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chn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ak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ore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1332000" y="3429000"/>
            <a:ext cx="1533600" cy="2016000"/>
          </a:xfrm>
          <a:custGeom>
            <a:avLst/>
            <a:gdLst>
              <a:gd name="textAreaLeft" fmla="*/ 74880 w 1533600"/>
              <a:gd name="textAreaRight" fmla="*/ 1458720 w 1533600"/>
              <a:gd name="textAreaTop" fmla="*/ 74880 h 2016000"/>
              <a:gd name="textAreaBottom" fmla="*/ 1941120 h 2016000"/>
            </a:gdLst>
            <a:ahLst/>
            <a:rect l="textAreaLeft" t="textAreaTop" r="textAreaRight" b="textAreaBottom"/>
            <a:pathLst>
              <a:path w="21600" h="28393">
                <a:moveTo>
                  <a:pt x="3600" y="0"/>
                </a:moveTo>
                <a:arcTo wR="3600" hR="3600" stAng="16200000" swAng="-5400000"/>
                <a:lnTo>
                  <a:pt x="0" y="24793"/>
                </a:lnTo>
                <a:arcTo wR="3600" hR="3600" stAng="10800000" swAng="-5400000"/>
                <a:lnTo>
                  <a:pt x="18000" y="283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STŘED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éninkové (cvičení-vlastní, soutěžní, speciální, všeobecn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generace sil, výživa, pitný rež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roly trénova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1332000" y="5514840"/>
            <a:ext cx="1533600" cy="134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ODMÍN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Materiální, ekonomické, sociální, právní, pracov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3635280" y="1628640"/>
            <a:ext cx="393408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0"/>
          <p:cNvSpPr/>
          <p:nvPr/>
        </p:nvSpPr>
        <p:spPr>
          <a:xfrm>
            <a:off x="1403280" y="1700280"/>
            <a:ext cx="140040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ál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3995640" y="1700280"/>
            <a:ext cx="252432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Operativ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3708360" y="2060640"/>
            <a:ext cx="3816360" cy="100800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INCIPY: (zásad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ystematičnosti, posloupnosti, cykličnosti, individualizace, specifičnosti, názornosti, přiměře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porcionality:  - Všestranné a specifické příprav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faktorů, určujících sportovní výk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>
            <a:off x="3708360" y="3141720"/>
            <a:ext cx="3816360" cy="151128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TOD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pohybovým schopnost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Nepřerušovaného zatížení: souvislá, rovnoměrná, střída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Přerušovaného zatížení:opakovaná, interval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Osvojování a zdokonalovaní dovedností (slovní, ukázkové, ideomotorické, praktické cvičení- opakování komplexní, analyticko-syntetick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Jiné (vedlejší úlohy, kontrastu, diagnostické metody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3708360" y="4724280"/>
            <a:ext cx="1655640" cy="213372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133720"/>
              <a:gd name="textAreaBottom" fmla="*/ 2053080 h 2133720"/>
            </a:gdLst>
            <a:ahLst/>
            <a:rect l="textAreaLeft" t="textAreaTop" r="textAreaRight" b="textAreaBottom"/>
            <a:pathLst>
              <a:path w="21600" h="27836">
                <a:moveTo>
                  <a:pt x="3600" y="0"/>
                </a:moveTo>
                <a:arcTo wR="3600" hR="3600" stAng="16200000" swAng="-5400000"/>
                <a:lnTo>
                  <a:pt x="0" y="24236"/>
                </a:lnTo>
                <a:arcTo wR="3600" hR="3600" stAng="10800000" swAng="-5400000"/>
                <a:lnTo>
                  <a:pt x="18000" y="27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FOR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ciálně- interakční (hromadná, skupinová, individuá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Tréninková jednotka (základní – v čase soustředění kontro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utěžní-závody, zápasy, doplň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>
            <a:off x="5435640" y="4724280"/>
            <a:ext cx="2089080" cy="213372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2133720"/>
              <a:gd name="textAreaBottom" fmla="*/ 2031840 h 2133720"/>
            </a:gdLst>
            <a:ahLst/>
            <a:rect l="textAreaLeft" t="textAreaTop" r="textAreaRight" b="textAreaBottom"/>
            <a:pathLst>
              <a:path w="21600" h="22061">
                <a:moveTo>
                  <a:pt x="3600" y="0"/>
                </a:moveTo>
                <a:arcTo wR="3600" hR="3600" stAng="16200000" swAng="-5400000"/>
                <a:lnTo>
                  <a:pt x="0" y="18461"/>
                </a:lnTo>
                <a:arcTo wR="3600" hR="3600" stAng="10800000" swAng="-5400000"/>
                <a:lnTo>
                  <a:pt x="18000" y="220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ERIODIZA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- Střídání tr. zatížení a odpočink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Charakteru práce a odpočinku (všeob., spe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Druhy a složky  tr. zatížení (objem, intenzita, koordinační složitost, psych. náročnos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Velikost zatížení (malé, střední, velk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sps.muni.cz/impact/atletika-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sps.muni.cz/impact/atletika-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sps.muni.cz/impact/didaktika-atletik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15-02-19T12:21:47Z</dcterms:modified>
  <cp:revision>30</cp:revision>
  <dc:subject/>
  <dc:title>ATLETIKA přednáška</dc:title>
</cp:coreProperties>
</file>