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343C-8562-42FA-ABC5-69E5804F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AED5-C94F-4714-BC1E-F3C2B41D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6F77-5313-4C96-BD11-E40FDAB48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9DB3-0AFE-4E50-83CE-8DD007B0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EC37-8978-44DA-B2EC-AF056685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9844-E2DE-4034-AD16-91719D2E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0481-6A11-4F3A-9151-0F326DF9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7DA9-437A-45A5-8577-48E1DFB3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06D3-FDDF-4EE0-8B22-BF753C0D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CCFB-C264-42E1-AE4B-A2D7EDB9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3F18-AE45-4707-8C09-ECE372A4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FDC9-4896-4B42-BD1C-41B2CA40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2DED-0431-4571-A97B-C6AE969C21A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ování jednotlivých anaerobních prah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3"/>
          <p:cNvGraphicFramePr/>
          <p:nvPr/>
        </p:nvGraphicFramePr>
        <p:xfrm>
          <a:off x="179280" y="1413000"/>
          <a:ext cx="8785440" cy="53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8544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rčení ventilačního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179280" y="1413000"/>
          <a:ext cx="8713800" cy="52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1380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ení ANP pomocí Conconiho tes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179280" y="1484280"/>
          <a:ext cx="8713800" cy="518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84280"/>
                    <a:ext cx="8713800" cy="51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1 Charakteristika skup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28640"/>
          <a:ext cx="8229600" cy="4502160"/>
        </p:xfrm>
        <a:graphic>
          <a:graphicData uri="http://schemas.openxmlformats.org/drawingml/2006/table">
            <a:tbl>
              <a:tblPr/>
              <a:tblGrid>
                <a:gridCol w="1371600"/>
                <a:gridCol w="1087560"/>
                <a:gridCol w="1368360"/>
                <a:gridCol w="1871640"/>
                <a:gridCol w="1008000"/>
                <a:gridCol w="152244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v.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k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O</a:t>
                      </a:r>
                      <a:r>
                        <a:rPr b="0" lang="cs-CZ" sz="2000" spc="-1" strike="noStrike" baseline="-25000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07,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49,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5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47,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57,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:22,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9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0,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0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8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09,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ab.2 Výsledky laboratorního vyšetření na bicyklovém ergomet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108000" y="1413000"/>
          <a:ext cx="8856720" cy="52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413000"/>
                    <a:ext cx="885672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Tab. 3 Conconiho test na atletické dráze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600200"/>
          <a:ext cx="8435880" cy="4637160"/>
        </p:xfrm>
        <a:graphic>
          <a:graphicData uri="http://schemas.openxmlformats.org/drawingml/2006/table">
            <a:tbl>
              <a:tblPr/>
              <a:tblGrid>
                <a:gridCol w="969840"/>
                <a:gridCol w="1403640"/>
                <a:gridCol w="1001520"/>
                <a:gridCol w="1685880"/>
                <a:gridCol w="1687680"/>
                <a:gridCol w="168732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(k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(min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4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6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31,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2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3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1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7,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32,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0,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4 Běh na úrovni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124128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052640"/>
          <a:ext cx="8569080" cy="5538600"/>
        </p:xfrm>
        <a:graphic>
          <a:graphicData uri="http://schemas.openxmlformats.org/drawingml/2006/table">
            <a:tbl>
              <a:tblPr/>
              <a:tblGrid>
                <a:gridCol w="1063440"/>
                <a:gridCol w="1065240"/>
                <a:gridCol w="1063800"/>
                <a:gridCol w="1063440"/>
                <a:gridCol w="1067040"/>
                <a:gridCol w="1112760"/>
                <a:gridCol w="1066680"/>
                <a:gridCol w="1066680"/>
              </a:tblGrid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ásmo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ěr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á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ychl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/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zdí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.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. O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. C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. N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F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. H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M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P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. H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. K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-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Metody rozvoje běžecké vytrval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Ne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vislé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x.úroveň(ANP),střední 2-4,nízká 2m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upňova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řídavé – fart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akov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val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élka úsek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ost úse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ba odpočin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opak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rakter odpočin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ce intenzivní intervalová metod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10 sec. běh 50 m, 10 sec. odpočin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63272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krétní příklad intervalového trénin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00000" y="2565000"/>
            <a:ext cx="6872400" cy="30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999999"/>
                </a:solidFill>
                <a:latin typeface="Arial"/>
              </a:rPr>
              <a:t>Trénink pro běžce s osobními výk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R 30m letmo 3,85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 800m 2:00 min. (100m – 15 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ST 1500m 4:00 min. (100m – 16 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 5000m 15:00min. (100m – 18 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ěh  ANP 12 km 40:00min. (100m - 20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V 10km a více,hod. a dé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0000"/>
                </a:solidFill>
                <a:latin typeface="Arial"/>
              </a:rPr>
              <a:t>Trénink jednotlivých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611280" y="692280"/>
            <a:ext cx="784692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258920" y="2492280"/>
            <a:ext cx="6513480" cy="31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8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 5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5 000m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0 000m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maraton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3 000m př.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Běhy na střední a dlouhé trat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1.Systém atletické přípr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2.Struktura atletického výko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3.Historie a vývoj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4.Rozdělení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5.Technika běhu a faktory ovlivňující výkon v   bězích na střední a dlouhé tra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6.Speciální běžecké schop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7.Metody rozvoje běžecké vytrval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8.Trénink jednotlivých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9.Lit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valil,J.:Malá encyklopedie sportovního trénin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išer,L.:Mílaři a vytrval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már,D.:Všetko o beh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čera,V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ška,J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val 2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4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1"/>
          <p:cNvSpPr/>
          <p:nvPr/>
        </p:nvSpPr>
        <p:spPr>
          <a:xfrm>
            <a:off x="457200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991600" y="371628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7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8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5998680" y="2997360"/>
            <a:ext cx="2602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rfologicko-funk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Rozdělení běžeckých discipl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Na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 dráz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hladk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kážk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tafet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Mimo drá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silnič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spol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Historie vývoje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Starodobé a novodobé OH, Maratónský bě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Významné atletické osob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Nurmi,Harbig,Hagg,Zátopek,Iharos,Kuc,Chrom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lark,Eliot,Snell,Jazy,Bedford,Cram,Ovett,Co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uantorena,Virén,Bikila,Keino,Auita,Kipke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l Guerrouj,Gebrselassie,Bekele,Jedličk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atochvílová,Sabova,Formanová,Muta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lmesová,Dibabaová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Běžecké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finská,německá,švédská,česká,východoevrops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glická,novozélandská,americká,nástup běžců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fr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Faktory ovlivňující výkony ve vytrvalostních bězí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nd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vroze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   anatomicko-morfologické  - ektomorf,složení svalových vláken tmavá,pomal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yziologické(funkční)- kardiovaskulární systém, hypertrofovaný srdeční sval,zvětšený objem srdce ,průsvit aorty a věnčitých tepen,nízká srdeční frekvence,vysoký max. srdeční výk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kovým obrazem je VO2 max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 (charakter,temperament,schopnosti,soc.ro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x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získa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 realizují ve složkách přípravy:  fyz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kt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Speciální běžecké schopnos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Absolutní rychlost (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rychlost (T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tempo (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běh AN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Obecná vytrvalost (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Regenerační běh (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vytrvalost(TR,ST,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incip určení aerobního a anaerobního prah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324000" y="1484280"/>
          <a:ext cx="856908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856908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07:53:17Z</dcterms:created>
  <dc:creator>Michálek</dc:creator>
  <dc:description/>
  <dc:language>en-US</dc:language>
  <cp:lastModifiedBy>PC</cp:lastModifiedBy>
  <dcterms:modified xsi:type="dcterms:W3CDTF">2016-03-06T10:18:16Z</dcterms:modified>
  <cp:revision>32</cp:revision>
  <dc:subject/>
  <dc:title>Běhy na střední a dlouhé tratě</dc:title>
</cp:coreProperties>
</file>