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F17-CEDC-4188-8A8D-244AADAE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1F4F-16B4-4CFF-841E-8E60B7CB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710-8DF4-4E72-B541-B890151D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770-58C4-4FD5-B7C4-3C274742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B536-8C8E-4E85-827B-4520D52D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B41E-12D3-45E7-B6E3-D8C2CC5E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28D5-9883-42A7-A002-519B2E9C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6ACE-4727-48A1-A913-6EEE11C1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A209-5B05-46D6-AD54-169A9C1B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8508-00F2-4E6B-8214-9C8CBB91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0662-B40D-470A-B54A-C2FDFA31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E7F-AF0C-45D9-AC18-86DC2FF2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673A-DEBC-46BC-B250-6AB49584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6E8E-BDE9-42E0-898B-BAC17AEC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178B-C90F-40FA-B5C5-1F59E87E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5FAA-6186-47FD-8978-F9948A31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A950-C9FF-4FA1-A429-98E830D3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381-F99F-49D5-9D28-8C5A2EE5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64B-378F-465A-A3BA-B0C0A736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137-7DEB-4B2A-A130-83A2A757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438-CA21-4D5B-A8D9-5DB2169E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374-6CF3-4268-BD37-14F7A0DE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A60-806C-4E03-A91B-547C335E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654-1F63-4ED4-9CB9-12C699EE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2BD2-437D-4BB3-BF7E-1CFD165509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4693-704F-47A5-A51D-475D267367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sps.muni.cz/impact/atletika-3/" TargetMode="External"/><Relationship Id="rId2" Type="http://schemas.openxmlformats.org/officeDocument/2006/relationships/hyperlink" Target="http://www.fsps.muni.cz/impact/atletika-2/" TargetMode="External"/><Relationship Id="rId3" Type="http://schemas.openxmlformats.org/officeDocument/2006/relationships/hyperlink" Target="http://www.fsps.muni.cz/impact/didaktika-atletiky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 a metodických výstup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42440" y="3645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979640" y="549360"/>
            <a:ext cx="5238720" cy="512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obecné             Výběr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979640" y="0"/>
            <a:ext cx="5238720" cy="507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 – výchovné, vzdělá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979640" y="1125360"/>
            <a:ext cx="5238720" cy="50328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ástečné                   Etap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187280" y="1628640"/>
            <a:ext cx="186696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332000" y="2060640"/>
            <a:ext cx="1533600" cy="122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BSA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diční příp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chn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ak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ore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1332000" y="3429000"/>
            <a:ext cx="1533600" cy="201600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2016000"/>
              <a:gd name="textAreaBottom" fmla="*/ 1941120 h 2016000"/>
            </a:gdLst>
            <a:ahLst/>
            <a:rect l="textAreaLeft" t="textAreaTop" r="textAreaRight" b="textAreaBottom"/>
            <a:pathLst>
              <a:path w="21600" h="28393">
                <a:moveTo>
                  <a:pt x="3600" y="0"/>
                </a:moveTo>
                <a:arcTo wR="3600" hR="3600" stAng="16200000" swAng="-5400000"/>
                <a:lnTo>
                  <a:pt x="0" y="24793"/>
                </a:lnTo>
                <a:arcTo wR="3600" hR="3600" stAng="10800000" swAng="-5400000"/>
                <a:lnTo>
                  <a:pt x="18000" y="283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STŘED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éninkové (cvičení-vlastní, soutěžní, speciální, všeobecn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generace sil, výživa, pitný rež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roly trénova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332000" y="5514840"/>
            <a:ext cx="1533600" cy="134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ODMÍN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Materiální, ekonomické, sociální, právní, pracov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3635280" y="1628640"/>
            <a:ext cx="393408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1403280" y="1700280"/>
            <a:ext cx="140040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ál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3995640" y="1700280"/>
            <a:ext cx="252432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Operativ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708360" y="206064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INCIPY: (zásad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atičnosti, posloupnosti, cykličnosti, individualizace, specifičnosti, názornosti, přiměře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rcionality:  - Všestranné a specifické příprav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faktorů, určujících sportovní výk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3708360" y="3141720"/>
            <a:ext cx="3816360" cy="151128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TOD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pohybovým schopnost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Nepřerušovaného zatížení: souvislá, rovnoměrná, střída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Přerušovaného zatížení:opakovaná, interval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Osvojování a zdokonalovaní dovedností (slovní, ukázkové, ideomotorické, praktické cvičení- opakování komplexní, analyticko-syntetick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Jiné (vedlejší úlohy, kontrastu, diagnostické metody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3708360" y="4724280"/>
            <a:ext cx="1655640" cy="213372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133720"/>
              <a:gd name="textAreaBottom" fmla="*/ 2053080 h 2133720"/>
            </a:gdLst>
            <a:ahLst/>
            <a:rect l="textAreaLeft" t="textAreaTop" r="textAreaRight" b="textAreaBottom"/>
            <a:pathLst>
              <a:path w="21600" h="27836">
                <a:moveTo>
                  <a:pt x="3600" y="0"/>
                </a:moveTo>
                <a:arcTo wR="3600" hR="3600" stAng="16200000" swAng="-5400000"/>
                <a:lnTo>
                  <a:pt x="0" y="24236"/>
                </a:lnTo>
                <a:arcTo wR="3600" hR="3600" stAng="10800000" swAng="-5400000"/>
                <a:lnTo>
                  <a:pt x="18000" y="27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FOR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ciálně- interakční (hromadná, skupinová, individuá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Tréninková jednotka (základní – v čase soustředění kontro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utěžní-závody, zápasy, doplň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>
            <a:off x="5435640" y="4724280"/>
            <a:ext cx="2089080" cy="213372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133720"/>
              <a:gd name="textAreaBottom" fmla="*/ 2031840 h 2133720"/>
            </a:gdLst>
            <a:ahLst/>
            <a:rect l="textAreaLeft" t="textAreaTop" r="textAreaRight" b="textAreaBottom"/>
            <a:pathLst>
              <a:path w="21600" h="22061">
                <a:moveTo>
                  <a:pt x="3600" y="0"/>
                </a:moveTo>
                <a:arcTo wR="3600" hR="3600" stAng="16200000" swAng="-5400000"/>
                <a:lnTo>
                  <a:pt x="0" y="18461"/>
                </a:lnTo>
                <a:arcTo wR="3600" hR="3600" stAng="10800000" swAng="-5400000"/>
                <a:lnTo>
                  <a:pt x="18000" y="220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ERIODIZA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- Střídání tr. zatížení a odpočin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Charakteru práce a odpočinku (všeob., spe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Druhy a složky  tr. zatížení (objem, intenzita, koordinační složitost, psych. náročno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elikost zatížení (malé, střední, velk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ps.muni.cz/impact/atletika-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sps.muni.cz/impact/atletika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sps.muni.cz/impact/didaktika-atletik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15-02-19T12:21:47Z</dcterms:modified>
  <cp:revision>30</cp:revision>
  <dc:subject/>
  <dc:title>ATLETIKA přednáška</dc:title>
</cp:coreProperties>
</file>