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999-386E-4CDE-8A1A-8C1E9F66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E6C-501C-4251-978F-944C7EC6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777-7A38-4F4F-8C87-B9557389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BD91-6E80-41B6-BDEA-3768D188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5560-0C4B-4A20-A218-DE3C2B94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8D04-E504-4510-A476-4A00AFE1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99C7-AFBC-4BA3-8754-16F39226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3F1C-981E-4879-868C-8DB49C0E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40EE-50E7-4DCF-B197-1BB37ADB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74C2-0B23-4EBE-AEA9-0D63D338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2352-1B26-47A2-8B7B-C30F8908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C5F3-87F0-4D73-999C-7F8C0801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14AA-01DE-4F72-A511-0A7E7CF0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7AE1-0C8F-4B26-894B-A052F539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3B65-D90A-407F-8AC5-0FC986A7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4786-5BEA-4479-A791-7FEB4469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60A0-0E74-4BC5-998A-91248818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E99-133F-4337-BAC6-7D237AE0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CDA-943D-41EE-8D2F-0E645FE0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C86-1321-4948-A178-0B44139F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F2D2-E8EA-4E98-B59F-5ADFED01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208-CEEB-42D1-AE59-04E8657C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424-C66E-4A14-BC4F-0ABF7490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C33-A9A4-428D-BFD3-C2BFF4EC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22C9-6D04-4317-A643-1F4E3F7B76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5B6B-9784-45BB-A69C-BFCB5DC1B1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34880" y="36450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Č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uža a kol.: Technika atletických disciplín,MU Brno,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llerová a kol.: Běhy na krátké tratě,Olympia,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čera a kol.: Běhy na střední a dlouhé tratě,Olympia,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ebil a kol.: Atletické skoky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ba a kol.: Atletické víceboje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08-09-17T06:32:07Z</dcterms:modified>
  <cp:revision>21</cp:revision>
  <dc:subject/>
  <dc:title>ATLETIKA přednáška</dc:title>
</cp:coreProperties>
</file>