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D682-5F65-4EA0-BA26-2CF2B6AED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941B-0B2B-4F11-83D4-16A6F9ED7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197D-34C7-46F5-B246-65C7F704D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C202-015F-45A9-866E-62B89119B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A175-4BE4-4AB7-9F24-FFDB636F2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5321-C1B0-45CC-A7D9-816E354A6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24E4-CEB4-4493-9484-F2EB27696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A62A-FA63-47C2-8229-BFD579185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CB16-C16B-498F-BBA4-2815618A3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7231-9727-4019-8C23-2CE0B180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DA2D-4C5B-4CA0-AAF5-90591D7F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CBCD-A575-4C7D-A03F-481CD55F0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62B41-B921-4080-AD2B-A4414ED096E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vsichni"/>
          <p:cNvPicPr/>
          <p:nvPr/>
        </p:nvPicPr>
        <p:blipFill>
          <a:blip r:embed="rId1"/>
          <a:stretch/>
        </p:blipFill>
        <p:spPr>
          <a:xfrm>
            <a:off x="0" y="0"/>
            <a:ext cx="9144000" cy="7839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8920" y="4508280"/>
            <a:ext cx="453708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0000"/>
                </a:solidFill>
                <a:latin typeface="Arial"/>
              </a:rPr>
              <a:t>ATLETIKA</a:t>
            </a:r>
            <a:br>
              <a:rPr sz="54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dnáš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Určování jednotlivých anaerobních prah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Object 3"/>
          <p:cNvGraphicFramePr/>
          <p:nvPr/>
        </p:nvGraphicFramePr>
        <p:xfrm>
          <a:off x="179280" y="1413000"/>
          <a:ext cx="8785440" cy="53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413000"/>
                    <a:ext cx="8785440" cy="53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Určení ventilačního AN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Object 3"/>
          <p:cNvGraphicFramePr/>
          <p:nvPr/>
        </p:nvGraphicFramePr>
        <p:xfrm>
          <a:off x="179280" y="1413000"/>
          <a:ext cx="8713800" cy="525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413000"/>
                    <a:ext cx="8713800" cy="52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Určení ANP pomocí Conconiho tes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3"/>
          <p:cNvGraphicFramePr/>
          <p:nvPr/>
        </p:nvGraphicFramePr>
        <p:xfrm>
          <a:off x="179280" y="1484280"/>
          <a:ext cx="8713800" cy="518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484280"/>
                    <a:ext cx="8713800" cy="518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ab.1 Charakteristika skupi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57200" y="1628640"/>
          <a:ext cx="8229600" cy="4502160"/>
        </p:xfrm>
        <a:graphic>
          <a:graphicData uri="http://schemas.openxmlformats.org/drawingml/2006/table">
            <a:tbl>
              <a:tblPr/>
              <a:tblGrid>
                <a:gridCol w="1371600"/>
                <a:gridCol w="1087560"/>
                <a:gridCol w="1368360"/>
                <a:gridCol w="1871640"/>
                <a:gridCol w="1008000"/>
                <a:gridCol w="152244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mé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áv.t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k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VO</a:t>
                      </a:r>
                      <a:r>
                        <a:rPr b="0" lang="cs-CZ" sz="2000" spc="-1" strike="noStrike" baseline="-25000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o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:07,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5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5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.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:49,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5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O5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.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:47,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6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2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F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:57,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7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5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.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:22,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2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8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29,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1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8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10,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3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8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20,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4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O8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K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:09,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8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8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ab.2 Výsledky laboratorního vyšetření na bicyklovém ergometr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Object 3"/>
          <p:cNvGraphicFramePr/>
          <p:nvPr/>
        </p:nvGraphicFramePr>
        <p:xfrm>
          <a:off x="108000" y="1413000"/>
          <a:ext cx="8856720" cy="52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413000"/>
                    <a:ext cx="8856720" cy="52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Tab. 3 Conconiho test na atletické dráze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57200" y="1600200"/>
          <a:ext cx="8435880" cy="4637160"/>
        </p:xfrm>
        <a:graphic>
          <a:graphicData uri="http://schemas.openxmlformats.org/drawingml/2006/table">
            <a:tbl>
              <a:tblPr/>
              <a:tblGrid>
                <a:gridCol w="969840"/>
                <a:gridCol w="1403640"/>
                <a:gridCol w="1001520"/>
                <a:gridCol w="1685880"/>
                <a:gridCol w="1687680"/>
                <a:gridCol w="1687320"/>
              </a:tblGrid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ø </a:t>
                      </a: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</a:t>
                      </a:r>
                      <a:r>
                        <a:rPr b="1" lang="cs-CZ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NP </a:t>
                      </a: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</a:t>
                      </a:r>
                      <a:r>
                        <a:rPr b="1" lang="cs-CZ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N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1" lang="cs-CZ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N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 (k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(min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:46,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.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56,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.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6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31,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F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26,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.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4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13,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:16,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7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17,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:32,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K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50,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ab.4 Běh na úrovni AN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0" y="1241280"/>
            <a:ext cx="9144000" cy="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50920" y="1052640"/>
          <a:ext cx="8569080" cy="5538600"/>
        </p:xfrm>
        <a:graphic>
          <a:graphicData uri="http://schemas.openxmlformats.org/drawingml/2006/table">
            <a:tbl>
              <a:tblPr/>
              <a:tblGrid>
                <a:gridCol w="1063440"/>
                <a:gridCol w="1065240"/>
                <a:gridCol w="1063800"/>
                <a:gridCol w="1063440"/>
                <a:gridCol w="1067040"/>
                <a:gridCol w="1112760"/>
                <a:gridCol w="1066680"/>
                <a:gridCol w="1066680"/>
              </a:tblGrid>
              <a:tr h="78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ásmo H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ůměr H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mi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á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k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ychl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km/h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zdí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ům. 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mol/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. O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-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,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. C.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-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8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. N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-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,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. F.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-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,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8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. H.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-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8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. M.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-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,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1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. P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-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,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6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. H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-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,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. K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-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,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3300"/>
                </a:solidFill>
                <a:latin typeface="Arial"/>
              </a:rPr>
              <a:t>Metody rozvoje běžecké vytrvalos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Nepřerušované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vislé – max.úroveň(ANP),střední 2-4,nízká 2m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upňova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řídavé – fartl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Přerušované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pakova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tervalo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élka úseku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ychlost úse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ba odpočink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čet opak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harakter odpočin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0000"/>
                </a:solidFill>
                <a:latin typeface="Arial"/>
              </a:rPr>
              <a:t>Trénink jednotlivých běžeckých disciplí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611280" y="692280"/>
            <a:ext cx="7846920" cy="29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1258920" y="2492280"/>
            <a:ext cx="6513480" cy="31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800m muži,ženy,mláde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1 500m muži,ženy,mláde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5 000m muži,ž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10 000mmuži,ž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maraton muži,ž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3 000m př.muži,ž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valil,J.:Malá encyklopedie sportovního trénin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išer,L.:Mílaři a vytrval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amár,D.:Všetko o beh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učera,V.:Běhy na střední a dlouhé tra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ška,J.:Běhy na střední a dlouhé tra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4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Arial"/>
              </a:rPr>
              <a:t>Běhy na střední a dlouhé trat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1.Systém atletické přípra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2.Struktura atletického výko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3.Historie a vývoj běžeckých discipl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4.Rozdělení běžeckých discipl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5.Technika běhu a faktory ovlivňující výkon v   bězích na střední a dlouhé trat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6.Speciální běžecké schop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7.Metody rozvoje běžecké vytrval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8.Trénink jednotlivých běžeckých discipl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9.Litera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Oval 2"/>
          <p:cNvSpPr/>
          <p:nvPr/>
        </p:nvSpPr>
        <p:spPr>
          <a:xfrm>
            <a:off x="1619280" y="981000"/>
            <a:ext cx="5905440" cy="5688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ystém atletické příprav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4"/>
          <p:cNvSpPr/>
          <p:nvPr/>
        </p:nvSpPr>
        <p:spPr>
          <a:xfrm>
            <a:off x="2627280" y="1989000"/>
            <a:ext cx="3889440" cy="3745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5"/>
          <p:cNvSpPr/>
          <p:nvPr/>
        </p:nvSpPr>
        <p:spPr>
          <a:xfrm>
            <a:off x="1979640" y="2421000"/>
            <a:ext cx="93672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3132000" y="14130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CIÁLNÍ OKOL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 rot="16200000">
            <a:off x="1131840" y="3700080"/>
            <a:ext cx="200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ŠK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 rot="16200000">
            <a:off x="5652360" y="3788280"/>
            <a:ext cx="2374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3492360" y="595008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MĚSTN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0"/>
          <p:cNvSpPr/>
          <p:nvPr/>
        </p:nvSpPr>
        <p:spPr>
          <a:xfrm>
            <a:off x="2916360" y="3213000"/>
            <a:ext cx="1584360" cy="151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11"/>
          <p:cNvSpPr/>
          <p:nvPr/>
        </p:nvSpPr>
        <p:spPr>
          <a:xfrm>
            <a:off x="4572000" y="3213000"/>
            <a:ext cx="1584360" cy="151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2991600" y="371628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RE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4643280" y="3716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3635280" y="2349360"/>
            <a:ext cx="1800360" cy="82548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T PŘÍPR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3635280" y="4869000"/>
            <a:ext cx="1873440" cy="45972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 flipH="1">
            <a:off x="2411280" y="5157720"/>
            <a:ext cx="720720" cy="5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7"/>
          <p:cNvSpPr/>
          <p:nvPr/>
        </p:nvSpPr>
        <p:spPr>
          <a:xfrm>
            <a:off x="5867280" y="522936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8"/>
          <p:cNvSpPr/>
          <p:nvPr/>
        </p:nvSpPr>
        <p:spPr>
          <a:xfrm flipV="1">
            <a:off x="6012000" y="1916280"/>
            <a:ext cx="792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truktura atletického výko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3"/>
          <p:cNvSpPr/>
          <p:nvPr/>
        </p:nvSpPr>
        <p:spPr>
          <a:xfrm>
            <a:off x="3348000" y="2492280"/>
            <a:ext cx="1944720" cy="18734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3276720" y="306864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LETIC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K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5813280" y="1263600"/>
            <a:ext cx="2532240" cy="703800"/>
          </a:xfrm>
          <a:prstGeom prst="rect">
            <a:avLst/>
          </a:prstGeom>
          <a:solidFill>
            <a:srgbClr val="52cfe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vodní a trénink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6"/>
          <p:cNvSpPr/>
          <p:nvPr/>
        </p:nvSpPr>
        <p:spPr>
          <a:xfrm flipH="1">
            <a:off x="5003280" y="1989000"/>
            <a:ext cx="792360" cy="7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405360" y="1268280"/>
            <a:ext cx="2532240" cy="703800"/>
          </a:xfrm>
          <a:prstGeom prst="rect">
            <a:avLst/>
          </a:prstGeom>
          <a:solidFill>
            <a:srgbClr val="52cfe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ateriálně-techn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8"/>
          <p:cNvSpPr/>
          <p:nvPr/>
        </p:nvSpPr>
        <p:spPr>
          <a:xfrm>
            <a:off x="2916360" y="1989000"/>
            <a:ext cx="718920" cy="7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395280" y="3141720"/>
            <a:ext cx="1657440" cy="70380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sych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0"/>
          <p:cNvSpPr/>
          <p:nvPr/>
        </p:nvSpPr>
        <p:spPr>
          <a:xfrm flipH="1">
            <a:off x="2050560" y="3500280"/>
            <a:ext cx="1297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5998680" y="2997360"/>
            <a:ext cx="2602440" cy="70380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orfologicko-funk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6808680" y="5013360"/>
            <a:ext cx="142416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ndi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3966120" y="5013360"/>
            <a:ext cx="156924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ordina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4"/>
          <p:cNvSpPr/>
          <p:nvPr/>
        </p:nvSpPr>
        <p:spPr>
          <a:xfrm>
            <a:off x="250920" y="5013360"/>
            <a:ext cx="230508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chnicko-taktick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5"/>
          <p:cNvSpPr/>
          <p:nvPr/>
        </p:nvSpPr>
        <p:spPr>
          <a:xfrm flipH="1" flipV="1">
            <a:off x="5148000" y="3933360"/>
            <a:ext cx="1655640" cy="107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6"/>
          <p:cNvSpPr/>
          <p:nvPr/>
        </p:nvSpPr>
        <p:spPr>
          <a:xfrm flipH="1" flipV="1">
            <a:off x="4500720" y="4365360"/>
            <a:ext cx="142560" cy="64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7"/>
          <p:cNvSpPr/>
          <p:nvPr/>
        </p:nvSpPr>
        <p:spPr>
          <a:xfrm flipH="1">
            <a:off x="2050560" y="4076640"/>
            <a:ext cx="1584360" cy="936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8"/>
          <p:cNvSpPr/>
          <p:nvPr/>
        </p:nvSpPr>
        <p:spPr>
          <a:xfrm flipH="1">
            <a:off x="5292720" y="3429000"/>
            <a:ext cx="122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Arial"/>
              </a:rPr>
              <a:t>Rozdělení běžeckých discipl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Na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 dráz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hladk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kážk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štafet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Mimo dráhu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silnič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spoln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3300"/>
                </a:solidFill>
                <a:latin typeface="Arial"/>
              </a:rPr>
              <a:t>Historie vývoje běžeckých disciplí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Starodobé a novodobé OH, Maratónský bě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Významné atletické osob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Nurmi,Harbig,Hagg,Zátopek,Iharos,Kuc,Chrom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lark,Eliot,Snell,Jazy,Bedford,Cram,Ovett,Co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uantorena,Virén,Bikila,Keino,Auita,Kipket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l Guerrouj,Gebrselassie,Bekele,Jedličková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ratochvílová,Sabova,Formanová,Mutaová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olmesová,Dibabaová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Běžecké ško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finská,německá,švédská,česká,východoevropsk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nglická,novozélandská,americká,nástup běžců 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fri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cs-CZ" sz="4000" spc="-1" strike="noStrike">
                <a:solidFill>
                  <a:srgbClr val="cc3300"/>
                </a:solidFill>
                <a:latin typeface="Arial"/>
              </a:rPr>
              <a:t>Faktory ovlivňující výkony ve vytrvalostních bězí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Endogenní faktory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  (převážně vrozen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   anatomicko-morfologické  - ektomorf,složení svalových vláken tmavá,pomal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yziologické(funkční)- kardiovaskulární systém, hypertrofovaný srdeční sval,zvětšený objem srdce ,průsvit aorty a věnčitých tepen,nízká srdeční frekvence,vysoký max. srdeční výko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elkovým obrazem je VO2 max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sychologické (charakter,temperament,schopnosti,soc.ro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Exogenní faktory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  (převážně získan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e realizují ve složkách přípravy:  fyz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chn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akt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sycholog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Arial"/>
              </a:rPr>
              <a:t>Speciální běžecké schopnost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Absolutní rychlost (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Tempová rychlost (T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Speciální tempo (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Tempová vytrvalost (běh AN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Tempová vytrvalost (T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Obecná vytrvalost (O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Regenerační běh (R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Speciální vytrvalost(TR,ST,T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rincip určení aerobního a anaerobního prah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Object 3"/>
          <p:cNvGraphicFramePr/>
          <p:nvPr/>
        </p:nvGraphicFramePr>
        <p:xfrm>
          <a:off x="324000" y="1484280"/>
          <a:ext cx="8569080" cy="511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484280"/>
                    <a:ext cx="8569080" cy="51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2T07:53:17Z</dcterms:created>
  <dc:creator>Michálek</dc:creator>
  <dc:description/>
  <dc:language>en-US</dc:language>
  <cp:lastModifiedBy>Josef Michálek</cp:lastModifiedBy>
  <dcterms:modified xsi:type="dcterms:W3CDTF">2007-09-26T16:31:47Z</dcterms:modified>
  <cp:revision>30</cp:revision>
  <dc:subject/>
  <dc:title>Běhy na střední a dlouhé tratě</dc:title>
</cp:coreProperties>
</file>