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C66-C3B4-4663-9B8E-10E58B4E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778-A710-42E6-BC75-38854D48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312-DA7C-41F1-B87E-5A739ED8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DBA-D74D-4DF8-8F20-8F7F5A2B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4415-26DA-44E0-97E3-06821399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5FFA-CFD4-423F-A3C5-A42F411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12CF-E7AB-4294-ADD4-415C5591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8DC4-702E-4EA1-80E7-991C8921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5A8A-A6ED-4F63-AF00-3E280BF1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2A30-2C29-4474-A785-08D5CF14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85EF-DDDE-4A70-9C45-3CAABE42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B19-5E98-4588-AE0F-EC308CC2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549A-7095-4EDA-9139-0DC0ED3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A863-0C73-4DB2-A7A2-E65DBB07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DF39-772E-47AB-A331-D119E4C1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1E8-7288-4BD1-8D50-3832F725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3B87-DBBB-4C97-81AB-A58E5E73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B51-718E-43B3-B0AD-130BB7AF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466-25A3-4EBD-9B67-A68F7676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780-844B-4129-A855-5AC10A8D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904-85B4-4024-938E-A9666CB2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544-7F42-4F6A-9F35-25E4B713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6F0-1E53-4E3D-8752-0431DE4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F22-A6BD-43F5-A5D0-CAC06226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8822-8BE5-49FE-9B46-B778C8B75D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3D00-5BB1-45AC-BC64-2159A6115E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prava dat před analýz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spořádán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trola přesnosti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ení struktury databá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kládání dat do P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tvořte strukturu databáz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obsahující tyto proměnné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íslo os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méno os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k (v lete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hlaví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0 = muž, 1 = žen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dinný stav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0 = svobodný, 1 = ženatý/vdaná, 2 = rozvedený, 3 =vdovec/vd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jem (Kč/měsí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et dě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ětšinou jsem se sebou spokoje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Občas si připadám jako bezcenný člověk</a:t>
            </a:r>
            <a:br>
              <a:rPr sz="2600"/>
            </a:b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ám sám sebe rád</a:t>
            </a:r>
            <a:br>
              <a:rPr sz="2600"/>
            </a:b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1 = vůbec nesouhlasím, 2 = spíše nesouhlasím, 3 = něco mezi,  4 = spíše souhlasím, 5 = zcela souhlasí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Data ulož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o souboru pod názv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ste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adejte 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5 – 10 osob: u jedné z osob budou některé údaje chybět (např. neuvedla příjem a odpověď na položku 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kontroluj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zda rozsah hodnot proměnných u zadaných dat odpovídá předpokládanému rozs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 – celkové sebehodnoc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která bude průměrem z položek 8 – 10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! Ješt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dt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třeb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obrátit položku 9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která je formulována v opačném směru než ostatní dvě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á rozdělí soubor na dvě skupiny –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bezdětné osoby a osoby s alespoň jedním dítěte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zachovejte i hodnoty původní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á rozdělí soubor n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tři příjmové skupin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osoby s příjmem pod 10 tis. Kč, 10 tis. – 20 tis. Kč a nad 20 tis. Kč (zachovejte i hodnoty původní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všech proměnných (včetně nově vytvořených) určete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a jaké úrovni měř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sou měře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02T06:37:30Z</dcterms:modified>
  <cp:revision>21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