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ACF1-EBE5-47C7-8140-136ED460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447F-6600-4B3C-AC43-23BCA0D2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C7FB-9986-4F3B-B7D4-24B4BAB6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167-BCC5-4D43-BDA4-D9DC6B96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AD29-034D-45DD-BC32-37B268DDC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12E1-AFB5-4C54-A578-ADEBC6FE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A164-C099-4F89-8974-CB6E26BC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A56C-8AE1-4FDF-8F7F-39BC9C24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6733-1534-4D77-989F-26BA68D1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F61D-3B0C-47CE-9F19-CD75E79C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8124-0E68-4630-A3D1-551F4A32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3E6C-BC58-495B-9414-79873258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DA67-06B0-482E-80E0-F8895E5B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82DC-E377-41CA-872D-5896E6F4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545A-9EC4-443B-BD15-68912360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CE4A-3D62-46C0-B9B3-CFF9E1CE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6185-04D6-4D44-9FEB-FD752B7A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6C69-3642-4435-B615-205CA57D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CF67-46C7-454A-911E-A313B5E9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9A72-71C8-43C6-B825-1C0102E0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02F2-FE43-42ED-A412-1BD71D8C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7DEA-664F-4EF1-A78B-CF97AEB8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D56D-0D9C-4C11-AA68-B0F2FE78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5FCD-274D-408D-90EC-B46B04E3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DA5B-976F-4672-9468-AA77AF6724A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FFB7-5406-49A8-9FDF-20A6F79957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pisná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y četností (Frequenci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polohy a varia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pisné statistiky (Descriptiv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abulky četnost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y četností vytváříme příkazem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requenci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ložka menu ANALYZE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escriptive statistics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requenc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abulky četnost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měnné vybereme ze seznamu zobrazeného vlev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me rovněž nechat zobrazit grafy (jeho typ zvolíme kliknutím na Chart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 spočítat statistiky (Statistic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běr podsouboru případ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 výběru podsouboru případů, vymezených určitou kategorií proměnné, slouží příkaz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elect Cas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položka men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A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chceme pouze spočítat výsledky zvlášť pro každou kategorii určité proměnné, použijeme příkaz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plit Fil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tamtéž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 (Frequencie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9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aké bylo složení souboru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adolescen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(pohlaví, věk, typ školy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pište, k jakému náboženství se respondenti hlásí, jakou udávájí míru religiozity a frekvence návštěvy kostela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relig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howrelig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hurchgo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lik sourozenců adolescenti nejčastěji mají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ib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? a kolik přátel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rndnum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? Kolik % adolescentů má max. 5 přáte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terý z nežádoucích projevů je u adolescentů nejčastější - krádeže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teal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, kouření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mok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 nebo podvádění při písemkách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hea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? Jak je tomu u dívek a chlapců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aké chování adolescentů je pro jejich rodiče nejméně přijatelné?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parfl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parfl1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o je nejčastějším předmětem hádek mezi adolescenty a jejich rodiči?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ight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ight12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o je nejčastějším předmětem kontroly adolescentů ze strany rodičů?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monit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monit10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escriptiv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intervalové a poměrové proměnné můžeme využít příkaz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escriptiv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ložka menu ANALYZE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escriptive Statistics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escripti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měnné vybereme ze seznamu zobrazeného vlevo a konkrétní statistiky jsou pod položko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ptions...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Employe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lik mužů a žen? V kterém oddělení je nejvíce pracovníků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é mají vzdělání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ý je průměrný plat? průměrný nástupní pla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e kterém oddělení jsou nejvyšší plat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sou rozdíly mezi platy mužů a žen?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 Klimusová</cp:lastModifiedBy>
  <dcterms:modified xsi:type="dcterms:W3CDTF">2003-03-16T23:27:05Z</dcterms:modified>
  <cp:revision>254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