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22AC-1630-43A1-9EC6-A013D798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EC5-5131-487B-B1B1-BA5CC3EA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5CA-B82C-47B5-AF6D-19F65BF8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A24-5CB6-414F-9F4F-7F7A20D5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ED04-954B-47DC-AF25-4F7FD926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B07A-CC19-496D-90E5-ADA47AA8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8F51-CC58-4A93-A1EF-4998B469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0821-A1D9-4138-903F-34B6E235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FDBF-E9A4-4EEA-AE7F-82C80750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5963-4537-4362-8BC3-64038F28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3411-5BD9-4C0B-8BA3-298A74AA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730-BF18-4670-98B2-88D98518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C05D-2B05-4BFA-8FE7-353F8D90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5F5C-A755-400A-B723-FD31A5E4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366E-3D2B-4622-B189-FA59C496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D094-17DC-46F0-B01F-243F3CC4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4739-3A53-460A-B8B4-272DC675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015-3592-4A53-B9EA-4047A46A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2397-2E54-4785-BB49-FA0923D6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BCD-94B4-420A-BB17-1C6C0B5F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C04-A1CC-4FB8-A93D-61271CAC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1548-B4B6-4080-A9FE-1D573FC6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B50-DD28-48D6-B1E1-A6617FCD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4D79-38EF-4789-B5C2-CDBDCE03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1E2E-803D-4012-9CF1-4BB6CAFE3D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5BFD-1E14-4E6F-BADF-1DFE113507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áhodný výběr podsouboru (Random Sample of Cas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běrová chyba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valy spolehlivosti pro průmě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valy spolehlivosti pro podí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áhodný výběr podsoubor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SPSS můžeme nechat vybrat náhodný vzorek případů z datového souboru pomocí příkaz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elect Cas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 menu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a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de zvolím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andom Sample of Cas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běrová chyba průměr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tandardní (výběrovou) chybu průměru můžeme vypočítat např. pomocí příkaz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requenci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olb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tatistic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 zatrhneme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.E.mea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b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escriptiv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olb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Option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Výběrová chyba průměru - příklad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GSS93subs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počítejte průměr, směrodatnou odchylku a standardní chybu průměru pro věk prvního sňatku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agewed - Age When First Married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berte náhodný vzorek o velikosti 10% původního souboru a spočítejte totéž, co v prvním příklad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stupně vyberte vzorky o velikosti 15%, 25%, 40%, 50%, 75% a 90% původního souboru a sledujte, jak se mění průměr v dané proměnné a standardní chyba průmě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Intervaly spolehlivosti pro průmě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valy spolehlivosti pro odhad průměru je v SPSS možno vypočítat příkazem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Explor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 menu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nalyze-Descriptive Statistic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nto příkaz počítá také statistiky pro podsoubory osob vymezené nějakou proměnnou (např. pohlaví respondent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Intervaly spolehlivosti pro průmě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íklady (datový soubor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GSS93subse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počítejte 95% interval spolehlivosti pro věk v době prvního sňatku (pro celý soubor a pro muže a ženy zvlášť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počítejte 90% a 99% intervaly spolehlivosti pro věk v době prvního sňat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počítejte 95% interval spolehlivosti pro počet hodin strávených denně sledováním televize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tvhours - Hours Per Day Watching TV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y spolehlivosti pro podí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počítejte 95% interval spolehlivosti pro podíl osob, kter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ouhlasí s trestem smrti za vraždu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cappun - Favor or Oppose Death Penalty for Murder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i myslí, že marihuana by neměla být legalizována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grass - Should Marijuana Be Made Legal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okládají svůj život za vzrušující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life - Is Life Exciting or Dull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nesnášejí heavy metal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hvymetal - Heavy Metal Music, Dislike Very Much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2200"/>
            </a:b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4-13T01:04:24Z</dcterms:modified>
  <cp:revision>256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