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1D78-C47B-4E56-A26E-B99A47149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EC45-49CB-4614-9327-EF1B8B4F5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C05B-3656-488E-B316-01F0E4A57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8ECF-A968-4165-9373-DF3225ADA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B3018-96D1-4340-B453-1C387F8C3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D07AB-68D7-46B6-9C5A-04E2B6D31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C08A6-C315-4240-AAB1-B9C3F2690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7CC8A-9B1C-452C-B151-5257165CD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6B538-AFE1-4694-B939-C77D53F70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157F4-06CF-49FF-9E6D-FD9E43CBE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BDA07-91F6-41B4-8863-F62944C2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2FAB-F84C-403F-80D1-F1F5046CB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B41E3-72B6-4FFA-A585-6A295501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CABD4-E08B-40BB-BD34-EBB78556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7F6AD-5003-4B58-9ADC-098540BAF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1E1B7-B472-4BAB-A7A5-8FB4370DA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A2A9C-D8BA-450D-BD09-9DD3D407D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8205-AC79-4D67-A3B2-746131095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109A-01A2-4CAD-9D63-F99D2CA5F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18DF-2CF8-4A1F-9451-DAEB5694F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60E3-E48E-4DA0-B8B3-0C797AC56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B94B-D2A9-4B3F-97F9-C6DF9932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BCAB-D7C7-4CD6-B849-0A1D9CD9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9D91-8AB9-4A12-931C-9D1ED54E0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50A84-8BFB-4420-BF9A-E9C70CE02D9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F8C6E-51E2-49F5-B6DA-6284F044CB3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Korelační a regresní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catterplo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orel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egresní analýz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tový soubor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mployee da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 které proměnné dokážeme nejlépe předpovědět současný plat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pracovníka?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(proměnná 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salary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j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ko nezávislé proměnné zadejte předchozí zkušenosti pracovníka (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prevexp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vzdělání (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educ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, délku zaměstnání (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jobtim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, příslušnost k minoritě (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minority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Scatterplo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ahoma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ro grafické zobrazení vztahu dvou kardinálních proměnných použijeme </a:t>
            </a:r>
            <a:r>
              <a:rPr b="1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scatterplot</a:t>
            </a: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ahoma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ostup je z položky menu </a:t>
            </a:r>
            <a:r>
              <a:rPr b="0" i="1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s</a:t>
            </a: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Scatter…</a:t>
            </a:r>
            <a:r>
              <a:rPr b="0" i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 Simple</a:t>
            </a: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ahoma"/>
                <a:ea typeface="Tahoma"/>
              </a:rPr>
              <a:t>p</a:t>
            </a:r>
            <a:r>
              <a:rPr b="0" lang="cs-CZ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okud rozlišujeme závislou a nezávislou proměnnou, nezávislá se obvykle zadává jako osa X a závislá jako osa Y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Korela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Pearsonův koeficient spočítáme korelace přes </a:t>
            </a:r>
            <a:r>
              <a:rPr b="0" i="1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</a:t>
            </a: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late </a:t>
            </a:r>
            <a:r>
              <a:rPr b="0" i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 Bivaria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ahoma"/>
              </a:rPr>
              <a:t>pro pořadová data spočítáme Spearmanův koeficient korelace (zatrhneme </a:t>
            </a:r>
            <a:r>
              <a:rPr b="0" i="1" lang="cs-CZ" sz="3000" spc="-1" strike="noStrike">
                <a:solidFill>
                  <a:srgbClr val="000000"/>
                </a:solidFill>
                <a:latin typeface="Tahoma"/>
                <a:ea typeface="Tahoma"/>
              </a:rPr>
              <a:t>Spearman</a:t>
            </a: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ata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zaci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jistěte, zda spolu souvisí inteligence měřená testem ait (proměnná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ait_celk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a školní výsledky, tj. počet bodů v didaktických testech (proměnná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didakt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ouvisí spolu inteligence a postoj ke škole a učení? (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ait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_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celk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a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postoj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atový soubor </a:t>
            </a:r>
            <a:r>
              <a:rPr b="1" i="1" lang="cs-CZ" sz="2600" spc="-1" strike="noStrike">
                <a:solidFill>
                  <a:srgbClr val="000000"/>
                </a:solidFill>
                <a:latin typeface="Verdana"/>
              </a:rPr>
              <a:t>učitelé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europsychická zátěž při práci (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meister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) a délka praxe (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praxe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celková psychická odolnost (celkové hardiness skore –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h.skore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) a neuropsychická zátěž při práci (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meister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celková psychická odolnost (celkové hardiness skore –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h.skore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) a extraverze (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extraver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počítejte korelace ze třetího příkladu bez outliera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má číslo 57 (v souboru je 44.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odstraníte ho pomocí </a:t>
            </a:r>
            <a:br>
              <a:rPr sz="2600"/>
            </a:b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at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elect cases</a:t>
            </a:r>
            <a:br>
              <a:rPr sz="2600"/>
            </a:b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If condition is satisfied </a:t>
            </a:r>
            <a:br>
              <a:rPr sz="2600"/>
            </a:b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cislo ~= 57</a:t>
            </a:r>
            <a:br>
              <a:rPr sz="2600"/>
            </a:b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(korelace se zvýší z 0.307 na 0.372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egresní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ahoma"/>
              </a:rPr>
              <a:t>j</a:t>
            </a: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ednoduchou i mnohonásobnou lineární regresi zadáme z položky menu </a:t>
            </a:r>
            <a:r>
              <a:rPr b="0" i="1" lang="cs-CZ" sz="3000" spc="-1" strike="noStrike">
                <a:solidFill>
                  <a:srgbClr val="000000"/>
                </a:solidFill>
                <a:latin typeface="Tahoma"/>
                <a:ea typeface="Tahoma"/>
              </a:rPr>
              <a:t>Analyze</a:t>
            </a: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Regression</a:t>
            </a: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Linear</a:t>
            </a: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o políčka Dependent zadáme závislou proměnnou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do </a:t>
            </a:r>
            <a:r>
              <a:rPr b="0" i="1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Independent(s)</a:t>
            </a: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 zadáme nezávislou proměnnou (či proměnné - pro mnohonásobnou regresi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egresní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ahoma"/>
              </a:rPr>
              <a:t>z</a:t>
            </a: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volíme metodu, jak mají nezávislé proměnné vstupovat do analýzy standardně je nastavená </a:t>
            </a:r>
            <a:r>
              <a:rPr b="0" i="1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Enter</a:t>
            </a:r>
            <a:r>
              <a:rPr b="0" i="1" lang="cs-CZ" sz="3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ahoma"/>
              </a:rPr>
              <a:t>– všechny najednou</a:t>
            </a: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ále můžeme zadat grafy (</a:t>
            </a:r>
            <a:r>
              <a:rPr b="0" i="1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Plots</a:t>
            </a: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), nechat uložit spočítané hodnoty (např. predikované hodnoty, reziduály apod. - </a:t>
            </a:r>
            <a:r>
              <a:rPr b="0" i="1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Save</a:t>
            </a: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atový soubor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zac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zjistěte, jaký je vztah mezi úrovní obecných rozumových schopností (měřeno testem inteligence AIT) a výsledkem v didaktických testech. (spočítejte jednoduchou regresní analýzu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istěte, které proměnné také ovlivňují výsledek didaktických testů - inteligence, postoj k učení, dobré a špatné chování ve škol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5T18:17:40Z</dcterms:created>
  <dc:creator>Helena Klimusová</dc:creator>
  <dc:description/>
  <dc:language>en-US</dc:language>
  <cp:lastModifiedBy>Helena Klimusová</cp:lastModifiedBy>
  <dcterms:modified xsi:type="dcterms:W3CDTF">2003-05-12T01:03:38Z</dcterms:modified>
  <cp:revision>257</cp:revision>
  <dc:subject/>
  <dc:title>adrenalin expri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