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5A8-D9DF-4229-BBE6-3C35C05D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067-5247-46AC-B7CA-37AE66D3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C8A-6587-439C-B6F4-387CE2D5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4E5-108B-4C17-8490-136DCBA2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5644-FE06-4C86-BD89-BBEFB128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B19-2012-47BC-853F-FAE1589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010-2DE1-4A41-B1F1-FB1DDD8E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4ED2-A0AA-4EAA-8E33-8C703633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CC4E-5354-4ABD-AEAB-FB789DDA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2FD-9E25-48E1-B0A1-0D4D3FFF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E431-AB65-4CC8-9936-DAEAEEB9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4A7-B987-4C1B-85AA-303086DE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9C63-F8C6-4D06-A45B-C56DF760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36A1-26A3-4DF1-AA08-6F0E8543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D78B-02EB-47A9-9AB0-74F5EB53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FA98-5309-46E1-B34A-5709E54B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A4B9-AF1D-469C-B735-CD0287EE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72C-B6EA-4EF4-AAC3-92D433C6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EFC-E871-4945-A12F-0D3DF2FF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163-C717-4821-AB4F-7F55DE0D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37F-22BC-450B-8CCF-79A809C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89D-D9F4-4913-8660-F928235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A15-A0D5-4951-A0C6-1F3ECD6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F60-A7A7-4D7D-A534-7F98952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B618-A412-49F2-873A-EF128480FA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231D-88C2-45DC-A5DD-04F9804503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Explore, krabicové grafy, graf stonek a li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anipulace s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rozdělí soubor podle výsledků v didaktickém testu na dvě polov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y v didaktickém testu zobrazte zvlášť pro žáky z měst, velkoměst a vesnic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rácení polož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některé položky bývají formulovány v opačném směru než zbytek škály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jich hodnoty je třeba překódovat (např. u 5 bodové škály se bude 1 rovnat 5, 2 bude 4 atd. až 5 bude 1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obrácení škál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ová hodnota = nejvyšší hodnota +1 – stará hod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e možno provést pomocí příkazů COMPUTE nebo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počet celkových skó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inou součtem hodnot několika proměnných (příp. průměr atp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azu COMPUTE se zadá příslušný vzorec,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ro souče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p1 + p2 + p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rovnou funkc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30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sum (p1 TO p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loučení hodnot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např. ze 7 bodové škály chceme udělat 3 bodovou; nebo z věku zadaného v letech vytvořit 3 věkové skup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az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z proměnné OBEC novou proměnnou, která rozdělí žáky na žáky z měst (včetně velkoměst) a vesn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bude rozdílem mezi počtem pozitivních a negativních projevů žáků ve šk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rozdíl porovnejte u žáků z městských a vesnických škol (pomocí Explo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05T22:24:10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