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CA8-556B-4471-A768-AC72F082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322-1D92-4D60-91C5-C6423A3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281-37DB-4F72-837B-1EF53ACD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A02-EBAC-406E-86ED-A996F90E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61A-32A3-4E5F-BA45-CD0EA732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186-5803-4BFD-A91E-E59D7EC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DA0-6623-455E-8C16-90C02A3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AE0-B3FC-4CFC-A476-57E0D7B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527-DE65-4370-BDE0-B32C329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2FA-7BBB-42E2-A6FA-8113ECDC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CC01-9F3C-47B7-A809-83D7D30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1F1-C3AA-4227-BC4A-920BA12F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23B-20B6-47A8-9685-B619BB5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501-3BFC-409E-B0E7-79B5DA6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043-B9E5-4A9F-ABFA-22BEB31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DF1-C49C-4BA5-A667-0AFCF82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E88-1CF8-41C3-81D7-4E969512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134-06FF-437A-88AF-EAF93466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1D9-F6C3-444F-9868-0590CEC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90C-45E8-4413-82CE-0002480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5F0-CF53-4BC6-958B-AAA6F5FF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D6B-97BF-4323-BF30-835970A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955-112F-4743-B573-1F48831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582-F5C1-4F3C-AAF2-D2F2EC5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273A-22A5-4FFF-88BB-7D9AA79A54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E2F-D2EE-413C-9FD7-0458060888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pořadov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vydařenost manželství (rodice), tak jej vnímali respondenti u svých rodič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vydařenost respondentova vlastního manželství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manželství podnikatelů méně vydařená? a co manželství učitele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hodnocením vydařeností manželství rodičů a hodnocením dětství respondent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ajdeme v menu pod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Nonparametric T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e si vybereme podle typu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ejte, zda se liší školní prospěch chlapců a dívek, měřený proměnn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r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zněla „Jaké známky jsi měl na posledním vysvědčení?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á má 7 kategorií od 1= převážně jedničky až po 7= převážně čtyřky a pět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ingenční tabulky spočítáme příkaz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Crosst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u nich zadáme tlačítkem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Statistics…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-squa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nebo relativní četnosti atd. zadáme tlačítk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l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3 položky v dotazníku zjišťují výskyt chování pokládaného za nežádoucí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je odpověď na otázku „Už jsi někdy kouřil/a cigarety?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ž jsi někdy podváděl/a při písemce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kradl/a jsi někdy peníze nebo nějakou věc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ší se výskyt některého z těchto nežádoucích projevů u chlapců a dívek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 u studentů různých typů škol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o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ozdíl mezi muži a ženami v tom, koho volili v prezidentských volbách? (proměnné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es9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/ vote for clinton, bush, pero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 rozdíl mezi voliči různého věku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ge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vzdělán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gre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míry spočítáme spolu s kontingenčními tabulkami - Crossta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scriptive Statistics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 zadání proměnných klikneme n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volíme příslušné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model rodinných kompetencí (proměnná model) a vydařenost manželství (rodice), tak jej vnímali respondenti u svých rodič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jsou zvlášť pro muže a ženy - liší se vztah těchto proměnných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9:02Z</dcterms:modified>
  <cp:revision>26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