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4C9-CC4D-4694-82CC-A89AEC22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A04-64B6-43D2-B8AD-701B161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0C3-D739-4DC4-A6AF-582C06F5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EC9-23F8-4306-AF4F-C055DC4A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A568-EBDB-49AE-A160-98557F92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0145-4D6F-464A-82E4-B0AB7061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6CA2-35E6-4EA3-9B4B-F4CEF106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ACA2-9C64-435D-8BBB-0E09E6BC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0CDE-A2F6-4D57-B8B3-62FC0C19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A1C9-0B95-42B2-8B28-CB7FF346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8FDF-09C4-4BE6-BA5C-21CAF3B2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A58-4A21-428B-AC3C-5065F182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A50A-2E83-408C-9745-2D8B3724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745E-C8D6-4AAC-82D2-2070CBE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5A5B-B024-4BEA-9AEF-3D5E5683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3B8F-3CB9-42C9-AF82-444CBF13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6C03-0C9B-4F57-B313-E66FF63F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6A6-6698-412D-B7A8-9B89A47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F6B-104F-418F-AA58-6B727AD1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FBD-6614-4A77-AFC7-B641366C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C2F-D883-4446-A17C-E78BC8B6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958-5463-4AF9-B09E-21369DC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89B-ECEC-4811-9420-E1C5CB55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882-597F-4F2D-9E57-8F1B4B2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9ECB-6B9F-4D19-A416-6A7D736D0F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373-17E1-41AC-BFBB-AE05BDA65F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výběrový t-tes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výběrový t-t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One-Sample T Test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ednovýběrový t-test testuje, zda se průměr konkrétní proměnné liší od zadané hodnoty (např. průměr popula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norma…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One-Sample T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áme testovanou proměnnou a hodnotu (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Test Value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Option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můžeme případně zadat konfidenční interval (je přednastaven na 95%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596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výběrový t-t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Verdana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qvys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V populaci je průměrný IQ skór 100 bodů. Zjistěte, zda se průměrný počet bodů u zkoumaného vzorku liší statisticky významně od populac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ředpokládejme, že průměrná výška mužů v celé populaci je 179,5 cm. Spočítejte, zda se průměrná výška ve výběrovém souboru liší statisticky významně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ndependent-Samples T Test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estuje rozdíly mezi průměry dvou skupin případ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ndependent-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áme testovanou proměnnou (Test Variable) a proměnnou r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ělující soubor na podskupiny (Grouping Variab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!j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 nutno skupiny dále vymezit hodnotami proměnné (Define Group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1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Verdana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istěte, zda je statisticky významný rozdíl mezi průměrným počtem bodů na inteligenční test AIT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ait_celk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mezi žáky programu Obecná škola a žáky základní škol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istěte, zda je statisticky významný rozdíl mezi průměrným počtem bodů na didaktické test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mezi žáky programu Obecná škola a žáky základní škol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aired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nto t-test se používá k porovnání průměrů dvou proměnných u jedné skupiny osob, např. měření před a po působení nějaké proměnné. Jiná možnost je porovnávat skutečné páry osob v určité proměnné (pak musí být tyto proměnné v datech jako jeden případ – pár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aired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80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říkla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 datovém souboru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nx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najdete údaje o úzkostnosti pacientů před terapií a po terapii. Kromě toho, byly pokaždé použity dva dotazníky: v jednom dotazníku posuzovali svou anxietu sami (anx_sub) a ve druhém byli posuzováni nezávislým odborníkem (anx_obj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jistěte, zda se úroveň úzkosti po terapii změnila a zda je rozdíl statisticky významn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alší příklady na procvič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SS93 Sub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průměrný počet dětí v tomto souboru amerických respondentů od evropského průměru 1,79 dítěte (pozn. fiktivní hodnota)?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ild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alší příklady na procvič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1991 U.S. General Social Surve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ší se muži a ženy v míře prestiže jejich povolání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estg8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ší se matky a otcové respondentů v počtu let formálního vzdělání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a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a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liší se respondenti a jejich manželky/manželé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p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9T09:17:10Z</dcterms:modified>
  <cp:revision>270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