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F43-8429-4217-9F0E-473AB498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3B8-3B23-4015-9466-8B923A79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A94-EF1F-46D1-9C18-0B6C2705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C00-D5EA-46DA-98D9-75A649A3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1582-5B0A-4428-8FE7-FC971CEA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C4BC-B816-4D0A-BD44-32DB97E7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9B77-7EB7-4D65-B0FE-5BEFC5FC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6C23-A386-4EE4-B203-8F82871A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7AC1-8C7E-437F-B29A-D62EFAFA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C362-EAB0-4CE6-B47E-7D114FFE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4749-7759-4746-8B24-6D0CE91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B02-358A-4A2D-BD5A-8F0DD6D7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B519-DFB1-4F62-A741-E857B4A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81E5-7AE8-4986-B0CF-3AD32631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CF07-CD65-4768-8F62-82655A03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8C24-E064-47BE-8CD6-9EFE4CC7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156-F36E-47F6-8428-D534A493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770-9C13-4C68-9AA0-E0D0688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B05-E333-459B-944A-F19FB097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656-937A-4164-B140-7D1D057D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358-79EC-4976-86DA-84D6BB9C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E5C-3118-42A2-B8B0-0981534D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2A5-1AB3-4C38-BF90-2E00FFA5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053-18EA-4889-893E-E1ABC62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2B56-C69E-4BB8-8EF0-F1F61542AB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1325-5EE5-4D4E-B9EB-7A9503D495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učite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délkou praxe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rax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prožívanou zátěží při prác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meis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psychickou odolností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h_sko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prožívanou zátěží při prác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meis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šte rozdělení hodnot proměnné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vyjadřující počet bodů v didaktickém testu.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byste řekli o žákovi, který získal 65 bodů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typy škol navštěvovali zkoumaní adolescenti (proměnná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choo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 Zobrazte i grafick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pořadí přisuzovali adolescenti ve svém hodnotovém žebříčku hodnotě "být užitečný společnosti" (proměnná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alue4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 Proměnná je ordinální, rozsah hodnot 1-7, kde 1 je vysoce významná hodnota a 7 nevýznamná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mploye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 kolik průměrně je rozdíl ve výši nástupního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beg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současného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platu? je rozdíl statisticky významný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muži a ženy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ve výši nástupního platu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beg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v počtu let formálního vzdělání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jaký vliv má na výši platu současně pohlaví zaměstnance a případná příslušnost k minoritě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inori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pohlavím zaměstnance a jeho pracovním zařazením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jobc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adolescenti z různých typů škol (school) ve své preferenci 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ít uspokojující práci (value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adolescenti z různých typů škol v položc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už jsi někdy něco ukradl? (stea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chlapci a dívky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v tom, jak jejich rodiče kontrolují, kam jdou večer ven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onit0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9T06:22:05Z</dcterms:modified>
  <cp:revision>299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