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1067-2526-4C2C-822C-2ACB150B3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8F32-20FB-4898-871A-369323DB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BC83-BFDD-4A4D-81FC-D0C9FBB7F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6878-0444-4448-9193-A5F77B38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60FF-B438-47E9-82FC-60D69E16A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FFED-F328-4945-85B6-AEFFDFAE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6EBC-3AE1-46F4-9051-024A0EC2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3238-7611-48A3-9F91-47F70E84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E3C5-473C-4074-BBEA-59AE207F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3A8B-599A-4A77-B593-5F62BCC1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9871-A7D2-43FE-BA1A-F14B78DE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6F31-8AB4-4F2F-B703-EB4CE15E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DC86-BF41-4E30-8D34-9B28483B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0906-F0B6-4F10-92FD-A264062E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EAD1-985E-4CA3-89DE-9DB8CD12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4F4E-7BFE-4137-9145-D1207D517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3C8C-0211-400B-957C-55008FB4E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F285-592A-4DFA-8EE8-2788F0C8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2B6B-BD36-491A-8697-03A59E5E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D40F-F91F-4C37-BF22-C7D18DDE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0C10-A5E7-4F2D-93D3-8F4CDE09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347C-CAED-43CA-ABDD-2F57DA47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D64E-9EB8-4AD3-83B0-FAC1D2C4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3DDE-446F-444E-9D07-702B82B4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9B48-10A7-4F86-9590-6A0569331ED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ECDE-6E2E-4849-832E-4C1132DD2A2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opisná statisti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abulky četností (Frequencie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polohy a variabil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pisné statistiky (Descriptive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abulky četnost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abulky četností vytváříme příkazem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Frequencie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ložka menu ANALYZE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Descriptive statistics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Frequenci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abulky četnost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měnné vybereme ze seznamu zobrazeného vlev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ůžeme rovněž nechat zobrazit grafy (jeho typ zvolíme kliknutím na Chart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 spočítat statistiky (Statistic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běr podsouboru případ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 výběru podsouboru případů, vymezených určitou kategorií proměnné, slouží příkaz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elect Case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položka menu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DA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chceme pouze spočítat výsledky zvlášť pro každou kategorii určité proměnné, použijeme příkaz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plit Fil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tamtéž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 (Frequencie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398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Jaké bylo složení souboru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adolescent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(pohlaví, věk, typ školy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opište, k jakému náboženství se respondenti hlásí, jakou udávájí míru religiozity a frekvence návštěvy kostela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religio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howrelig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churchgo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olik sourozenců adolescenti nejčastěji mají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ib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? a kolik přátel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frndnum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? Kolik % adolescentů má max. 5 přátel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terý z nežádoucích projevů je u adolescentů nejčastější - krádeže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teal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, kouření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moke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 nebo podvádění při písemkách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cheat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? Jak je tomu u dívek a chlapců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Jaké chování adolescentů je pro jejich rodiče nejméně přijatelné?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parfl1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parfl11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Co je nejčastějším předmětem hádek mezi adolescenty a jejich rodiči?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fight1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fight12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Co je nejčastějším předmětem kontroly adolescentů ze strany rodičů?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monit1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monit10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Descriptiv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intervalové a poměrové proměnné můžeme využít příkaz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Descriptive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ložka menu ANALYZE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Descriptive Statistics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Descripti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měnné vybereme ze seznamu zobrazeného vlevo a konkrétní statistiky jsou pod položkou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Options...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Employe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olik mužů a žen? V kterém oddělení je nejvíce pracovníků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aké mají vzdělání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aký je průměrný plat? průměrný nástupní pla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e kterém oddělení jsou nejvyšší platy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sou rozdíly mezi platy mužů a žen?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3-16T07:08:34Z</dcterms:modified>
  <cp:revision>254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