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FEB-EC77-48EB-BCA6-8D6A947F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8D8-A9AC-43DE-ACA1-A7470CC9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E2B-DA91-4764-B8D7-9A95EA97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1AA-1A77-432C-933E-B0B19FBD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8AE2-D201-4B64-B636-857818EB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899A-FAAE-46DC-88D9-D43AB6C6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FB63-5699-454A-99F5-FAFF080A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772E-C0FC-48D1-AE18-4C67FE71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972C-1D6C-41A8-9FE0-4221F80C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E418-BB32-43DF-A22B-04568424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DF8F-7AB3-41C4-992B-AE590FAF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04F-50DB-45CC-8016-74A0D7AD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E261-9C6E-420B-B7B5-7AC9570B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6278-DF67-4C4D-BA93-2742AF3E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570B-0D3D-4B79-93E7-AD1B67D7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AC07-95BB-4541-A7F0-AAE15384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F3DE-E3A9-418D-B343-29370D5C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D50-3D45-4572-A17E-5E42F725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EF3-54D1-484D-B7C7-C5CE7BFB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641-1F9D-4BA9-ABCE-107A4A0A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CF9-6EA4-4869-A626-0CD32D82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EC9C-2D00-4591-9B9D-AB1EEFE4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FEE4-B22F-419B-ADA4-F8E8A026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013-6366-4ECB-90F6-6BA8D81D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163B-C0DC-4B6A-BB7B-68A977F0EA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50E1-E150-4F6E-A061-D45C76939C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ne-way ANO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u rozptylu s jedním faktorem je možno zadat v Compare Means   One-Way ANO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eskriptivní statistiky, grafy a testy homogenity rozptylů se zadávají v Op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nohonásobná porovnání v Post Ho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2492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e žáci z velkoměst, měst a vesnic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ob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liší v průměrném počtu bodů na didaktické testy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ano, který typ obce se průkazně liší od kteréh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statní typy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 zadávají přes Analyze  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General Linear Model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GL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Univariate se zadává faktoriální ANOVA (a ANCOV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Multivariate se zadává vícerozměrná analýza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Repeated Measures se zadává analýza pro opakovaná měř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5940360" y="20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OVA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e žáci z velkoměst, měst a vesnic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ob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žáci s běžnými osnovami a s osnovami Obecná škola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kupin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liší v průměrném počtu bodů na didaktické testy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rvním okně se zadává počet opakování měření (number of level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následujícím okně se přiřadí proměnné z jednotlivých měření a případné další fakto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xiety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sahuje data ze 4 následných měření – počet chyb v testu paměti (proměnné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trial1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ž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trial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stované osoby byly rozděleny na dvě skupiny – s vysokou úzkostí a nízkou úzkostí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xie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e počet chyb v testu mezi jednotlivými měřeními sníž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da se v počtu chyb lišili úzkostní a neúzkost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zda se u těchto dvou skupin lišil průběh testování (snižování chyb v následných měření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dolesc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e dívky a chlapci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liší ve svých hodnotových preferencích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value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ž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value7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14:56Z</dcterms:created>
  <dc:creator>Helena Klimusová</dc:creator>
  <dc:description/>
  <dc:language>en-US</dc:language>
  <cp:lastModifiedBy>Helena</cp:lastModifiedBy>
  <dcterms:modified xsi:type="dcterms:W3CDTF">2004-04-27T05:27:53Z</dcterms:modified>
  <cp:revision>12</cp:revision>
  <dc:subject/>
  <dc:title>Snímek 1</dc:title>
</cp:coreProperties>
</file>