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FCD7-6556-4A2C-AC12-2310B378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1C43-BE48-475F-A67E-2FF2954D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A56-5AA3-4C68-8C8D-99713B62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124-F6C3-4BE8-98B9-D4CAA90D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B78A-1485-4C87-B8CD-C5F51EEF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5D0E-57D5-415C-B2B2-AAC3D121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A344-D36E-4D07-97AE-3FAE1B7B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CAEA-2237-4807-9029-B4A0A1B6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6FA2-618F-4220-B8D8-1B26B8B5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57C7-299C-4B0C-BB94-542EBE9A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1C4F-9C4F-4323-A155-9693ABC7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6BA9-B438-4887-9933-8716E864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16AE-7E8B-4446-B945-84960725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57EF-D13C-4E10-AB67-047D6BE7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CABC-2C0E-4C5A-AA03-7C615F62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5921-7B7B-4DAB-83EE-0E40C5EA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C9DB-FA5A-49B5-AF5A-D2F90F17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3B5-8ACD-4B52-B549-1BC2E06F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7241-EF55-4DAB-9793-70A8C086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674F-6F51-41B8-A0C1-A644321E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158E-9F74-4231-BA1A-745885C6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3CDC-3EC3-486E-BF85-28080BEF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12C-AE65-4F5E-85C9-4BADFC27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DFDD-9DFF-44D2-B9DA-56257065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40A3-B4B3-44E1-8A9C-835030AF66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3E81-49FB-4E4E-94D5-9E80BDD864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ne-way ANOV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u rozptylu s jedním faktorem je možno zadat v Compare Means   One-Way ANO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eskriptivní statistiky, grafy a testy homogenity rozptylů se zadávají v Op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nohonásobná porovnání v Post Ho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2492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e žáci z velkoměst, měst a vesnic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obe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liší v průměrném počtu bodů na didaktické testy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idak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ano, který typ obce se průkazně liší od kteréh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statní typy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 zadávají přes Analyze  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General Linear Model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GL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Univariate se zadává faktoriální ANOVA (a ANCOV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Multivariate se zadává vícerozměrná analýza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Repeated Measures se zadává analýza pro opakovaná měř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5940360" y="206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OVA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e žáci z velkoměst, měst a vesnic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obe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žáci s běžnými osnovami a s osnovami Obecná škola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kupin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liší v průměrném počtu bodů na didaktické testy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idak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aná měř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rvním okně se zadává počet opakování měření (number of level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následujícím okně se přiřadí proměnné z jednotlivých měření a případné další fakto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aná měření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xiety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sahuje data ze 4 následných měření – počet chyb v testu paměti (proměnné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trial1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ž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trial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stované osoby byly rozděleny na dvě skupiny – s vysokou úzkostí a nízkou úzkostí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xie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aná měření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e počet chyb v testu mezi jednotlivými měřeními sníž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da se v počtu chyb lišili úzkostní a neúzkost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 zda se u těchto dvou skupin lišil průběh testování (snižování chyb v následných měřeníc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dolesc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e dívky a chlapci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e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liší ve svých hodnotových preferencích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value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ž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value7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14:56Z</dcterms:created>
  <dc:creator>Helena Klimusová</dc:creator>
  <dc:description/>
  <dc:language>en-US</dc:language>
  <cp:lastModifiedBy>Helena</cp:lastModifiedBy>
  <dcterms:modified xsi:type="dcterms:W3CDTF">2004-04-27T05:27:53Z</dcterms:modified>
  <cp:revision>12</cp:revision>
  <dc:subject/>
  <dc:title>Snímek 1</dc:title>
</cp:coreProperties>
</file>