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A44-2729-4533-8CBE-A1DB622A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EAE-193C-4166-88DC-EE95102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69C-483A-4485-B389-C7B53D88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14F-67B2-4909-92C9-96D4B6DE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D6BE-651E-4DF8-BB10-22736E3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F7DB-C97A-4AE1-ACDB-6B4860AE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0292-BE8D-4A02-8A5F-C5614CD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303-EB84-42E2-B13C-5753FB20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D886-F116-452C-9926-2C85DE9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9CEC-4D71-4098-B64E-97AF7542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6FB-060A-454B-8878-8527C35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71B-655A-4DBC-A7FA-C4868AAF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B06B-96C2-42B1-BFBF-DA953BB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0D83-E95B-41A6-A038-199D64F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728A-1014-46BC-BFE4-78252B3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B10-75B4-4A1E-B406-64FD877E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EE1D-64B9-4C94-BD61-8D96AC68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0DB-E613-4F04-B576-DCEE6BA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028-DF10-4F6E-81E2-EC9CB50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5FA-D13F-42F6-BF52-CFD2958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48A-E40B-442A-A2A9-BD572F3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6CB-A821-4CE8-A717-9300ED5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D5D-4192-4AF6-B66D-286A169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0DA-20A9-4F0B-A340-4EAE9E0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241C-0941-4969-BF09-399B2F8B92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A20-AA94-42BD-B5BF-A27383C1E1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výběrový t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ednovýběrový t-test testuje, zda se průměr konkrétní proměnné liší od zadané hodnoty (např. průměr popula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norma…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a hodnotu (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Test Value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můžeme případně zadat konfidenční interval (je přednastaven na 95%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59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qvys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 populaci je průměrný IQ skór 100 bodů. Zjistěte, zda se průměrný počet bodů u zkoumaného vzorku liší statisticky významně od popula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ředpokládejme, že průměrná výška mužů v celé populaci je 179,5 cm. Spočítejte, zda se průměrná výška ve výběrovém souboru liší statisticky významně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stuje rozdíly mezi průměry dvou skupin případ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(Test Variable) a proměnnou r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ělující soubor na podskupiny (Grouping Variab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!j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 nutno skupiny dále vymezit hodnotami proměnné (Define Group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inteligenční test AIT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didaktické test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to t-test se používá k porovnání průměrů dvou proměnných u jedné skupiny osob, např. měření před a po působení nějaké proměnné. Jiná možnost je porovnávat skutečné páry osob v určité proměnné (pak musí být tyto proměnné v datech jako jeden případ – pá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80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íkla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 datovém soubor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nx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ajdete údaje o úzkostnosti pacientů před terapií a po terapii. Kromě toho, byly pokaždé použity dva dotazníky: v jednom dotazníku posuzovali svou anxietu sami (anx_sub) a ve druhém byli posuzováni nezávislým odborníkem (anx_obj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zda se úroveň úzkosti po terapii změnila a zda je rozdíl statisticky význam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SS93 Sub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průměrný počet dětí v tomto souboru amerických respondentů od evropského průměru 1,79 dítěte (pozn. fiktivní hodnota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ld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1991 U.S. General Social Surve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uži a ženy v míře prestiže jejich povo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stg8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atky a otcové respondentů v počtu let formálního vzdě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liší se respondenti a jejich manželky/manželé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p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9T09:17:10Z</dcterms:modified>
  <cp:revision>270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