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99E-EAE1-4547-95B5-5C366FCC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5AE-E232-4CE3-BE8C-1197B83B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40A-80C9-4972-981A-17F2B6A5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393-CD0F-4182-9E20-10D3D45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B250-A207-472C-BBF8-B8646315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D4F3-C3E8-497D-A9B1-DBD5070F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3ED-9F3B-439D-B07C-DE503B25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E94-94DF-491C-A3A4-A77146BB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6803-CCCF-4190-85C7-80F0BB5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742-32A8-4300-86F5-FB64148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5387-21DB-4479-BB02-10563E7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E8C-861D-4BCE-9B6C-D2319F0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0F3A-313E-4746-B035-370F5DC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E61F-7720-4489-B652-F5ACD57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3B7F-572A-40DF-8D8D-42943C2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8083-B337-4F39-8302-1CB59A5B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ECBA-8F2C-4920-89DB-7617B261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25A-239D-4A84-BE1E-C1210C90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858-0182-45A0-B249-2D76828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6BE-5741-4C0F-8A33-31BB678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17C-FA99-492D-BB76-1B19C7F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F9E-7C86-4A31-853A-8AD2E97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4BD-926A-401F-8F3D-CBC4247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96E-FB36-4008-BE9B-EDFEA08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E063-AC56-47E6-A558-72A1EF2E1C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6CD-5181-451F-BCCF-B658226C86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pořadov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vydařenost manželství (rodice), tak jej vnímali respondenti u svých rodič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vydařenost respondentova vlastního manželství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manželství podnikatelů méně vydařená? a co manželství učitele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hodnocením vydařeností manželství rodičů a hodnocením dětství respondent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ajdeme v menu pod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Nonparametric T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e si vybereme podle typu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ejte, zda se liší školní prospěch chlapců a dívek, měřený proměnn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r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zněla „Jaké známky jsi měl na posledním vysvědčení?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á má 7 kategorií od 1= převážně jedničky až po 7= převážně čtyřky a pět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ingenční tabulky spočítáme příkaz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Crosst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u nich zadáme tlačítkem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Statistics…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-squa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nebo relativní četnosti atd. zadáme tlačítk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l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3 položky v dotazníku zjišťují výskyt chování pokládaného za nežádoucí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je odpověď na otázku „Už jsi někdy kouřil/a cigarety?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ž jsi někdy podváděl/a při písemce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kradl/a jsi někdy peníze nebo nějakou věc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ší se výskyt některého z těchto nežádoucích projevů u chlapců a dívek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 u studentů různých typů škol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o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ozdíl mezi muži a ženami v tom, koho volili v prezidentských volbách? (proměnné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es9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/ vote for clinton, bush, pero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 rozdíl mezi voliči různého věku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ge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vzdělán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gre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míry spočítáme spolu s kontingenčními tabulkami - Crossta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scriptive Statistics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 zadání proměnných klikneme n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volíme příslušné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model rodinných kompetencí (proměnná model) a vydařenost manželství (rodice), tak jej vnímali respondenti u svých rodič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jsou zvlášť pro muže a ženy - liší se vztah těchto proměnných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9:02Z</dcterms:modified>
  <cp:revision>26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