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242-89F0-44A3-86A1-77B5F60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F3D-3227-4BD6-BC56-96AA322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674-FD1B-467D-B12E-3F30A905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9BA-1604-4DF7-93EF-20B6151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8E2D-E708-45F6-80A9-BCED3102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3187-6355-47A2-A334-444D214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3C0B-B785-4AD9-A272-EE08602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DAC7-2496-4F1B-ACAE-2C9E63AC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0427-FD84-49F3-B028-9173E2D1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ADE-F8F0-4AAB-A911-52D72979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DF9-FE84-44E0-AA0D-742513C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5BC-EEF1-4D0A-BBB6-90E63126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E87-332F-44DA-86E3-FD7E81C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529A-4C7A-40AB-B933-2D6ED26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E387-6FE3-44F0-A700-3AB9BCD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3A6-9741-48E7-B4B9-81741DDD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4000-787D-42A3-B5FE-2976409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766-5950-4FDF-8F52-0DC0CAD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D9A-23A9-4D0D-A1A2-45D8EC38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CBC-E3B6-4CDA-AAA5-97A8295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8FF-EA71-4940-8DD5-702D1D0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11F-E27F-4D58-9015-C92F265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328-A6BB-4131-BF7A-14F54341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456-89BD-436A-85EF-9C164D3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343A-6384-406A-872A-A9042E89F6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53CE-8F0D-4161-ACE5-49BAC7E64F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délkou prax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sychickou odolnost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h_sk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šte rozdělení hodnot 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vyjadřující počet bodů v didaktickém testu.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byste řekli o žákovi, který získal 65 bodů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škol navštěvovali zkoumaní adolescenti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Zobrazte i grafick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pořadí přisuzovali adolescenti ve svém hodnotovém žebříčku hodnotě "být užitečný společnosti"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alue4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Proměnná je ordinální, rozsah hodnot 1-7, kde 1 je vysoce významná hodnota a 7 nevýznamná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 kolik průměrně je rozdíl ve výši nástupní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současné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platu? je rozdíl statisticky významný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muži a žen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e výši nástupního platu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v počtu let formálního vzdělán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jaký vliv má na výši platu současně pohlaví zaměstnance a případná příslušnost k minoritě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ohlavím zaměstnance a jeho pracovním zařazením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job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(school) ve své preferenci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ít uspokojující práci (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v polož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už jsi někdy něco ukradl? (stea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chlapci a dívk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 tom, jak jejich rodiče kontrolují, kam jdou večer ven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onit0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9T06:22:05Z</dcterms:modified>
  <cp:revision>299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