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198-7A2C-4F2F-97B1-E4E96B40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308-032D-4195-8739-431474AC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043-F9CB-41C5-ADBC-478E39B1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F17-06BF-44FB-8F50-9DC76137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D492-A920-45F6-9EB2-32E1B937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02BB-348B-4EDD-A26C-02919B13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4EEB-8174-4820-977F-AF1788CD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0EA1-55EC-43C0-8576-56902A02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2F32-0790-409D-8CEE-5053AAD4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A96C-8469-4BA8-A9DD-F05B67D0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D9BA-60FF-4E99-A89F-646BE43E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094-C238-4A92-ADBA-8A1B883C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3A8D-E32E-4E54-816A-4FCC0B3C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4D3A-D2CA-4C49-8693-0C86FCA2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C711-A507-4195-9DBD-1427E314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63B6-7CB7-491F-BCC6-6497AFA0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07E2-C439-4C9C-86A0-ADD31B91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F03-DBBC-4F38-AA97-2D25BC52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8D4-3BCF-45B2-AFD4-D919D564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132-8638-4C56-8E38-301E9F70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6C7-1E86-4188-B5F5-F1B71473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B8A-1A07-4ECD-868B-6C402B1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44C-7A83-43AB-A026-1A080C80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BBB-6146-43C2-8944-ED5C4A50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EFFF-AEF4-4E1D-9A5F-44441B7B57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FA3-9B67-4300-B801-C34C2E741A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(Frequenc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a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sné statistiky (Descriptiv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vytváříme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requenc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rovněž nechat zobrazit grafy (jeho typ zvolíme kliknutím na Char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spočítat statistiky (Statistic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 podsouboru případ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 výběru podsouboru případů, vymezených určitou kategorií proměnné, slouží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ložka men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pouze spočítat výsledky zvlášť pro každou kategorii určité proměnné, použijeme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lit Fi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amtéž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 (Frequenci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bylo složení souboru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dolescen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ohlaví, věk, typ školy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pište, k jakému náboženství se respondenti hlásí, jakou udávájí míru religiozity a frekvence návštěvy kostela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relig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wrelig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urchgo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lik sourozenců adolescenti nejčastěji maj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ib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a kolik přátel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rndn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Kolik % adolescentů má max. 5 přát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terý z nežádoucích projevů je u adolescentů nejčastější - krádeže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, kouřen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nebo podvádění při písemkách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Jak je tomu u dívek a chlapců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chování adolescentů je pro jejich rodiče nejméně přijatelné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kontroly adolescentů ze strany rodičů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0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crip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intervalové a poměrové proměnné můžeme využít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a konkrétní statistiky jsou pod položk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ptions...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mploye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lik mužů a žen? V kterém oddělení je nejvíce pracovníků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mají vzdělání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ý je průměrný plat? průměrný nástupní pl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 kterém oddělení jsou nejvyšší pla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rozdíly mezi platy mužů a žen?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8:34Z</dcterms:modified>
  <cp:revision>25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