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D23-4FC8-4AB0-813A-967EDB5F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3A1-AC69-4C2D-BBF9-ADFD2CDE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4DF-B0A3-474F-92C3-DCA3912A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F90-4E24-4360-8139-A4822DDE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AC7D-4D7A-41F8-963D-B51DC0EE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E6DA-B353-4524-B68A-5E9E7C56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A32D-0736-4319-AA20-B712D830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F37E-BA28-472F-91BD-F88D0DE3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FBB7-E59A-490A-9ED8-38CA94B0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8AC5-7594-4044-9734-DAEA92EF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2E23-1912-4A6A-B02D-5E3F0981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280-8B34-4F53-933A-699AAD8B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D827-0A47-417E-81D2-01EFB96B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2663-AF8C-42E4-9E85-79C246F9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DB8B-5294-44F0-8298-7775455C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DDFD-F668-4C80-90D8-EE3F2FDC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ECF1-EFBB-4441-B43B-95645F9C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76B-2513-4A3C-8AD1-3CC06E0C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D13-0A2E-4050-B727-29AC424F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749-DFB1-4537-9E49-7AD3A4EB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9AC-8EAB-4666-B612-2B480E8D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888-0418-4F8E-B9C7-C630CE41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82A-29F5-427C-8FAD-A919433A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85A-6E8A-42BC-A9B2-422EB425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B4EB-876E-4CBE-AA88-06953C2EFD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C385-1604-49B0-A885-9948F96E60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cedura Explore, krabicové grafy, graf stonek a li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anipulace s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novou proměnnou, která rozdělí soubor podle výsledků v didaktickém testu na dvě polovi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popisné statistiky všech proměnných, zobrazte 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rdinální proměnné použijte proceduru Expl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popisné statistiky všech proměnných, zobrazte 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rdinální proměnné použijte proceduru Expl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sledky v didaktickém testu zobrazte zvlášť pro žáky z měst, velkoměst a vesnic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brácení polože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některé položky bývají formulovány v opačném směru než zbytek škály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jich hodnoty je třeba překódovat (např. u 5 bodové škály se bude 1 rovnat 5, 2 bude 4 atd. až 5 bude 1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orec pro obrácení škál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ová hodnota = nejvyšší hodnota +1 – stará hod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e možno provést pomocí příkazů COMPUTE nebo RE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počet celkových skórů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inou součtem hodnot několika proměnných (příp. průměr atp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azu COMPUTE se zadá příslušný vzorec,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pro součet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elk = p1 + p2 + p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rovnou funkce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br>
              <a:rPr sz="3000"/>
            </a:b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elk = sum (p1 TO p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loučení hodnot proměnný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např. ze 7 bodové škály chceme udělat 3 bodovou; nebo z věku zadaného v letech vytvořit 3 věkové skupi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az RE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z proměnné OBEC novou proměnnou, která rozdělí žáky na žáky z měst (včetně velkoměst) a vesn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novou proměnnou, která bude rozdílem mezi počtem pozitivních a negativních projevů žáků ve ško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rozdíl porovnejte u žáků z městských a vesnických škol (pomocí Explor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05T22:24:10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