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FDF-194A-446E-A3C3-EF55EDAD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1FC-B600-4093-B4C7-2C8C6FF4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AC9-606F-41D2-87D4-DFE07793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917-F0AE-44BA-851D-672246BA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852C-BEB9-4523-8677-D366B40A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2F35-3F63-4357-AAF6-C276618D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CA04-4806-4088-B940-50AAD39B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726E-A69C-4937-A8F0-E9393991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9B53-7CF6-4FDE-A2C5-4332D27A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A7F9-EE2A-4949-91D1-D2B43D67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310F-C323-48A1-B92E-1CCD30F6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AA5-0978-4447-ADED-7E3F947B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EEAC-5AB6-44FB-A224-DDDCA11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8CF8-D692-45B3-B227-C537E20A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8FF9-90B6-4DE7-BC57-57248BA8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1CF9-D0FF-4581-8B6C-1CAAD20D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93B8-9678-447F-B433-F40864FD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931-4894-4DB9-B47E-83E3A051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3B0-BEE0-4EBF-A7A3-8D6E826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7AF-D4E5-4D30-A9B8-816E9899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21B-0612-4EEE-A1BE-0DE17E07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A88-CE59-432B-A679-D2E21A9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F74-3B27-4710-ABC2-1B202657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0AF-863A-4EC4-9629-67500632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1EF6-DBD1-4762-A7CB-87FD5A1187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2A94-A404-42A5-B140-0D7A779BE7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(Frequenc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a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sné statistiky (Descripti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vytváříme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requenc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rovněž nechat zobrazit grafy (jeho typ zvolíme kliknutím na Char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spočítat statistiky (Statist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 podsouboru případ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 výběru podsouboru případů, vymezených určitou kategorií proměnné, slouží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ložka men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pouze spočítat výsledky zvlášť pro každou kategorii určité proměnné, použijeme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lit Fi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amtéž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 (Frequenci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bylo složení soubor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olescen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ohlaví, věk, typ školy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pište, k jakému náboženství se respondenti hlásí, jakou udávájí míru religiozity a frekvence návštěvy kostela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relig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wreli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urchgo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ik sourozenců adolescenti nejčastěji maj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ib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a kolik přátel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rndn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Kolik % adolescentů má max. 5 přát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terý z nežádoucích projevů je u adolescentů nejčastější - krádeže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, kouřen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nebo podvádění při písemkách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Jak je tomu u dívek a chlapců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chování adolescentů je pro jejich rodiče nejméně přijatelné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kontroly adolescentů ze strany rodičů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0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crip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intervalové a poměrové proměnné můžeme využít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a konkrétní statistiky jsou pod položk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ptions..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lik mužů a žen? V kterém oddělení je nejvíce pracovníků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mají vzdělání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ý je průměrný plat? průměrný nástupní pl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 kterém oddělení jsou nejvyšší pla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rozdíly mezi platy mužů a žen?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3-16T23:27:05Z</dcterms:modified>
  <cp:revision>25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