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AC1-8B25-4452-98FF-42838A47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6B7-7194-42A5-9632-C1F7C8F4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720-42FC-4BB8-AEC2-B40FAA19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E9C-D1D1-4F56-9425-37DF46B8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D4ED-C1FC-45C1-BFBC-056EC4DB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A028-BB1F-4DC6-8C72-5EE868AF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8936-B739-41AF-9EC2-9516771D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41E9-C3C3-42DB-BB13-80BE0650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5FC0-BB74-4B4B-8BF2-C26AFCC3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D791-8A61-45ED-8719-1D392C64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C65A-A95D-499D-A4B3-777FA70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29A-D00A-4B06-B6C8-A3E42E7E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24A4-5562-4FA2-8572-F8622A1F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D6DE-9E36-4A33-B3B8-C8DFE73E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98B4-7690-4B29-8AA9-2091CE8F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CFC-1354-484D-AAD0-448192EB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E678-DE06-45AC-8B2A-6D8A0FAA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395-50A3-42E2-B7FE-473E2F4F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BC4-7C22-471F-AE79-3B3CE7B7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C8A-BA57-4C75-9EDC-302900E7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3C7-DC76-4DA0-AB4C-62EFBDE4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226-B8A7-4D16-B233-ABF4BCF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BF3-CB0F-4292-8829-0E283EF0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1D9-4A5E-4BC7-A6A6-AB7E718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FC29-0558-41DC-B845-4C680854DC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116E-2A55-4A34-B3C7-33D9DD2105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podsouboru (Random Sample of Cas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ová chyb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podí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áhodný výběr podsoubor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můžeme nechat vybrat náhodný vzorek případů z datového souboru pomocí příkaz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de zvolím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andom Sample of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ová chyba průměr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ní (výběrovou) chybu průměru můžeme vypočítat např. pomocí příkaz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olb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atistic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zatrhnem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.E.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olb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ption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Výběrová chyba průměru - příklad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GSS93sub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průměr, směrodatnou odchylku a standardní chybu průměru pro věk prvního sňatku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agewed - Age When First Marrie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berte náhodný vzorek o velikosti 10% původního souboru a spočítejte totéž, co v prvním příklad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stupně vyberte vzorky o velikosti 15%, 25%, 40%, 50%, 75% a 90% původního souboru a sledujte, jak se mění průměr v dané proměnné a standardní chyba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odhad průměru je v SPSS možno vypočítat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xplo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-Descriptive Statistic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příkaz počítá také statistiky pro podsoubory osob vymezené nějakou proměnnou (např. pohlaví responden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y (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GSS93subs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věk v době prvního sňatku (pro celý soubor a pro muže a ženy zvlášť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0% a 99% intervaly spolehlivosti pro věk v době prvního sňat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počet hodin strávených denně sledováním televiz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tvhours - Hours Per Day Watching TV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y spolehlivosti pro podí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podíl osob, kter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ouhlasí s trestem smrti za vražd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cappun - Favor or Oppose Death Penalty for Murder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i myslí, že marihuana by neměla být legalizována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grass - Should Marijuana Be Made Legal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kládají svůj život za vzrušující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life - Is Life Exciting or Dull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snášejí heavy metal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hvymetal - Heavy Metal Music, Dislike Very Much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04:24Z</dcterms:modified>
  <cp:revision>256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