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71770-B961-49D1-8C5D-01EA3144E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84EB5-FAC2-416B-8FF2-52610EA74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47C93-828D-4E15-A4FD-2E2EE2765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CA8A9-5BD9-4427-ABCA-9E4DD89C0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BCEC8-DAF2-42EB-A33D-F4E24C68F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76257-C9F0-4D2B-BF13-79629F4A1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C48D0-2886-481D-9406-3F4F7781B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D39B7-F9E9-45B7-B73D-9E45BA537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C6E03-6F72-4D89-B9DF-23769477C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2B1EB-D0DC-4FA3-BE51-A078A7DBA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2BB9F-0C74-4FCD-97DF-E2FF7A1AD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E7E4A-725F-4732-A39C-8263B7353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C543E-2656-44F4-A13B-5332E9847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F3D60-2FC2-429D-8E6F-F7691C3D0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25AB7-D21E-4BF3-9D88-ECBADC100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1BADD-CC04-460F-9EA3-A9B46093E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C358F-5EB0-4A78-93FD-009605EE4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B2580-4319-485D-9A66-2E941CB82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F1E5D-BB1A-491F-B318-A1B59B193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63EC8-2E87-4E2B-A428-02380EF74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AFE83-64AE-4287-9C8C-BE39E2A4A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5A748-C6B7-4434-87F1-1AD177DEB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1F39C-6807-44DD-9F82-302630A25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FF480-E098-4171-A392-4DBDC0C9C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460AB-5958-4D16-B06C-26DF8714813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A1672-6621-40FA-8215-50A5F0FC4AE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Příprava dat před analýzou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uspořádání d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kontrola přesnosti d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vytvoření struktury databáz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vkládání dat do PC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transformace d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Příklad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 u="sng">
                <a:solidFill>
                  <a:srgbClr val="000000"/>
                </a:solidFill>
                <a:uFillTx/>
                <a:latin typeface="Verdana"/>
              </a:rPr>
              <a:t>Vytvořte strukturu databáze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, obsahující tyto proměnné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číslo osob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jméno osob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věk (v letech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ohlaví </a:t>
            </a:r>
            <a:br>
              <a:rPr sz="3000"/>
            </a:b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(0 = muž, 1 = žena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Příklad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rodinný stav </a:t>
            </a:r>
            <a:br>
              <a:rPr sz="3000"/>
            </a:b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(0 = svobodný, 1 = ženatý/vdaná, 2 = rozvedený, 3 =vdovec/vdova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říjem (Kč/měsíc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očet dětí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Příklad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odpověď na položku </a:t>
            </a:r>
            <a:r>
              <a:rPr b="0" i="1" lang="cs-CZ" sz="2600" spc="-1" strike="noStrike">
                <a:solidFill>
                  <a:srgbClr val="000000"/>
                </a:solidFill>
                <a:latin typeface="Verdana"/>
              </a:rPr>
              <a:t>Většinou jsem se sebou spokojen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odpověď na položku </a:t>
            </a:r>
            <a:r>
              <a:rPr b="0" i="1" lang="cs-CZ" sz="2600" spc="-1" strike="noStrike">
                <a:solidFill>
                  <a:srgbClr val="000000"/>
                </a:solidFill>
                <a:latin typeface="Verdana"/>
              </a:rPr>
              <a:t>Občas si připadám jako bezcenný člověk</a:t>
            </a:r>
            <a:br>
              <a:rPr sz="2600"/>
            </a:br>
            <a:r>
              <a:rPr b="0" i="1" lang="cs-CZ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odpověď na položku </a:t>
            </a:r>
            <a:r>
              <a:rPr b="0" i="1" lang="cs-CZ" sz="2600" spc="-1" strike="noStrike">
                <a:solidFill>
                  <a:srgbClr val="000000"/>
                </a:solidFill>
                <a:latin typeface="Verdana"/>
              </a:rPr>
              <a:t>Mám sám sebe rád</a:t>
            </a:r>
            <a:br>
              <a:rPr sz="2600"/>
            </a:br>
            <a:r>
              <a:rPr b="0" i="1" lang="cs-CZ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(1 = vůbec nesouhlasím, 2 = spíše nesouhlasím, 3 = něco mezi,  4 = spíše souhlasím, 5 = zcela souhlasím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Příklad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 u="sng">
                <a:solidFill>
                  <a:srgbClr val="000000"/>
                </a:solidFill>
                <a:uFillTx/>
                <a:latin typeface="Verdana"/>
              </a:rPr>
              <a:t>Data uložte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do souboru pod názvem </a:t>
            </a:r>
            <a:r>
              <a:rPr b="0" i="1" lang="cs-CZ" sz="3000" spc="-1" strike="noStrike">
                <a:solidFill>
                  <a:srgbClr val="000000"/>
                </a:solidFill>
                <a:latin typeface="Verdana"/>
              </a:rPr>
              <a:t>estee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 u="sng">
                <a:solidFill>
                  <a:srgbClr val="000000"/>
                </a:solidFill>
                <a:uFillTx/>
                <a:latin typeface="Verdana"/>
              </a:rPr>
              <a:t>Zadejte fiktivní data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5 – 10 osob: u jedné z osob budou některé údaje chybět (např. neuvedla příjem a odpověď na položku 8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 u="sng">
                <a:solidFill>
                  <a:srgbClr val="000000"/>
                </a:solidFill>
                <a:uFillTx/>
                <a:latin typeface="Verdana"/>
              </a:rPr>
              <a:t>Zkontrolujte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, zda rozsah hodnot proměnných u zadaných dat odpovídá předpokládanému rozsahu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Příklad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 u="sng">
                <a:solidFill>
                  <a:srgbClr val="000000"/>
                </a:solidFill>
                <a:uFillTx/>
                <a:latin typeface="Verdana"/>
              </a:rPr>
              <a:t>Vytvořte novou proměnnou – celkové sebehodnocení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, která bude průměrem z položek 8 – 10</a:t>
            </a:r>
            <a:br>
              <a:rPr sz="3000"/>
            </a:b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(! Ještě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předtím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je třeba </a:t>
            </a:r>
            <a:r>
              <a:rPr b="0" lang="cs-CZ" sz="3000" spc="-1" strike="noStrike" u="sng">
                <a:solidFill>
                  <a:srgbClr val="000000"/>
                </a:solidFill>
                <a:uFillTx/>
                <a:latin typeface="Verdana"/>
              </a:rPr>
              <a:t>obrátit položku 9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, která je formulována v opačném směru než ostatní dvě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Příklad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 u="sng">
                <a:solidFill>
                  <a:srgbClr val="000000"/>
                </a:solidFill>
                <a:uFillTx/>
                <a:latin typeface="Verdana"/>
              </a:rPr>
              <a:t>Vytvořte novou proměnnou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, která rozdělí soubor na dvě skupiny – </a:t>
            </a:r>
            <a:r>
              <a:rPr b="0" lang="cs-CZ" sz="2600" spc="-1" strike="noStrike" u="sng">
                <a:solidFill>
                  <a:srgbClr val="000000"/>
                </a:solidFill>
                <a:uFillTx/>
                <a:latin typeface="Verdana"/>
              </a:rPr>
              <a:t>bezdětné osoby a osoby s alespoň jedním dítětem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(zachovejte i hodnoty původní proměnné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 u="sng">
                <a:solidFill>
                  <a:srgbClr val="000000"/>
                </a:solidFill>
                <a:uFillTx/>
                <a:latin typeface="Verdana"/>
              </a:rPr>
              <a:t>Vytvořte novou proměnnou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, která rozdělí soubor na </a:t>
            </a:r>
            <a:r>
              <a:rPr b="0" lang="cs-CZ" sz="2600" spc="-1" strike="noStrike" u="sng">
                <a:solidFill>
                  <a:srgbClr val="000000"/>
                </a:solidFill>
                <a:uFillTx/>
                <a:latin typeface="Verdana"/>
              </a:rPr>
              <a:t>tři příjmové skupiny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– osoby s příjmem pod 10 tis. Kč, 10 tis. – 20 tis. Kč a nad 20 tis. Kč (zachovejte i hodnoty původní proměnné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Příklad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u všech proměnných (včetně nově vytvořených) určete, </a:t>
            </a:r>
            <a:r>
              <a:rPr b="0" lang="cs-CZ" sz="3000" spc="-1" strike="noStrike" u="sng">
                <a:solidFill>
                  <a:srgbClr val="000000"/>
                </a:solidFill>
                <a:uFillTx/>
                <a:latin typeface="Verdana"/>
              </a:rPr>
              <a:t>na jaké úrovni měření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jsou měřen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5T18:17:40Z</dcterms:created>
  <dc:creator>Helena Klimusová</dc:creator>
  <dc:description/>
  <dc:language>en-US</dc:language>
  <cp:lastModifiedBy>Helena</cp:lastModifiedBy>
  <dcterms:modified xsi:type="dcterms:W3CDTF">2004-03-02T06:37:30Z</dcterms:modified>
  <cp:revision>213</cp:revision>
  <dc:subject/>
  <dc:title>adrenalin exprime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5</vt:r8>
  </property>
</Properties>
</file>