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C681-D664-4EBD-8F38-C616A051A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7697-BC0E-48C5-8EE5-B2C98F1B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36E1-FEB4-4798-A208-3EA9B92E1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107A-8117-4DBA-87FC-DE942A81D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87E3-D05A-4DBC-9CAB-CA06FF026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6BB2-F131-4C91-827F-A407B5AC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250A-F4B6-4DB5-91F7-D34B37C9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B1DBF-4055-482D-85B9-90129D0A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AD66-9892-45DA-B86A-0286232E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4A13-0F5D-4E74-874D-423A254C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F954-50D3-4791-A794-0CE8561A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5B92-0953-4CBA-9C27-14852AD3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ECDF-6CE9-4DC7-AEE8-B568E0F8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7E72-4B32-4EC0-84CE-D1765CDB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C34A-4281-4242-B298-3487390D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F78E-481A-46CC-9A5E-AD9ED380E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2A3C-7290-4528-8BFA-4C06C8B89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273A-1148-4810-B5B1-0C3385D8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815F-B50B-4300-8C29-2F23F147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80E5-3B7C-4E03-BEA1-18DA7970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F76C-AA56-4188-964C-7B3BF6EE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017C-93C6-48E3-891B-8CBD41F9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7F8F-F7D5-4EAC-9CB2-69E22138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8F78-AA77-453C-A021-9BFAA245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659E-EB33-4CF6-BB57-6EA4F1D1819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878E-A6E9-4C0F-8D71-CE096A8878E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Korelační a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catterplo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orel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egresní analýz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tový soubor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mployee da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 které proměnné dokážeme nejlépe předpovědět současný pla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pracovníka?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(proměnná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salary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ko nezávislé proměnné zadejte předchozí zkušenosti pracovníka (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prevexp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vzdělání (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educ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, délku zaměstnání (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jobtim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, příslušnost k minoritě (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minority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catterpl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ro grafické zobrazení vztahu dvou kardinálních proměnných použijeme </a:t>
            </a:r>
            <a:r>
              <a:rPr b="1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scatterplot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ostup je z položky menu </a:t>
            </a:r>
            <a:r>
              <a:rPr b="0" i="1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s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Scatter…</a:t>
            </a:r>
            <a:r>
              <a:rPr b="0" i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 Simple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r>
              <a:rPr b="0" lang="cs-CZ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okud rozlišujeme závislou a nezávislou proměnnou, nezávislá se obvykle zadává jako osa X a závislá jako osa Y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Korela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Pearsonův koeficient spočítáme korelace přes </a:t>
            </a:r>
            <a:r>
              <a:rPr b="0" i="1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late </a:t>
            </a:r>
            <a:r>
              <a:rPr b="0" i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 Bivaria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ahoma"/>
              </a:rPr>
              <a:t>pro pořadová data spočítáme Spearmanův koeficient korelace (zatrhneme </a:t>
            </a:r>
            <a:r>
              <a:rPr b="0" i="1" lang="cs-CZ" sz="3000" spc="-1" strike="noStrike">
                <a:solidFill>
                  <a:srgbClr val="000000"/>
                </a:solidFill>
                <a:latin typeface="Tahoma"/>
                <a:ea typeface="Tahoma"/>
              </a:rPr>
              <a:t>Spearman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zac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jistěte, zda spolu souvisí inteligence měřená testem ait (proměnná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ait_celk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a školní výsledky, tj. počet bodů v didaktických testech (proměnná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didak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ouvisí spolu inteligence a postoj ke škole a učení?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ai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_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celk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a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postoj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atový soubor </a:t>
            </a:r>
            <a:r>
              <a:rPr b="1" i="1" lang="cs-CZ" sz="2600" spc="-1" strike="noStrike">
                <a:solidFill>
                  <a:srgbClr val="000000"/>
                </a:solidFill>
                <a:latin typeface="Verdana"/>
              </a:rPr>
              <a:t>učitel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uropsychická zátěž při práci (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meister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 a délka praxe (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praxe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celková psychická odolnost (celkové hardiness skore –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h.skore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 a neuropsychická zátěž při práci (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meister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celková psychická odolnost (celkové hardiness skore –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h.skore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 a extraverze (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extraver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počítejte korelace ze třetího příkladu bez outliera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má číslo 57 (v souboru je 44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odstraníte ho pomocí 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a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elect cases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If condition is satisfied 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cislo ~= 57</a:t>
            </a:r>
            <a:br>
              <a:rPr sz="2600"/>
            </a:b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(korelace se zvýší z 0.307 na 0.37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ahoma"/>
              </a:rPr>
              <a:t>j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ednoduchou i mnohonásobnou lineární regresi zadáme z položky menu </a:t>
            </a:r>
            <a:r>
              <a:rPr b="0" i="1" lang="cs-CZ" sz="3000" spc="-1" strike="noStrike">
                <a:solidFill>
                  <a:srgbClr val="000000"/>
                </a:solidFill>
                <a:latin typeface="Tahoma"/>
                <a:ea typeface="Tahoma"/>
              </a:rPr>
              <a:t>Analyze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Linear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o políčka Dependent zadáme závislou proměnnou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do </a:t>
            </a:r>
            <a:r>
              <a:rPr b="0" i="1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Independent(s)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 zadáme nezávislou proměnnou (či proměnné - pro mnohonásobnou regresi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volíme metodu, jak mají nezávislé proměnné vstupovat do analýzy standardně je nastavená </a:t>
            </a:r>
            <a:r>
              <a:rPr b="0" i="1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</a:t>
            </a:r>
            <a:r>
              <a:rPr b="0" i="1" lang="cs-CZ" sz="3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ahoma"/>
              </a:rPr>
              <a:t>– všechny najednou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ále můžeme zadat grafy (</a:t>
            </a:r>
            <a:r>
              <a:rPr b="0" i="1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Plots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), nechat uložit spočítané hodnoty (např. predikované hodnoty, reziduály apod. - </a:t>
            </a:r>
            <a:r>
              <a:rPr b="0" i="1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Save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atový soubor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zac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jistěte, jaký je vztah mezi úrovní obecných rozumových schopností (měřeno testem inteligence AIT) a výsledkem v didaktických testech. (spočítejte jednoduchou regresní analýzu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istěte, které proměnné také ovlivňují výsledek didaktických testů - inteligence, postoj k učení, dobré a špatné chování ve škol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 Klimusová</cp:lastModifiedBy>
  <dcterms:modified xsi:type="dcterms:W3CDTF">2003-05-12T01:03:38Z</dcterms:modified>
  <cp:revision>257</cp:revision>
  <dc:subject/>
  <dc:title>adrenalin expri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