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D4BB-EF89-4339-997D-CB58241FD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6A7B-595B-45FF-8C63-A67CB00C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8D47-E4DE-47D5-91C5-48284FBF6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DB68-F669-4E6B-98E8-1BF0E34AD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FD02-3FFB-4B02-9A6D-BC0FCD6A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71A5-344B-4E9A-9AB8-62F1270C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E1FA-2E0A-4ED5-ADB0-74A41046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7BCC-DEDB-4585-A274-16AB69AD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B9C0-C6C8-4CEF-8BF4-3ACFAEC4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AD2B-E9B0-4E11-958C-9B3A1CF6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0B80-58EF-45B0-8253-6B0DCE99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3CCC-BDD2-4245-B1C4-F3E45808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3E0A-5812-49E0-9C99-B6272825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09FF-3E44-4F75-A784-D9B6788E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8F5F-3F6F-465A-888B-BAD1786F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11ED-21E9-4246-A25F-90207E62F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439A-ABFA-4B06-A6CD-CFA7733B8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1731-B2E9-4166-9837-BD2FCE34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C02A-AFC5-4834-8EB2-20C8B547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FB8D-AC0C-4AEB-A58F-A54D2B21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5BD4-8502-430D-905B-C2A932E7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8DCF-B8CC-4803-A87A-903ECE7B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351F-4465-4DCD-9FC3-58808AC2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0982-6525-47BD-BFCE-894BAFBF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6911-22C5-4978-9BD5-9BB2EE6A73A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1D7C-02BF-4B18-945E-1F9E079009E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dh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dhad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odové a intervalové odhad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onstrukce intervalu spolehlivosti pro průmě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dhady podílů (kategoriální proměnné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dyž vybereme z populace náhodně vzorek 100 osob, jaká je pravděpodobnost, že jejich průměrné IQ bude větší nebo rovno 10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dyž vybereme z populace náhodně vzorek 100 osob, jaká je pravděpodobnost, že jejich průměrné IQ bude větší nebo rovno 10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00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= 15, n=1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ýpočet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výběrové chyby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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√</a:t>
            </a: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= 15/10 = 1.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24040" y="1866960"/>
            <a:ext cx="5686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dyž vybereme z populace náhodně vzorek 100 osob, jaká je pravděpodobnost, že jejich průměrné IQ bude větší nebo rovno 10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00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= 1.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(105-100)/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5/1.5 =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3.3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dyž vybereme z populace náhodně vzorek 100 osob, jaká je pravděpodobnost, že jejich průměrné IQ bude větší nebo rovno 112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00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1.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3.3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 tabulky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(Z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&gt;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3.33) =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0.0005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Q 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00,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5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aká je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ravděpodobnost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, že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růměr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výběru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o velikosti n=25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bude mezi hodnotami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94 a 106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Q 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00,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5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aká je pravděpodobnost, že průměr výběru o velikosti n=25 bude mezi hodnotami 94 a 106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00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= 15, n=2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ýpočet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výběrové chyby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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√</a:t>
            </a: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= 15/5 =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Q 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00,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5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aká je pravděpodobnost, že průměr výběru o velikosti n=25 bude mezi hodnotami 94 a 106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 = (94-100) / 3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-6/3 = -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 = (106-100) /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6/3 = 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ajdeme v tabulce normovaného normálního rozdělení hodnotu pravděpodobnosti pro z=2 a z=-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3280" y="2492280"/>
            <a:ext cx="392436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hodnota je 0,02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ohromady 0,046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dečteme od 1,00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ýsledek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0,95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643280" y="2492280"/>
            <a:ext cx="392436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tva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RVP se při dostatečně velkém vzorku (30 a více) blíží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ormálnímu rozděle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růmě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růměr průměrů všech teoretických výběrů je roven průměru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ariabilit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směrodatná odchylka RVP se označuje jako výběrová chyba (standard error) průmě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Q 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00,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5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aká je pravděpodobnost, že průměr výběru o velikosti n=25 bude mezi hodnotami 94 a 106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ravděpodobnost takového průměru je 95,4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Q 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00,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5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 jakém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sahu hodnot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bude pravděpodobně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80% všech průměrů výběrů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o velikosti n=2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Q 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00,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5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 jakém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sahu hodnot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bude pravděpodobně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ředních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80% všech průměrů výběrů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o velikosti n=2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třebujeme zjistit hodnotu z, která odděluje pravděpodobnost 10% na obou stranách rozděle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544760" y="2378160"/>
            <a:ext cx="604512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Q 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00,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5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 jakém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sahu hodnot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bude pravděpodobně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ředních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80% všech průměrů výběrů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o velikosti n=2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 = 1,28 a -1,28 převedeme na hodnoty IQ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Arial"/>
              </a:rPr>
              <a:t>pro rozdělení výběrových průměr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403280" y="2452680"/>
            <a:ext cx="604836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x  =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+ z*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√</a:t>
            </a:r>
            <a:r>
              <a:rPr b="0" i="1" lang="cs-CZ" sz="2800" spc="-1" strike="noStrike">
                <a:solidFill>
                  <a:srgbClr val="000000"/>
                </a:solidFill>
                <a:latin typeface="Verdana"/>
              </a:rPr>
              <a:t>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  = 100 + 1,28*(15/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√25) = 100+1,28(3) =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103,8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  = 100 + (-1,28)*(15/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√25) = 100-1,28(3) =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96,1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Q 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00,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5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 jakém rozsahu hodnot bude pravděpodobně středních 80% všech průměrů výběrů o velikosti n=2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80% všech výběrových průměrů bude v rozsahu hodnot 96,16 - 103,8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dh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předchozích příkladech jsme znali hodnoty průměru a rozptylu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bvykle tomu ale bývá přesně naopak: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známe hodnoty (statistiky) výběru a neznáme hodnoty (parametry)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y chceme z výběru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odhadnou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dh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2 typy odhadů: bodové a intervalov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bodový odh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použijeme průměr vzorku a odhadneme, že se rovná průměru populac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13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elikost výběrové chyby je dána dvěma charakteristikami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variabilita znaku v populaci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: čím je vyšší, tím je vyšší i variabilita výběrových průměrů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velikost výběru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čím větší výběr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(n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tím lépe jeho průměr reprezentuje průměr popul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Bodový odh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odový odhad je problematický v tom, že dva různé výběry nám mohou dát dva různé odhad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odový odhad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eobsahuj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žádnou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informac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o jeho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esnost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či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polehliv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 čem závisí přesnost odhadu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Bodový odh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esnost odhadu závisí na dvou charakteristiká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velikost výběru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čím větší n, tím menší výběrová chyb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variabilita hodnot v populaci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čím vyšší, tím vyšší i výběrová chyb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ový odh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skytuje rozsah (interval) hodnot, který s určitou pravděpodobností obsahuje hledanou hodnotu paramet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ový odh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založen na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odovém odhad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elikosti výběr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ariabilitě znaku v populaci (známé nebo rovněž odhadované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ový odh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táme se: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jaká je hodnota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 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ový odh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táme se: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jaká je hodnota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 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ýběrový průměr určité hodnoty může pocházet z populací o různých průměre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to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emůžeme jednoznačně určit hodnotu </a:t>
            </a:r>
            <a:r>
              <a:rPr b="1" lang="cs-CZ" sz="35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ový odh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547640" y="1744560"/>
            <a:ext cx="60487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ový odh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akže se místo toho snažíme určit, jaký j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ožný rozsah hodnot </a:t>
            </a:r>
            <a:r>
              <a:rPr b="1" lang="cs-CZ" sz="35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aké populace (tj. s jakou hodnotou průměru) by mohly být pravděpodobným zdrojem našeho vzorku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ové odh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e které populace nejpravděpodobněji pochází výběr, jehož průměr je v následujícím grafu naznačen svislou čarou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VP pro populace I-IV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826920" y="2084400"/>
            <a:ext cx="698508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66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zorec pro výpočet výběrové chyby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Symbol"/>
                <a:ea typeface="Symbol"/>
              </a:rPr>
              <a:t></a:t>
            </a:r>
            <a:r>
              <a:rPr b="0" lang="cs-CZ" sz="54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5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cs-CZ" sz="5400" spc="-1" strike="noStrike">
                <a:solidFill>
                  <a:srgbClr val="000000"/>
                </a:solidFill>
                <a:latin typeface="Symbol"/>
                <a:ea typeface="Symbol"/>
              </a:rPr>
              <a:t></a:t>
            </a:r>
            <a:r>
              <a:rPr b="0" lang="cs-CZ" sz="5400" spc="-1" strike="noStrike">
                <a:solidFill>
                  <a:srgbClr val="000000"/>
                </a:solidFill>
                <a:latin typeface="Verdana"/>
              </a:rPr>
              <a:t>√</a:t>
            </a:r>
            <a:r>
              <a:rPr b="0" i="1" lang="cs-CZ" sz="54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ové odh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ýběr pochází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jpravděpodobněji z populace II nebo II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méně pravděpodobně z populace 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a velmi málo pravděpodobně z populace IV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ové odh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ntervalový odhad spočívá v konstrukci tzv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intervalu spolehlivosti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confidence interval) – rozsahu hodnot, ve kterém s určitou pravděpodobností leží průměr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jprve je třeba si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tanovit tuto pravděpodobnos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tj. úroveň přesnosti(spolehlivosti)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bvyklá je např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95%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- snažíme se najít interval hodnot, ve kterém s 95% pravděpodobností leží průměr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ak jde o tzv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95% interval spolehliv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té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ajít hodnotu 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 pro tuto pravděpodobnos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tj. rozsah, ve kterém bude ležet středních 95% hodnot (výběrových průměrů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2,5% na každé straně rozděle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258920" y="1744560"/>
            <a:ext cx="63374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omu odpovídají hodnoty 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=-1,96 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=1,96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042920" y="2133720"/>
            <a:ext cx="691380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 - výpoče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835280" y="2349360"/>
            <a:ext cx="573084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692360" y="1701720"/>
            <a:ext cx="59752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nterpretace intervalu spolehlivosti: máme 95% pravděpodobnost, že se v tomto intervalu nachází průměr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bychom z populace vybrali 100 náhodných výběrů o velikosti n a pro každý z nich sestrojili tento interval, 95 intervalů by obsahovalo průměr populace a 5 nikoliv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dyž vybereme z populace náhodně vzorek 9 osob, jaká je pravděpodobnost, že jejich průměrné IQ bude větší nebo rovno 10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blíbený omyl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 95% intervalu spolehlivosti leží 95% hodnot populace (NEPLATÍ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romě 95% intervalu spolehlivosti se používá také např. 99% a 90% pravděpodobno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áhodný výběr 36 dětí, průměrné IQ vzorku = 9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 základě tohoto zjištění odhadněte průměrné IQ populace, ze které děti pocházejí (sestavte 95% interval spolehlivosti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stup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odový odhad: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=96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ýpočet výběrové chyby (směrodatné odchylky RVP):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√</a:t>
            </a:r>
            <a:r>
              <a:rPr b="0" i="1" lang="cs-CZ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= 15/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√36 = 15/6 = 2,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tanovení úrovně spolehlivosti: 95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ajít hodnotu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pro 95% pravděpodobno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258920" y="1744560"/>
            <a:ext cx="63374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tabulce normálního rozdělení najdeme hodnoty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hodnoty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pro 95% : 1,96 a -1,9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 výběrovému průměru přičteme (pro horní hranici intervalu) a odečteme (pro spodní hranici) výběrovou chybu, vynásobenou hodnotou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95% 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 96 + 1,96*2,5 = 100,9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 96 -  1,96*2,5 = 91,1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95% interval spolehlivosti je 91,1 – 100,9 bodů IQ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99% interval spolehliv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 = 2,5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99% 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 96 + 2,57*2,5 = 102,4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 96 -  2,57*2,5 = 89,58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99% interval spolehlivosti je 89,6 – 102,4 bodů IQ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hodnoty 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pro nejčastěji užívané pravděpodobnosti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90% (zbývá 5% + 5%)       z= +/- 1,64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95% (zbývá 2,5% + 2,5%)  z= +/- 1,96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99% (zbývá 0,5% + 0,5%)  z= +/- 2,57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dyž vybereme z populace náhodně vzorek 9 osob, jaká je pravděpodobnost, že jejich průměrné IQ bude větší nebo rovno 10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00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= 15, n=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ýpočet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výběrové chyby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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√</a:t>
            </a: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= 15/3 = 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předchozích příkladech jsme předpokládali, ž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známe hodnotu variability znaku v popula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e skutečnosti je tomu tak však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zřídk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proto nutno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odhadnou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zároveň s průměrem i hodnotu směrodatné odchylk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známé hodnoty směrodatné odchylky v populaci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692360" y="2565360"/>
            <a:ext cx="573084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tudentovo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za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ahradíme 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směr. odchylku výběrového průměru), pak musíme při konstrukci intervalu spolehlivosti místo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z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ělení použít tzv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tudentovo t rozdělen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neznámé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hodnoty směrodatné odchylky v populaci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2124000" y="2924280"/>
            <a:ext cx="410364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tudentovo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á také zvonovitý tvar, ale je více ploché než normální rozděle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symetrické kolem průměru (0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každou velikost výběru (počet stupňů volnosti, df) existuje odlišné t rozdělení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f = n-1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tudentovo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rovnání s normálním rozdělením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95280" y="2421000"/>
            <a:ext cx="8496360" cy="27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tudentovo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rovnání s normálním rozdělením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 rozdělení má vyšší variabilitu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íce plochy na okrajích, méně ve střed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zhledem k vyšší variabilitě budou intervaly spolehlivosti širší než u normálního rozděle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sou uváděny df obvykle jen do 100, protože pro n=100 se t rozdělení blíží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ormálnímu rozděle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tudentovo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abulka t-rozdělení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aždý řádek udává hodnoty t pro celé rozdělení pro daný počet stupňů volnosti (tj. n-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loupce pro nejdůležitější percenti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tudentovo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-108000" y="1752480"/>
            <a:ext cx="108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741672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dhady podíl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 kategoriálních proměnných nemůžeme počítat průmě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dhadujeme proto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odíly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dnotlivých kategorií proměnn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24040" y="1866960"/>
            <a:ext cx="5686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dhady podíl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podíl kuřáků v populaci českých adolescentů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díl pacientů s rakovinou plic, kteří přežijí 5 let od diagnóz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díl chlapců mezi dětmi s poruchou pozorn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dhady podíl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zkoumáme místo celé populace pouze výběr z ní, nezajímá nás tolik, jaký je podíl kategorií proměnné ve výběru (četnost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le spíše jaký je skutečný podíl v populaci – četnost </a:t>
            </a: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dhady podíl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677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ři dostatečně velkém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platí i pro rozdělení podílů centrální limitní vě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ozdělení výběrových podílů je normální rozdělení, s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průměrnou četností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a směrodatnou odchylkou (výběrovou chybou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2916360" y="4149720"/>
            <a:ext cx="24764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hceme zjistit, jaká je podpora odsunu hlavního nádraží v Brně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áhodný výběr z populace brněnských občanů starších 18 let n=1000 oso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585 osob se vyjádřilo pr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=0,58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dhadněte s 95% spolehlivostí podporu odsunu nádraží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dhady podíl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interval spolehlivosti pro podíly se spočítá podobně jako pro průměry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116000" y="2924280"/>
            <a:ext cx="61657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dhady podíl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můžeme však spočítat výběrovou chybu, protože neznáme </a:t>
            </a:r>
            <a:r>
              <a:rPr b="0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tomto případě je však možné dosadit místo toho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a přitom použít normální rozdělení (pokud je 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0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je 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&lt;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0, pak dosadíme místo </a:t>
            </a:r>
            <a:r>
              <a:rPr b="0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hodnotu 0,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=0,58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=1,9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E(p)=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0,585(1-0,585)/100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0,15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interval spolehlivosti 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0.585 ± 1.96(0.0156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0.585 ± 0,030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---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esnost odhadu je ± 3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"/>
          <p:cNvSpPr/>
          <p:nvPr/>
        </p:nvSpPr>
        <p:spPr>
          <a:xfrm>
            <a:off x="2484360" y="2781360"/>
            <a:ext cx="7164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556000" y="2637000"/>
            <a:ext cx="144360" cy="86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2700360" y="2708280"/>
            <a:ext cx="38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 95% pravděpodobností je podíl osob souhlasících se odsunem nádraží 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ezi 55.4% a 61.6%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j. máme 95% pravděpodobnost, že kdyby se v době průzkumu hlasovalo, bude většina pr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dhady podíl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ztah mezi velikostí vzorku a přesností odhadu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=100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± 10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=200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± 7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=400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± 5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=1000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± 3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=2400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± 2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=9600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± 1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dhady podíl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žadovaná velikost vzorku roste mnohem rychleji než spolehlivost odhadu (pro zdojnásobení spolehlivosti je nutné asi čtyřnásobně zvětšit vzorek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ůležité při plánování výzkumu – jakou přesnost potřebujeme? jaké budou náklady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dobný vztah platí pro odhad průměr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dyž vybereme z populace náhodně vzorek 9 osob, jaká je pravděpodobnost, že jejich průměrné IQ bude větší nebo rovno 10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00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= 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(105-100)/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5/5 =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1.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ntrolní otázk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2 typy odhad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 čem závisí šířka intervalu spolehlivosti?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není nutno znát zpaměti vzorce, ale je třeba chápat princip výpočtu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ztah velikosti výběru a spolehlivosti odhad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dyž vybereme z populace náhodně vzorek 9 osob, jaká je pravděpodobnost, že jejich průměrné IQ bude větší nebo rovno 112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00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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√</a:t>
            </a:r>
            <a:r>
              <a:rPr b="0" i="1" lang="cs-CZ" sz="28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= 15/3 = 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1.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 tabulky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(Z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&gt;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1.0) =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0.1587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</cp:lastModifiedBy>
  <dcterms:modified xsi:type="dcterms:W3CDTF">2004-04-13T01:57:07Z</dcterms:modified>
  <cp:revision>351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