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1473-9F44-442F-9743-5DAFBB16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94F-D9F1-4055-9644-C08D83E1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7D8D-4685-4471-A79B-B484FB8B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410-0CD5-4929-AA18-45F0408B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78C2-F755-4F55-B823-CA34134B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E346-8D8B-4E01-B765-D874A531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3033-508A-4977-8A80-6462C869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1F19-DE84-42AF-899D-10E64266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2A86-FB02-4E22-92A8-890D8C87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6B87-7194-4F75-8343-A8E51ED1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BF07-F712-460D-9608-495B2973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B18-B641-4F13-AE17-E60D81D3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8289-27AF-4897-9DCE-71C3300F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3EED-187C-4971-A70E-9755F3DB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0DE2-733C-47FD-A6A8-773FE50A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7B85-065A-4B60-8A77-D4A30116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CD20-D5E2-41DF-AF52-D9160349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250-42BC-4AE4-9FBA-112DA027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A90-3F95-46C5-AD5F-23B518CF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0E7-C4FE-4F64-B4BD-9445CDA5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1783-D88A-4D13-B608-E79C4E8F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AFD-1BC7-4D9F-A485-3D86CECA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B330-19F2-40A9-BBFF-95C6B2CC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A666-E8E4-4444-B55C-A8754D2A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AC92-C9B6-4964-BB3E-F32713B63E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F38B-371B-49A7-884B-D3E8CCFEE1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rametrické a neparametrické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řadové neparametrické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 nezávislosti proměnný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 dobré sho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může být použi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testování rozdělení jedné proměnné (test dobré shod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ování nezávislosti dvou proměnný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pro testování nezávislosti proměnných se používá pro nominální nebo ordinální proměnné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jsou uspořádána do tzv. kontingenční tabulky (viz příkla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ajímá nás, jak souvisí model manželství s jeho vydařenost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odel manželství má kategorie: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minance žena, dominance muž, kooper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dařenost má 3 kategorie – vydařené, průměrné, nevydařen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zn.: jde o manželství rodičů respondentů, tak jak je posuzují oni (zdroj dat – výzkum doc. Plaňavy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tázka zní: liší se podíl vydařených, průměrných a nevydařených manželství u rodin, kde dominovala matka, rodin, kde dominoval otec a u rodin, kde nedominoval ani jeden z nich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ingenční tabulka (SPS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842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95280" y="620640"/>
          <a:ext cx="849780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620640"/>
                    <a:ext cx="849780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porovnává očekávané a pozorované čet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čekávané jsou četnosti za předpokladu, že proměnné jsou nezávisl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9145800" cy="4751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4932360" y="5300280"/>
            <a:ext cx="287280" cy="576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našem příkladu bylo 42,2% vydařených manželstv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by proměnné (model a vydařenost manželství) byly vzájemně nezávislé, poměr vydařených manželství v jednotlivých modelech manželství by měl být přibližně stejný (a odrážet celkový podíl) – 42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dobně ostatní kategorie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čekávané četnosti – výpočet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cs-CZ" sz="48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lang="cs-CZ" sz="4800" spc="-1" strike="noStrike">
                <a:solidFill>
                  <a:srgbClr val="000000"/>
                </a:solidFill>
                <a:latin typeface="Verdana"/>
              </a:rPr>
              <a:t> = (ř</a:t>
            </a:r>
            <a:r>
              <a:rPr b="0" lang="cs-CZ" sz="4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cs-CZ" sz="4800" spc="-1" strike="noStrike">
                <a:solidFill>
                  <a:srgbClr val="000000"/>
                </a:solidFill>
                <a:latin typeface="Verdana"/>
              </a:rPr>
              <a:t> s</a:t>
            </a:r>
            <a:r>
              <a:rPr b="0" lang="cs-CZ" sz="48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cs-CZ" sz="4800" spc="-1" strike="noStrike">
                <a:solidFill>
                  <a:srgbClr val="000000"/>
                </a:solidFill>
                <a:latin typeface="Verdana"/>
              </a:rPr>
              <a:t> )/ N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 každé políčko tabulky se vynásobí celkové četnosti z příslušného řádku se sloupcovými četnostmi a vydělí celkovým počtem osob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-testy a analýza rozptylu jsou tzv. parametrické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rametr = charakteristika populace (průměr, rozptyl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rametrické testy používají při výpočtech charakteristiky populace (parametr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82436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první políčko tabulky (vydařená manželství s dominantní matkou) je očekávaná čet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ř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s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)/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ř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s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)/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69*65 )/ 15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O</a:t>
            </a:r>
            <a:r>
              <a:rPr b="0" lang="cs-CZ" sz="28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11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 = 29,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čekávané četn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540720" cy="3743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V="1">
            <a:off x="4788000" y="3716280"/>
            <a:ext cx="431640" cy="217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porovná očekávané četnosti s pozorova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pozor. četnosti – oček.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/oček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pozor. četnosti – oček.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/oček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7,1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29,1 +3,9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5,1 + 3,2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,8 +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4.6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,6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+ 3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16 + 1,6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9,4 + 11,7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17,3 + (-6,9)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14,9 + (-4,8)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8,8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= 18, 7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vyhledání kritické hodnoty </a:t>
            </a:r>
            <a:r>
              <a:rPr b="0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v tabulce musíme vypočítat ještě počet stupňů volnosti (df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f = (ř-1) (s-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j. počet řádků -1 krát počet sloupců -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f = (ř-1) (s-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f = (3-1) * (3-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df = 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tabulkách vyhledáme kritickou hodnotu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df = 4 a 5% hladinu význam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Verdana"/>
              </a:rPr>
              <a:t>krit</a:t>
            </a:r>
            <a:r>
              <a:rPr b="1" lang="cs-CZ" sz="30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= 9,4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400" spc="-1" strike="noStrike" baseline="-25000">
                <a:solidFill>
                  <a:srgbClr val="000000"/>
                </a:solidFill>
                <a:latin typeface="Verdana"/>
              </a:rPr>
              <a:t>krit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9,4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8,7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ávěr: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vypočítaná hodnota je větší než kritická hodnota  -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očekávané a pozorované četnosti se liší na 5% hladině významnost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tj. je malá pravděpodobnost, že proměnné jsou nezávislé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7272360" cy="3379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H="1">
            <a:off x="7524720" y="2924280"/>
            <a:ext cx="432000" cy="360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571640" y="2852640"/>
            <a:ext cx="431640" cy="289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2781360"/>
            <a:ext cx="0" cy="287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Chí-kvadrát pro 1 proměnno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zv. test dobré shody (goodness-of-fit test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pět porovnává očekávané a pozorované čet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pokladem očekávaných četností není tentokrát nezávislost proměnných (máme jen 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rametrické testy pracují s předpoklady o charakteristikách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u t-testu předpokládáme, že směrodatné odchylky výběrů mohou posloužit jako odhad pro směrodatnou odchylk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obně počítají s normálním rozdělením měřeného zna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dobré sho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 určíme očekávané četnosti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způsob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edpoklad vyplývá z teorie (např. u genetických dat – poměr osob s projevem dominantní a recesivní alel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bo můžeme předpokládat náhodné rozdělení do kategori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počet sebevražd stejný každý den v týdnu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íme data pro rok 2000 (Č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195640" y="1844640"/>
          <a:ext cx="4581360" cy="4246560"/>
        </p:xfrm>
        <a:graphic>
          <a:graphicData uri="http://schemas.openxmlformats.org/drawingml/2006/table">
            <a:tbl>
              <a:tblPr/>
              <a:tblGrid>
                <a:gridCol w="1917360"/>
                <a:gridCol w="2664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nděl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úter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řed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tvrte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átek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bo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dě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čekávané četnost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tejný počet sebevražd pro každý den v týdn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elkem 1602 sebevraž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čekávaná četnost pro každý den je 228,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8424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orec pro výpočet je stejn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3,4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f = k -1 (počet kategorií -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f = 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df =6 a 5% hladinu významnosti je </a:t>
            </a:r>
            <a:r>
              <a:rPr b="0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400" spc="-1" strike="noStrike" baseline="-25000">
                <a:solidFill>
                  <a:srgbClr val="000000"/>
                </a:solidFill>
                <a:latin typeface="Verdana"/>
              </a:rPr>
              <a:t>krit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2,5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díl je statisticky významn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82818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mezení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potenciální problém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alý počet osob – pokud má velké % políček tabulky očekávanou četnost menší než 5 (v ideálním případě by všechna měla mít oček. četnost nejméně 5 osob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íliš velký počet osob – čím vyšší N, tím vyšší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vyjdou významné i malé rozdíl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ecná definice – síla a směr vzt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asociace pro nom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aložené na chí-kvadrát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E mí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asociace pro ord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asociace vyjadřují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ěsnost vztahu proměnných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a případně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vztah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hí-kvadrá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se dozvíme pouze,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da nějaký vztah mezi proměnnými existuj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tj. zda se liší četnosti pozorované a četnosti očekávané za předpokladu, že proměnné jsou nezávislé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nejsou tyto předpoklady splněny, můžeme dojít k nepřesným výsledků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ěsnost (síla) vztah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yjádřena absolutní hodnotou koeficient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ní shoda v tom, od jaké hodnoty je vztah považován za těsný (někdy uváděno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0.70, jindy &gt;0.3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, středně těsný či slabý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měr vztah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uze u ordinálních a kardinálních proměnný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zitivní vzta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čím vyšší hodnoty jedné proměnné, tím vyšší hodnoty druh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gativní vzta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čím vyšší hodnoty jedné proměnné, tím nižší hodnoty druh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Míry asociace pro nominální dat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asociace pro nominální data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kazují pouze sílu vztahu dvou proměnnýc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nikoli směr či jiné informace o povaze vzt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lišujeme míry založené na chí-kvadrátu a míry PR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likost hodnoty chí-kvadrát je ovlivněna velikostí výběru a počtem kategorií tabul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účelem koeficientů založených na chí-kvadrátu je eliminovat tyto vliv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sah koeficientů je obvykle mezi 0 a 1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čím vyšší hodnota, tím těsnější vztah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 – žádný vztah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 – absolutní vztah (z hodnot jedné proměnné můžeme předpovědět hodnoty druhé proměnné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oeficienty je možno spočítat statistickou význam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ezi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jčastěji užívané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míry asociace založené na chí-kvadrátu patří koeficient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Fí (Phi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ramerovo V (Cram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’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V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eficient kontingence (Contingency Coefficien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í koeficien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užívá se pro tabulky 2x2 (tj. pro dichotomické proměnné, např. pohlav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počte se tak, že se hodnota chí-kvadrátu vydělí počtem osob a výsledek se odmoc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eficient kontingence – užívá se někdy místo Fí pro tabulky větší než 2x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ohužel jeho max. hodnota je nižší než 1 (závisí na počtu políček tabulk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užívá se proto příliš čast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ramerovo V – podobný výpočet jako Fí; počet osob se navíc násobí počtem řádků - 1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pokud je počet řádků menší než počet sloupců, jinak počtem sloupců – 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žívá se pro tabulky větší než 2x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z minulé přednášky - jak souvisí model manželství s jeho vydařenost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= 18.7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čet osob N = 15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 = počet řádků - 1 = 3 – 1 =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parametrické testy nezávisí na charakteristikách populace ani o nich nečiní žádné závě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ní vyžadováno normální rozdělení zna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to jsou tyto testy označovány také jako „distribution-free“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ingenční tabulka (SPS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842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a 3x3 – použijeme Cramerovo 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=   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/(N*m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=    18.71/(154*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 = 0,24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1908000" y="2781360"/>
            <a:ext cx="1429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050920" y="2708280"/>
            <a:ext cx="144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270828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1908000" y="3860640"/>
            <a:ext cx="14292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050920" y="3789000"/>
            <a:ext cx="73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2124000" y="378936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terpretace: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a 0,246 je poměrně nízká – vztah mezi modelem manželství a jeho vydařeností není příliš těsný (i když statisticky významný – viz výstup v SPS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SPSS jsou uvedeny oba koeficienty (Fí i V), je třeba zvolit ten správný pro každou tabul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7417080" cy="3346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V="1">
            <a:off x="4859280" y="3645000"/>
            <a:ext cx="50328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372360" y="3645000"/>
            <a:ext cx="50328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e zkratka pr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oportional Reduction in Error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oměrná redukce chyby odhad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incip PRE: porovnání odhadu hodnot závislé proměnné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bez znalosti hodnot nezávislé proměnné a s její znalost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o kolik se sníží chyba odhadu?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jaký je vztah mezi pohlavím a užíváním rtěnky?*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počítáme koeficien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lamb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bychom měli odhadnout, zda náhodně vybraný respondent používá rtěnku: jaká je pravděpodobnost chybného odhadu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*převzat z Disman: Jak se vyrábí sociologická znal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očekávat, že více lidí rtěnku nepoužívá než používá (naprostá většina mužů + některé ženy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kže bude výhodnější odhadnout, že náhodně vybraný respondent rtěnku nepoužív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děpodobnost chyby závisí na podílu lidí užívajících rtěn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8064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i tomto podílu osob je pravděpobnost chyby asi 40% (když budeme odhadovat, že nádodný respondent rtěnku neužívá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e 160 případů bychom se zmýlili 63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 kolik by se chyba zmenšila, kdybychom znali pohlaví respondenta?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muže bychom odhadovali, že rtěnku nepoužívá, pro ženu naopak -  že ji použív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č potom vůbec používat parametrické test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mnoho parametrických testů je poměrně „odolných“ (tzv. robustních) vůči narušení předpokladů testu (např. menší odchylky od normálního rozdělení výsledky nezkreslí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arametrické testy mají větší statistickou sílu než neparametrické (větší pravděpodobnost zjištění rozdílu, pokud skutečně existuj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ro některé typy analýz neparametrické metody nejsou (např. neexistuje obecně přijímaná neparametrická faktoriální ANOVA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8497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bychom znali pohlaví respondenta, zmýlili bychom se ve svém odhadu 21x (2 x u muže a 19x u žen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 kolik by se náš odhad zlepšil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yby předtím – chyby teď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63-21 = 4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měrná redukce chyby (tj. vzhledem k předchozím chybám)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lambd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2/63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0,66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chyba v odhadu užívání rtěnky se sníží asi o 67%, pokud známe pohlaví respond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sah koeficientu lambda je od 0 do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namená, že znalost hodnoty nezávislé proměnné vůbec nesníží chybu v odhadu hodnot závislé proměnné;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oměnné jsou vzájemně nezávisl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ím blíž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tím lépe můžem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z hodnot nezávislé proměnné předpovědět hodnoty závisl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SPSS jsou počítány 3 varianty koeficientu lambda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ymetrická – není určeno, co je závislá a co nezávislá proměnn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 asymetrické – pro proměnnou 1 jako závislou a pro proměnnou 2 jako závisl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30402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92240" y="2708280"/>
            <a:ext cx="8951760" cy="2592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flipV="1">
            <a:off x="4572000" y="4941720"/>
            <a:ext cx="360360" cy="50328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 pro nominální da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romě koeficientu lambda se užívají také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Goodmanovo a Kruskalovo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ta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nevyužívá při predikci nejčastější kategorii závislé proměnné jako lambda, ale rozdělení ve všech kategoriích závisle proměnné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ohenova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app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pro měření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hody dvou posuzovatel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 pro ordinální da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u ordinálních dat je výpočet založen na poměru souhlasných a nesouhlasných párů případ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ouhlasn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pár případů – hodnota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obou proměnných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je vyšší (nebo nižší) u jednoho člena pá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nesouhlasn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pár případů – hodnota jedné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proměnné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je u jednoho člena páru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vyšš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a hodnota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druhé proměnné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je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nižš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 pro ordinální da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většina párů souhlasných, je hodnota gamma kladná – tj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zitivní vztah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až +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většina párů nesouhlasných, je hodnota gamma záporná – tj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gativní vztah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až -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počet souhlasných a nesouhlasných párů vyrovnán – gamma kolem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 pro ordinální da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gamma je symetrická míra – nedělá rozdíly mezi závislou a nezávislou proměnn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symetrická varianta koeficientu gamma –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omersovo 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endallovo ta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– bere v úvahu i nerozhodné páry (tzv. ties); ale hodnoty v rozsahu -1 až +1 mohou být získány pouze pro čtvercové tabulky (tj. stejný počet kategorií obou proměnných)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hlavní </a:t>
            </a:r>
            <a:r>
              <a:rPr b="1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ýhody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 neparametrických test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jsou omezeny předpokladem normálního rozděl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sou často založeny na pořadí, dají se použít i pro ordinální data (kde můžeme spočítat pouze průměr, nikoli medián) i pro nominální (test Chí-kvadrá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jsou citlivé na extrémní hodnoty (jsou většinou založeny na mediánu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rnut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nominálních dat hodnota míry asociace proměnných indikuje sílu vztahu – rozsah od 0 do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južívanější Fí nebo Cramerovo V; když víme, která proměnná nezávislá - lamb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ordinálních dat míry asociace indikují jak sílu vztahu (abs. hodnota koeficientu), tak směr vzt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lavní rozdíl mezi parametrickými a neparametrickými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hody a nevýhody neparametrických test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dy je možno využít chí–kvadrát jako test nezávislosti proměnných? (pro jaké typy proměnných?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dy se chí–kvadrát využívá jako test dobré shody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 čemu slouží míry asociace proměnných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íl mezi mírami založenými na chí-kvadrátu a mírami P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južívanější míry pro nom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južívanější míry pro ord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hlavní </a:t>
            </a:r>
            <a:r>
              <a:rPr b="1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výhody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 neparametrických test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enší statistická síl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složitější analýzy často není neparametrická varianta metody k dispozic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řehled neparametrických ekvivalentů parametrických test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-test pro nezávislé výběry –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ann-Whitney U t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-test pro závislé výběry – Wilcoxon t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nalýza rozptylu – Kruskall-Wallis t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pakovaná měření (ANOVA) – Friedman Rank T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5-03T18:46:12Z</dcterms:modified>
  <cp:revision>283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