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0DC-55F1-464D-8086-BE268E6D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3E5-2555-45EE-AF7A-436E62C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75C-EF42-41CC-931B-683E1EE7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939-8264-4FED-A691-E90126B2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C027-F515-4600-BF83-4F2E2C80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ED3F-4C9C-4E52-8FB8-AD25E50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AB60-F082-4E5F-9C8C-99F33DF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7989-B40B-4918-A05F-81A8902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67CB-51EC-4A98-A326-6A48DD4C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DEA5-1F67-4BFA-885E-4E879BC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6F2B-2E38-4BAF-A083-799DB0D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1AE-4142-428D-B168-79C07A6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9CA6-BB0B-4FEB-81BF-14D7200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CD0-4E08-4CE7-87DB-F308248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9480-0092-4BF4-94F8-4B390AD0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D849-08DE-40BA-94E0-8AECBB53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EEE3-229A-4677-B298-AD86D6C7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EB3-E1B0-4E89-9C3A-F1FD9AA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11A-926E-485D-905E-033487C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F4B-C103-4A40-BDFC-8AB21CA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017-7FC8-4BEC-8EF9-00083DD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570-CD7B-44A2-8942-BB05375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A65-CDF9-4CC9-83BB-1AE44D1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2DA-2527-477A-8D93-46DE76D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FE7-9D83-4C68-8F99-863090FC2E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B13-A8C0-455E-9D8E-EEBEA91DF2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ybrané multivariační techni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ologie na základě 18 proměnných by byla příliš složitá – je třeba tento počet sní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počítali faktorovou analýzu a extrahovali 3 faktory (vysvětlovaly celkem 48% společného rozptyl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484280"/>
          <a:ext cx="8253360" cy="5075280"/>
        </p:xfrm>
        <a:graphic>
          <a:graphicData uri="http://schemas.openxmlformats.org/drawingml/2006/table">
            <a:tbl>
              <a:tblPr/>
              <a:tblGrid>
                <a:gridCol w="5157720"/>
                <a:gridCol w="1008360"/>
                <a:gridCol w="1152360"/>
                <a:gridCol w="9349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volno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chutenstv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závrat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žaludečn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olesti hlav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rvozita, nekl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třesení ruk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pav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áhlé zpocen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silný tlukot srd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oustředěn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oční mů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pán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průjem, zác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na prs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krční bole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záde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dýchac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nto rozpty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vní faktor nazvali </a:t>
            </a:r>
            <a:r>
              <a:rPr b="1" lang="cs-CZ" sz="3000" spc="-1" strike="noStrike">
                <a:solidFill>
                  <a:srgbClr val="cc0000"/>
                </a:solidFill>
                <a:latin typeface="Verdana"/>
              </a:rPr>
              <a:t>nevolno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ý faktor označili </a:t>
            </a:r>
            <a:r>
              <a:rPr b="1" lang="cs-CZ" sz="3000" spc="-1" strike="noStrike">
                <a:solidFill>
                  <a:srgbClr val="0000ff"/>
                </a:solidFill>
                <a:latin typeface="Verdana"/>
                <a:ea typeface="Tahoma"/>
              </a:rPr>
              <a:t>vegetativní obtíže</a:t>
            </a:r>
            <a:r>
              <a:rPr b="1" lang="cs-CZ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položky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faktor označili </a:t>
            </a:r>
            <a:r>
              <a:rPr b="1" lang="cs-CZ" sz="3000" spc="-1" strike="noStrike">
                <a:solidFill>
                  <a:srgbClr val="6600cc"/>
                </a:solidFill>
                <a:latin typeface="Verdana"/>
              </a:rPr>
              <a:t>bole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ůvodních 1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ých indikujících frekvenci zdravostních potíží měl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y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 proměn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lineární kombinace původní proměnných)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nimi pak pracovali při typologii (viz dá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uží k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lasifik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elkého počt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so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 základě jejich dat v určitých proměnných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o několika málo shluk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glické označení cluster analysis se někdy v českých textech překládá také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clusterová analýz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ájemce o podrobnosti o využití metod shlukové analýzy v psychologii doporučuji publikac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 (2001). Typologie v psychologii. Praha, Academ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azuje na příklad aplikace faktorové 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e snažili identifikovat skupiny (shluky) adolescentů, kteří jsou si podobní ve svých zdravotních obtíž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li 3 proměnné vytvořené na základě FA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uveden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ek pro 4 shlu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v grafu na následujícím snímku jsou průměrná faktorová skóre v použitých 3 proměnných pro osoby klasifikované do daného shlu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ky pro vyšší počty shluků viz citovaná publikace Osecké, kapitola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íl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dukce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zmenšení počtu proměnných odstraněním nadbytečných proměnných (tj. těsně korelujících s ostatními proměnný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detifikace struktury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zkoumat vztahy mezi proměnný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632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 prvním shluku si stěžují především n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ole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části také na vegetativ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dolescenty ve druhém shluku trápí hlavně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třetím shluku trp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getativní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tíž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čtvrtém shluku tvořily největší část souboru – trpěly pouz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o určité míry bolest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průměrně)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roveň ostatních zdravotních stesků u nich byla podprůměrná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k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 vytvoření několika hypotetických proměnných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ěkdy bývají nazývány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atent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y jsou lineárními kombinacemi původ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větlují vztahy mezi původním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trak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na základě matice vztahů mezi proměnnými (např. korelační mati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če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trahovaných faktorů – do značné míry závisí na rozhodnutí výzkumní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 je vysvětlit co největší množství společného rozptylu co nejmenším počtem fakto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faktorová analýza sama o sobě nenabídne označení faktorů (to je opět na výzkumníkov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 bývá označen na základě proměnných, které k němu mají nejtěsnější vztah (nejvyšší tzv. faktorov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ábo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ho řešení – usnadní interpretaci fa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tace může být ortogonální (tj. předpokládá, že faktory jsou nezávislé) nebo šikmá (předpoklad korelace mezi fak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aplikace F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, Řehulková, O., Macek, P. (1998).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ravotní stesky adolescentů: struktura a rozdíly mezi pohlaví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borník konference Sociální procesy a osobnost, MU B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studie bylo mj.vytvořit typologii adolescentů na základě jeji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olescenti v dotazníku označili, jak často trpí každou z 18 nabídnutý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ýchac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8T23:36:46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