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E006-EDAC-4B1F-ADD7-EBF1C2408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FF61-CD85-4181-BEFB-8A39A8A90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2CF3-1463-4F62-8C15-DC616ED5D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FC01-5B0C-4462-9890-4C31E4ADD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24A84-F1D6-4A76-B269-C41BBD8E6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FF964-A7ED-4D16-BAFA-77983F4D6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6EC35-D8B5-4F21-B51F-1FB05A590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975F3-A2F9-4CC9-9FCD-F4841123F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50A41-DDD7-4729-92EB-4F0947B71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AC4A1-724E-428D-B0F7-6E53DDFA6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73E9E-DB9C-43CD-8F95-B8D145E5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F0D6-E49D-48BD-8EFF-7DF26FDC8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0F58B-162C-4917-814F-36A57E2D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735E8-1735-48CE-94A1-E877144D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F912E-7B39-4129-BF15-6EE44FFED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8AB8C-FE3E-4421-85BD-6AACE69F7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8A4BA-2688-4853-AD4E-C10C73B27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AFF2-0DA0-431D-B00E-C69361BB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3802-2FF5-47C2-94D0-E89083619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51D1-C6BB-4FF2-9EEC-58DAB7567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E157-37A5-468B-B62E-DCAE8DBF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5C0F-37FD-4AAB-9455-E57DF313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42E1-4526-4CB6-B213-EF5173A8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4348-08A8-4ABF-A112-64541072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3753-7C97-405A-B8D1-08883D92550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D4214-D35C-4718-A58F-76A87FADCAA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0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Analýza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logika analýzy rozptyl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ýpočetní postu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nohonásobná porovnává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pakovaná měře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faktoriální analýza rozptyl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nalýza kovaria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ícerozměrná analýza rozptyl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Analýza rozptylu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klasickém experimentu testujícím tzv. efekt přihlížejících (bystander effect) zjišťovali Darley a Latane, zda má přítomnost dalších lidí vliv na naši ochotu pomoci někomu v nouzi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O čekala v místnosti s dalšími 0, 2 nebo 4 osobami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Analýza rozptylu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experimentátorka odešla něco připravit do vedlejší místnosti a bylo slyšet, že upadla a vykřikla něco o bolesti v kotník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ávislou proměnnou byla doba, která uplynula do nabídnutí pomoci experimentátorce (v sekundách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566640" y="304920"/>
          <a:ext cx="8253360" cy="6335640"/>
        </p:xfrm>
        <a:graphic>
          <a:graphicData uri="http://schemas.openxmlformats.org/drawingml/2006/table">
            <a:tbl>
              <a:tblPr/>
              <a:tblGrid>
                <a:gridCol w="2670120"/>
                <a:gridCol w="2668680"/>
                <a:gridCol w="291456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ZO sam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další osob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 další osob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Analýza rozptylu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11280" y="1773360"/>
          <a:ext cx="8008920" cy="4363920"/>
        </p:xfrm>
        <a:graphic>
          <a:graphicData uri="http://schemas.openxmlformats.org/drawingml/2006/table">
            <a:tbl>
              <a:tblPr/>
              <a:tblGrid>
                <a:gridCol w="2276640"/>
                <a:gridCol w="1728720"/>
                <a:gridCol w="2001960"/>
                <a:gridCol w="2001600"/>
              </a:tblGrid>
              <a:tr h="69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 oso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osob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 osob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ůmě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,7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,6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,3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měrodatná odchylk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,1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,4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,9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</a:t>
                      </a: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8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4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</a:t>
                      </a: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cs-CZ" sz="26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95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99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06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Analýza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1. krok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výpočet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celkového rozptylu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součtu čtverců – sum of squares) SST (SS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Verdana"/>
              </a:rPr>
              <a:t>total)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= SSB + SS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ST =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X-X)</a:t>
            </a:r>
            <a:r>
              <a:rPr b="0" lang="cs-CZ" sz="30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ýpočetní rovnice </a:t>
            </a:r>
            <a:br>
              <a:rPr sz="3000"/>
            </a:b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ST =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cs-CZ" sz="30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X)</a:t>
            </a:r>
            <a:r>
              <a:rPr b="0" lang="cs-CZ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]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3348000" y="3716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Analýza rozptylu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773000"/>
            <a:ext cx="86151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ST =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cs-CZ" sz="30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X)</a:t>
            </a:r>
            <a:r>
              <a:rPr b="0" lang="cs-CZ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]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ST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(27</a:t>
            </a:r>
            <a:r>
              <a:rPr b="0" lang="cs-CZ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+20</a:t>
            </a:r>
            <a:r>
              <a:rPr b="0" lang="cs-CZ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+22</a:t>
            </a:r>
            <a:r>
              <a:rPr b="0" lang="cs-CZ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+…+33</a:t>
            </a:r>
            <a:r>
              <a:rPr b="0" lang="cs-CZ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)–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(906)</a:t>
            </a:r>
            <a:r>
              <a:rPr b="0" lang="cs-CZ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/33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ST = 26016 – 24873,818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SST = 1142,18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Analýza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2. krok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výpočet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rozptylu mezi skupinami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SSB (SS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Verdana"/>
              </a:rPr>
              <a:t>between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SB = </a:t>
            </a:r>
            <a:r>
              <a:rPr b="0" lang="cs-CZ" sz="33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Verdana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X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Verdana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-X)</a:t>
            </a:r>
            <a:r>
              <a:rPr b="0" lang="cs-CZ" sz="30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Verdana"/>
              </a:rPr>
              <a:t>k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je počet osob ve skupině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Verdana"/>
              </a:rPr>
              <a:t>k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je průměr skupiny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1619280" y="4941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3348000" y="342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3924360" y="342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Analýza rozptylu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SB = </a:t>
            </a:r>
            <a:r>
              <a:rPr b="0" lang="cs-CZ" sz="33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Verdana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X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Verdana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-X)</a:t>
            </a:r>
            <a:r>
              <a:rPr b="0" lang="cs-CZ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SB = 12*(23,75-27,45)</a:t>
            </a:r>
            <a:r>
              <a:rPr b="0" lang="cs-CZ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+ 10*(27,60-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27,45)</a:t>
            </a:r>
            <a:r>
              <a:rPr b="0" lang="cs-CZ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+ 11*(31,36-27,45)</a:t>
            </a:r>
            <a:r>
              <a:rPr b="0" lang="cs-CZ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SB = 12*(-3,7)</a:t>
            </a:r>
            <a:r>
              <a:rPr b="0" lang="cs-CZ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+10*(0,15)</a:t>
            </a:r>
            <a:r>
              <a:rPr b="0" lang="cs-CZ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+(11*3,91)</a:t>
            </a:r>
            <a:r>
              <a:rPr b="0" lang="cs-CZ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SSB = 332,968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3059280" y="1844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/>
          <p:nvPr/>
        </p:nvSpPr>
        <p:spPr>
          <a:xfrm>
            <a:off x="3635280" y="1844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Analýza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-4554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3. krok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výpočet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rozptylu uvnitř skupin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SSW (SS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Verdana"/>
              </a:rPr>
              <a:t>within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SW = </a:t>
            </a:r>
            <a:r>
              <a:rPr b="0" lang="cs-CZ" sz="33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X-X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Verdana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cs-CZ" sz="30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Verdana"/>
              </a:rPr>
              <a:t>k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je průměr skupiny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ýpočetní rovnic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SW = SST - SSB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1619280" y="3789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3492360" y="3284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Analýza rozptylu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SW = SST – SSB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SW = 1142,182 – 332,986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SSW = 809,196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059280" y="1844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635280" y="1844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orovnávání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-testy jsou určeny pouze pro porovnávání dvojice průměr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mnoha výzkumných plánech je však více skupin než dvě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apř. v příkladu s testováním účinnosti nového léku může být kromě skupin s testovaným lékem a placebem ještě skupina se starým léke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Analýza rozptylu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-4554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4. krok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– výpočet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stupňů volnost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o SST: dft = n-1 (n je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celkový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počet osob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dft = 33-1 = 32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o SSB: dfb = k-1 (k je počet skupi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dfb = 3-1 = 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o SSW: dfw = n-k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dfw = 33-3 = 30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Analýza rozptylu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66640" y="1752480"/>
          <a:ext cx="8001000" cy="3967200"/>
        </p:xfrm>
        <a:graphic>
          <a:graphicData uri="http://schemas.openxmlformats.org/drawingml/2006/table">
            <a:tbl>
              <a:tblPr/>
              <a:tblGrid>
                <a:gridCol w="1600200"/>
                <a:gridCol w="1973520"/>
                <a:gridCol w="1226880"/>
                <a:gridCol w="1600200"/>
                <a:gridCol w="1600200"/>
              </a:tblGrid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twee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2,98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6,49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,1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thi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9,19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,97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42,18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rozptyl mezi skupina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rozptyl uvnitř skup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 flipH="1" flipV="1">
            <a:off x="6659640" y="2997000"/>
            <a:ext cx="1008000" cy="1726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6227640" y="4076280"/>
            <a:ext cx="144720" cy="1297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Analýza rozptylu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F = rozptyl mezi / rozptyl uvnitř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F = MSB / MS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F = 166,493 / 26,97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F = 6,17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F vypadá větší než 1, ale jak je pravděpodobné, že by tento výsledek byl náhodný? tj., je F statisticky významné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Analýza rozptylu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F (2, 30) = 6,17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8785440" cy="67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260960" y="324648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33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68360" y="0"/>
            <a:ext cx="8496360" cy="68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Analýza rozptylu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F (2, 30) =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6,1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kritická hodnota F pro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5%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hladinu významnosti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cs-CZ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F = 3,3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kritická hodnota F pro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1%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hladinu významnost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F = 5,3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F (2, 30) = 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6,17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   p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&lt; 0.0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rozd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íl mezi průměry </a:t>
            </a:r>
            <a:br>
              <a:rPr sz="3000"/>
            </a:b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je statisticky významný </a:t>
            </a:r>
            <a:br>
              <a:rPr sz="3000"/>
            </a:b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na 1% hladině významnost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ýstup v SPS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8748720" cy="301788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66280" y="4652640"/>
            <a:ext cx="80010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rozptyl mezi skupinami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rozptyl uvnitř skupi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hladina významnost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635280" y="3573000"/>
            <a:ext cx="1513080" cy="115092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4932360" y="4005000"/>
            <a:ext cx="647640" cy="115236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6443640" y="3645000"/>
            <a:ext cx="1728720" cy="19447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nohonásobná porovnává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ůkaznost F nám řekne,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zd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existují průkazné rozdíly mezi průmě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le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n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ozvíme se tak,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mezi kterými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skupinami je průkazný rozdíl (která skupina se liší od které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 třeba provést tzv.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mnohonásobná porovnán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multiple comparisons nebo post-hoc comparison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nohonásobná porovnává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195640" y="1773360"/>
          <a:ext cx="5419440" cy="425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95640" y="1773360"/>
                    <a:ext cx="5419440" cy="42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orovnávání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ozdíly mezi více skupinami by sice bylo možné otestovat po dvojicích pomocí t-testu, ale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avděpodobnosti v tabulce t-rozdělení jsou spočítány za předpokladu, že je prováděno pouze jediné srovnán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čím více testů, tím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vyšší pravděpodobnost chyby I. druhu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(např. pro 3 srovnání je 5% alfa ve skutečnosti 10%, pro 10 srovnání 30% atd.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nohonásobná porovnává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de vpodstatě o upravené t-testy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upravené vzhledem k počtu porovnáván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existuje více různých typů mnohonásobných porovnávání, např. Fisherův LSD test, Bonferroniho test, Tukeyho test, Scheffeho test atd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nohonásobná porovnává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yto testy jsou si hodně podobné vzorcem pro jejich výpočet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liší se však ve způsobu, jak se u nich stanovuje hladina významnosti (Fisherův LSD test je liberálnější, zatímco ostatní uvedené přísnější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nohonásobná porovnává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kud bychom tyto testy spočítali u předchozího příkladu, zjistili bychom, že průkazný rozdíl je mezi skupinou osob, které byly v místnosti sami, a skupinou se 4 dalšími lidm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nohonásobná porovnává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0" y="1916280"/>
            <a:ext cx="954072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Opakovaná měře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nalýza rozptylu může být aplikována také na data z opakovaných měře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odobně jako t-test pro závislé výběry; analýza rozptylu se použije v případě, máme-li více než dvě měřen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apř. v příkladu u t-testu – změna hmotnosti u dívek s PPP po terapii – hmotnost by mohla být měřena i několikrát v průběhu terapi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Opakovaná měře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cedura se nazývá Analýza rozptylu pro opakovaná měření (Repeated measure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logika výpočtu je obdobná jako u analýzy rozptylu pro nezávislá da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iální analýza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faktor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 v analýze rozptylu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nezávislá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proměnn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prvním příkladu (bystander effect) byl pouze jeden faktor (počet osob); podobně u opakovaných měření (terapie – před a po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iální analýza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áme-li faktorů (nezávislých proměnných) více, použijeme faktoriální ANOV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ůže jít o porovnání nezávislých výběrů, o opakovaná měření nebo obojí najednou (tzv. mixed design –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se smíšenými efekty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iální analýza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příklad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: neuropsycholog zkoumá oblasti mozku odpovídající za tvorbu a porozumění řeč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yšetří speciálním testem 24 náhodně vybraných pacientů s poškozenou levou hemisférou mozku – polovina z nich jsou muži a polovina ženy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kromě mezipohlavních rozdílů ho zajímá rovněž, zda bude rozdíl mezi praváky a leváky (těch je rovněž 12 a 12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iální analýza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ento design se zapisuje 2x2 ANOVA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2 kategorie pohlaví (muži x ženy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2 kategorie laterality (leváci x praváci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Analýza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to je vhodnější místo mnoha t-testů použít jinou statistickou techniku – analýzu rozptyl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an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lysis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f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v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iance –ANOV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umožňuje otestovat rozdíly mezi průměry více skupin najedno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566640" y="304920"/>
          <a:ext cx="8008920" cy="6335640"/>
        </p:xfrm>
        <a:graphic>
          <a:graphicData uri="http://schemas.openxmlformats.org/drawingml/2006/table">
            <a:tbl>
              <a:tblPr/>
              <a:tblGrid>
                <a:gridCol w="2670120"/>
                <a:gridCol w="2668680"/>
                <a:gridCol w="26701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váci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váci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ži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f18e"/>
                    </a:solidFill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f18e"/>
                    </a:solidFill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f18e"/>
                    </a:solidFill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f18e"/>
                    </a:solidFill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f18e"/>
                    </a:solidFill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f18e"/>
                    </a:solidFill>
                  </a:tcPr>
                </a:tc>
              </a:tr>
              <a:tr h="48996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žen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889308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395280" y="189000"/>
          <a:ext cx="8497800" cy="6553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89000"/>
                    <a:ext cx="849780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iální analýza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faktoriální analýza rozptylu testuj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hlavní efek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interak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iální analýza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hlavní efekt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main effect) – vliv jedné nezávislé proměnné zprůměrovaný pro všechny úrovně ostatních nezávislých proměnnýc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u faktoriální ANOVy jsou testovány hlavní efekty pro všechny fakto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příkladu testujeme hlavní efekt pro pohlaví a lateralit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79280" y="549360"/>
            <a:ext cx="8964720" cy="60483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50920" y="3213000"/>
            <a:ext cx="1873080" cy="432000"/>
          </a:xfrm>
          <a:prstGeom prst="ellipse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7740720" y="3213000"/>
            <a:ext cx="1008000" cy="432000"/>
          </a:xfrm>
          <a:prstGeom prst="ellipse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iální analýza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ůkazný (na hladině 1%) hlavní efekt pro faktor pohlaví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ženy mají celkově vyšší skóry než muži (16,2 a 11,0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179280" y="549360"/>
            <a:ext cx="8964720" cy="60483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250920" y="3645000"/>
            <a:ext cx="1873080" cy="431640"/>
          </a:xfrm>
          <a:prstGeom prst="ellipse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7596360" y="3645000"/>
            <a:ext cx="1296720" cy="431640"/>
          </a:xfrm>
          <a:prstGeom prst="ellipse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iální analýza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ůkazný (na hladině 1%) hlavní efekt pro faktor lateralita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leváci mají celkově vyšší skóry než praváci (15,3 a 11,9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iální analýza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interakce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e projeví v případě, kdy vliv jedné nezávislé proměnné není stejný na všech úrovních druhé nezávislé proměnn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příkladu – je vliv laterality stejný u mužů a žen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okud ano, není zde interak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okud ne, je zde interak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Logika analýzy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nalýza rozptylu nevyužívá pro testování rozdílu mezi průměry samotné průměry, ale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rozptyly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čítají se dva odhady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rozptyl uvnitř skupin (within-groups nebo within-subjects varianc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rozptyl mezi skupinami (between-groups nebo between-subjects varianc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"/>
          <p:cNvGraphicFramePr/>
          <p:nvPr/>
        </p:nvGraphicFramePr>
        <p:xfrm>
          <a:off x="395280" y="189000"/>
          <a:ext cx="8497800" cy="6553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89000"/>
                    <a:ext cx="849780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179280" y="549360"/>
            <a:ext cx="8964720" cy="60483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50920" y="3933720"/>
            <a:ext cx="2233440" cy="576360"/>
          </a:xfrm>
          <a:prstGeom prst="ellipse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7596360" y="4005360"/>
            <a:ext cx="1223640" cy="431640"/>
          </a:xfrm>
          <a:prstGeom prst="ellipse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iální analýza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interakce mezi pohlavím a lateralitou je průkazná (na 5% hladině významnosti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u žen nehraje lateralita pro výkon v testu roli – levačky a pravačky se neliší, zatímco u mužů leváci a praváci an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iální analýza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bez interakce – pouze hlavní efek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539640" y="2637000"/>
            <a:ext cx="8209080" cy="28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iální analýza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interak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539640" y="2637000"/>
            <a:ext cx="8209080" cy="28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Verdana"/>
              </a:rPr>
              <a:t>Opakovaná měření s další nezávislou proměnnou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faktoriální design je možno uplatnit i u analýzy opakovaných měře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interakce zde znamená, že jsou různě velké rozdíly mezi měřeními u jednotlivých kategorií nezávislé proměnn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Verdana"/>
              </a:rPr>
              <a:t>Opakovaná měření s další nezávislou proměnnou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říklad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: psychiatr testující léčbu anorexie by mohl soubor rozdělit na dívky podstupující terapii dobrovolně a nedobrovolně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interakce by mohla vypadat třeba tak, že u motivovaných dívek by došlo k nárůstu hmotnosti, zatímco u nedobrovolných pacientek ke stagnac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Verdana"/>
              </a:rPr>
              <a:t>Opakovaná měření s další nezávislou proměnnou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2124000" y="1989000"/>
            <a:ext cx="463860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Analýza kovarian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romě kategoriálních faktorů je možno do analýzy zařadit také spojitou nezávislou proměnnou – tzv.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kovariá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ak jde o analýzu kovariance (ANCOVA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Analýza kovarian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říklad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: šéf firmy obdrží stížnost od zaměstnankyň, že ženy mají nižší platy než muž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dle porovnání průměrů to tak vypadá, ale co kdybychom do analýzy zařadili jako další faktor (kovariát) délku prax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Logika analýzy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rozptyl uvnitř skupin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je ukazatel celkové variability uvnitř skupin – tj. jak se od sebe vzájemně liší osoby v rámci jednotlivých skupi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rozptyl mezi skupinami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je měřítkem variability mezi skupinami – tj. jak se od sebe liší skupiny osob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ícenásobná analýza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398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e všech předchozích příkladech jsme měli pouze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jednu závislou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proměnno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 však možno testovat také vliv jednoho či více faktorů na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několik závislých proměnných najedno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ato analýza se označuje jako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MANOV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multivariate analysis of variance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ícenásobná analýza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příklad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: reklamní psycholog chce porovnat účinnost dvou typů TV reklam (emocionální x informativní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echá respondenty hodnotit na 7-ti stupňové škále 3 aspekty účinnosti reklamy: zda je reklama zaujala, zda se jim líbí a jestli by uvažovali o koupi inzerovaného výrobk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tyto 3 závislé proměnné pak porovná pro typ reklamy jako fak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Kontrolní otázk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jaké typy rozptylu jsou v analýze rozptylu porovnávány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k čemu v analýze rozptylu slouží mnohonásobná porovnávání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uveďte příklady výzkumných plánů, při kterých by bylo možno použít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faktoriální analýzu rozptylu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analýzu opakovaných měření s kovariáte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vícerozměrnou analýzu rozptylu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Logika analýzy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měr těchto dvou rozptylů je statistika F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rozptyl mezi skupinami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F = rozptyl uvnitř skupi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Logika analýzy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kud nejsou mezi skupinami rozdíly, pak by měl být rozptyl mezi skupinami a uvnitř skupin velmi podobný (teoreticky shodný - F=1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kud jsou mezi skupinami rozdíly, pak budou tyto rozdíly (between)větší než vzájemné rozdíly mezi osobami uvnitř skupin (within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Logika analýzy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-li F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&gt;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1, pak kromě F musíme ještě spočítat pravděpodobnost, že bychom takto vysoké získali náhodou (tj. statistickou významnost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tabulk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F rozdělení je vždy pro konkrétní hodnotu alfa; má v řádcích počet stupňů volnosti pro rozptyl uvnitř skupin a ve sloupcích pro rozptyl mezi skupinam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5T18:17:40Z</dcterms:created>
  <dc:creator>Helena Klimusová</dc:creator>
  <dc:description/>
  <dc:language>en-US</dc:language>
  <cp:lastModifiedBy>Helena</cp:lastModifiedBy>
  <dcterms:modified xsi:type="dcterms:W3CDTF">2004-04-27T06:00:13Z</dcterms:modified>
  <cp:revision>374</cp:revision>
  <dc:subject/>
  <dc:title>adrenalin expri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