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4EC-7D7C-4697-BD26-12971D99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E3E-2F15-463B-AD28-1447EFCA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2AE-2D07-437A-A221-24AAAE83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382-4729-4A91-AA84-77EB43BA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D0E2-78D4-4337-8681-F6E24201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161E-9056-4C2F-9F81-BCCA10CF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6ADF-4A65-4DD1-B695-321A7D9F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0568-81E8-44FB-8EE8-B0A66404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B19C-FF1E-405E-A43B-9AE2AB04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77F6-316A-4620-A306-664AD442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CEE4-5560-4553-A3E2-EDBA7ED0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7D2-56EE-4433-AB33-E8B7743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BE93-5D73-4DC4-AD46-FE89751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0A63-A0D2-41FC-B5C9-CB6DC47A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597D-05F4-4A56-81CC-4A56876A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0C5C-EFD2-4F18-BB7B-816D4C65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EDA6-0CDB-4C34-B2AC-027BB883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540-62BA-4A45-8B1C-C00CEBBA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11D-61F7-4967-937A-23BDBA1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AEE-3129-4630-8FF2-4AE37DAA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6F5-CD45-4306-8996-E87E9EB6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99A-0B6F-4288-A791-C4728CC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E20-B722-4634-B571-783AFEF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D38-E836-445F-82E6-B2E7D34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6786-BD06-48A5-9AF1-1231F4820A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BFD9-2B14-404B-957A-3A3FF4A7B8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ční a regresní analýz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earsonův korelační koeficie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spolu souvisí pocit štěstí a míra extraverz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0 osob, 2 proměnné – skór z dotazníku štěstí a skór ze škály extraver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35280" y="1752480"/>
          <a:ext cx="4824360" cy="448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752480"/>
                    <a:ext cx="482436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205000"/>
          <a:ext cx="7920000" cy="2160360"/>
        </p:xfrm>
        <a:graphic>
          <a:graphicData uri="http://schemas.openxmlformats.org/drawingml/2006/table">
            <a:tbl>
              <a:tblPr/>
              <a:tblGrid>
                <a:gridCol w="2087640"/>
                <a:gridCol w="647640"/>
                <a:gridCol w="431640"/>
                <a:gridCol w="432000"/>
                <a:gridCol w="649080"/>
                <a:gridCol w="360360"/>
                <a:gridCol w="647640"/>
                <a:gridCol w="648000"/>
                <a:gridCol w="720720"/>
                <a:gridCol w="574560"/>
                <a:gridCol w="720720"/>
              </a:tblGrid>
              <a:tr h="103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štěst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raverz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počet 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38880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P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XY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4716720" cy="507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268360" y="3068640"/>
            <a:ext cx="4104000" cy="588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268360" y="4365720"/>
            <a:ext cx="39592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P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XY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91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158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144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r = 91,9/( 158,9*144,9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c0000"/>
                </a:solidFill>
                <a:latin typeface="Verdana"/>
              </a:rPr>
              <a:t>r = 0,606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4076640"/>
            <a:ext cx="7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16360" y="4005360"/>
            <a:ext cx="71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987640" y="4005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136000" cy="299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5364000" y="4220640"/>
            <a:ext cx="576360" cy="28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shoda v tom, jaká hodnota r je považována za těsný vzt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interpretace navržená Guilford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20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nedbatel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20-0.4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příliš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40-0.7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ředně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70-0.9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mi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9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extrémně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lepší interpretaci je vhodné převést koeficient korelace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determinace (r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e, kolik rozptylu v jedné proměnné může být vysvětleno rozptylem ve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našem příklad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 = 0,6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0,36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6,7% rozdílů v míře štěstí můžeme vysvětlit rozdíly v míře extraver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intervalových a poměrových dat můžeme jako míru asociace – vztahu mezi proměnnými použí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rel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 = s, spolu, vzájem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elace =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relace = vzájemný vztah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relace neznamená příčinný vztah mezi proměnnými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n můžeme ověřovat pouze experimentem, kdy jsou všechny ostatní proměnné udržovány konstatní, proměnná X předchází Y v čase at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y ovlivňující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mezený rozsah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ití extrémních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homogenní soubo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trémní hodnoty (outlier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lineární vzt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iabilita použitých nástroj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mezený rozsah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mezený rozsah hodnot jedné nebo obou proměnných snižuje hodnotu 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ejně tak nízká variabilita (extrémní případ:pokud by všechny hodnoty 1 proměnné byly stejné, zákonitě r=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užití extrémních skup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605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ití extrémních skupin (např. jen osob s vysokým IQ) vede k vyššímu 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80643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homogenní soub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zkreslit r jak směrem nahoru, tak do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3141720"/>
            <a:ext cx="25606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49417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522936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809720" y="478800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5084640"/>
            <a:ext cx="7632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2043000" y="43243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333520" y="468468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4149720"/>
            <a:ext cx="7632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2508120" y="4376880"/>
            <a:ext cx="7632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682720" y="4221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407664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2741760" y="391320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371628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3381480" y="355284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5300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4724280"/>
            <a:ext cx="7632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08464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2916360" y="472428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5013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4508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4797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443700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4869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544500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4869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22100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414972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2050920" y="530064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4716360" y="3141720"/>
            <a:ext cx="25606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508720" y="4292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414972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386064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414972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3789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5219640" y="3645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29264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3573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372360" y="4365720"/>
            <a:ext cx="7596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486900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6516720" y="458136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4221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443640" y="4653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479736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6156360" y="400536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6084720" y="4437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6156360" y="429264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4653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012000" y="422100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436572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472428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6443640" y="41497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4365720"/>
            <a:ext cx="7596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Extrémní hodno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trémní hodnoty v jedné nebo obou proměnných mohou r výrazně zkreslit (nejen hodnotu, ale i směr), zvláště když je počet osob v souboru nízk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Extrémní hodno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= 0,6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= 0,76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9640" y="2492280"/>
          <a:ext cx="3319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92280"/>
                    <a:ext cx="3319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788000" y="2492280"/>
          <a:ext cx="3247920" cy="33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92280"/>
                    <a:ext cx="324792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ý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rdinální data je možno spočíta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earmanův koeficient pořadov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ítá se tak, ž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odnoty obou proměnných se seřadí od nejnižší po nejvyšší a přidělí se jim pořad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pořadí se pak počítá Pearsonův koeficient kore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ciální korel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ciální korelace je taková korelace mezi dvěma proměnnými, kdy kontrolujeme vliv třetí proměnné na obě z ni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chceme zjistit, jaký je vztah mezi prospěchem na SŠ a prospěchem na VŠ; obě proměnné jsou nejspíš ovlivněny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sledkem regresní analýzy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atematický model vztahu mezi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ěma nebo víc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nažíme se z jedné proměnné nebo lineární kombinace více proměnných predikovat hodnoty další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bsolutní hodnota koeficientu vyjadřu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ílu (těsnost)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ménko (+ nebo -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sah -1 až +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čuje s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a typy proměnných: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edikovaná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závislá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ediktor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nezávisle proměn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edikovaná proměnná se označu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prediktory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…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ze 1 prediktor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dnoduchá regre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prediktorů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ícenásobná regre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analýza umožňu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rozumět vztahům mezi proměnnými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edikovat hodnoty proměnné Y z hodnot proměnné X (s určitou přesností) – např. z hodnot známek na střední škole nebo z počtu bodů u přijímacího testu předpovědět úspěšnost na V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Jak souvisí vzdělání respondenta se vzděláním otc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j. jak dobře můžeme předpovědět počet let formálního vzdělání respondenta z údaje o počtu let vzdělání jeho otc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63640" y="1700280"/>
          <a:ext cx="568800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700280"/>
                    <a:ext cx="56880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nažíme se najít rovnici tzv. regresní přím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egresní přímk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taková přímka, od které je vzdálenost bodů (představujících naměřená data) co nejménš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ová přímka, která nejlépe vystihuj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8000" y="1844640"/>
          <a:ext cx="4978440" cy="420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844640"/>
                    <a:ext cx="497844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 flipV="1">
            <a:off x="3059280" y="2923920"/>
            <a:ext cx="3097080" cy="10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etod, jak regresní přímku nalézt,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toda nejmenších čtverc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zvolena taková přímka, kdy platí, že součet čtverců vzdáleností jednotlivých bodů od přímky je minim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ecná rovnice regresní přím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a + b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nstant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edikovaná hodnota Y, když hodnota X je 0)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směrni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přímky (úhel přímky vzhledem k ose; kolikrát se Y zvětší s každou jednotkou X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říkladu vychází rovnice regresní přímky 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 = 9,93 + 0,32*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děti otců s 0 lety vzdělání předpovídáme necelých 10 let vzděl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 každým dalším rokem otcova vzdělání předpovídáme o 0,32 roku vzdělání respondenta víc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apř. pro děti otců s 12 lety vzdělání je predikovaná hodnota jejich vlastního vzdělání 13,8 l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577440" cy="2736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flipV="1">
            <a:off x="3132000" y="3860280"/>
            <a:ext cx="36036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132000" y="4149360"/>
            <a:ext cx="432000" cy="73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3203640" y="2781360"/>
            <a:ext cx="1800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ám o sobě je deskriptivní statistikou, ale podobně jako u ostatních měr asociace je možno spočís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tistickou význam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visí na velikosti výběru – čím vyšší, tím nižší koeficient vychází průkaz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edikujeme závislou proměnnou z více predik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každého z prediktorů na závislou proměnnou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ntrolov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vliv všech ostatních prediktorů (jde tedy o  vliv „očištěný od vlivů ostatních proměnných a tudíž počítáme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arciál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koeficient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kromě vzdělání otc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mít na dosažené vzdělání vliv také počet dětí v rodině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vnice regresní přímky 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a + b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+ b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10,68 + 0,30*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– 0,13*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vzdělání otce (b=0,30) je o něco menší než u jednoduché regresní analýzy (b=0,32) – je kontrolován pro počet dětí v rodině, který je zřejmě ovlivněn také vzděláním ot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počtu dětí v rodině je záporný – tj. čím více dětí, tím nižší vzdělá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násobná regresní analýza nám umožní srovnat vliv všech prediktorů na závislou proměn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dojít k závěru, že větší vliv na vzdělání respondenta má vzdělání otce než počet dětí v rodině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srovnávat vliv prediktorů měřených v různých jednotkách, je nutné použí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dardizované regresní koeficien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í, kolikrát vzroste hodnota závislé proměnné, pokud se změní hodnota prediktoru o 1 směrodatnou odchylku a hodnoty ostatních prediktorů přitom zůstanou konstat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7848360" cy="2951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5219640" y="4292640"/>
            <a:ext cx="432000" cy="288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364000" y="4723920"/>
            <a:ext cx="43200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2924280"/>
            <a:ext cx="180036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eta pro vzdělání otce je 0,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počet dětí v rodině -0,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í vliv má tedy vzdělání otce než počet dětí v rodi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regresních koeficientů je počítán také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vícenásobn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korelace všech prediktorů se závislou proměnnou; ozn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vlastně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relaci mez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zorovan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ami závislé proměnné a hodnotami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edikovan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na základě regresního mode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eficien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ícenásobné determina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tzv. % vysvětleného rozptylu (závislé proměnné) lineární kombinací prediktorů; ozn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416720" cy="3198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flipV="1">
            <a:off x="2050920" y="3573000"/>
            <a:ext cx="43200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419640" y="357300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mír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uze pro lineární vzt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 výpočtem je vhodné zobrazit vztah mezi proměnnými také graficky –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cat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dvourozměrný tečkový diagra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jednoduché regresní analýzy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vícenásobn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ven korelaci mezi oběma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Testování hypotéz v regresní analýz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sou testovány 2 typy hypoté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) zda se R průkazně liší od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uje se analýzou rozptylu (porovnává rozptyl vysvětlený regresním modelem a reziduální rozpty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) zda se regresní koeficienty průkazně liší od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uje se t-testem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13600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 flipV="1">
            <a:off x="7308720" y="3573000"/>
            <a:ext cx="43200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7848360" cy="2951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 flipV="1">
            <a:off x="7093080" y="414936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020000" y="4723920"/>
            <a:ext cx="43164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y v proměnných jsou nezávislé (nejde např. o opakovaná měře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tatečná variabilita všech proměnný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proměnných je normál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malých výběrů zkontrolovat extrémní hodnot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y mezi Y a každou X jsou lineár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kontrolovat scatter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ájemné korelace mezi prediktory nejsou příliš vysoké (tzv. problém mulikolinearit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ano, je vhodné buď některou z nich vyřadit, nebo z nich vytvořit např. faktorovou analýzou jeden skó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tatečně velký počet osob ve výběru vzhledem k počtu prediktorů v mode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vyjadřuje absolutní hodnota Pearsonova koeficientu korelace? a co jeho znaménko (+ nebo -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je to koeficient determina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může být zkreslen korelační koefici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el regresní analýz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becná rovnice regresní přím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 se interpretují regresní koeficien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je to koeficient vícenásobné korela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římá úměra) – čím vyšší hodnoty proměnné X, tím vyšší hodnoty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gt;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59280" y="2060640"/>
            <a:ext cx="3352680" cy="3733560"/>
            <a:chOff x="4859280" y="2060640"/>
            <a:chExt cx="3352680" cy="3733560"/>
          </a:xfrm>
        </p:grpSpPr>
        <p:sp>
          <p:nvSpPr>
            <p:cNvPr id="97" name=""/>
            <p:cNvSpPr/>
            <p:nvPr/>
          </p:nvSpPr>
          <p:spPr>
            <a:xfrm>
              <a:off x="4859280" y="2060640"/>
              <a:ext cx="3352680" cy="37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987800" y="2670120"/>
              <a:ext cx="2842200" cy="2386080"/>
              <a:chOff x="4987800" y="2670120"/>
              <a:chExt cx="2842200" cy="23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4987800" y="487980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444640" y="49561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73240" y="44989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92000" y="44989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54120" y="42703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77800" y="38131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359040" y="43466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11320" y="350820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87640" y="38894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16240" y="36608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20800" y="373680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92200" y="3203640"/>
                <a:ext cx="9972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78000" y="3203640"/>
                <a:ext cx="9972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730640" y="26701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epřímá úměra) – čím vyšší hodnoty proměnné X, tím nižší hodnoty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lt;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932360" y="1989000"/>
            <a:ext cx="3352680" cy="3733560"/>
            <a:chOff x="4932360" y="1989000"/>
            <a:chExt cx="3352680" cy="3733560"/>
          </a:xfrm>
        </p:grpSpPr>
        <p:sp>
          <p:nvSpPr>
            <p:cNvPr id="116" name=""/>
            <p:cNvSpPr/>
            <p:nvPr/>
          </p:nvSpPr>
          <p:spPr>
            <a:xfrm>
              <a:off x="4932360" y="1989000"/>
              <a:ext cx="3352680" cy="37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6051240" y="3741480"/>
              <a:ext cx="99720" cy="10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060880" y="2598480"/>
              <a:ext cx="2842200" cy="2386080"/>
              <a:chOff x="5060880" y="2598480"/>
              <a:chExt cx="2842200" cy="238608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5060880" y="2674080"/>
                <a:ext cx="9936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517720" y="25984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746320" y="30556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365080" y="30556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127200" y="32842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432120" y="32079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6584400" y="4045680"/>
                <a:ext cx="9972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660720" y="36651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6889320" y="38937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193880" y="3817080"/>
                <a:ext cx="9972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965280" y="435096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7270200" y="44272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651080" y="435096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803720" y="48844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žádný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hodnoty proměnné X nesouvisí s hodnotami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892760" y="2036880"/>
            <a:ext cx="33526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96000" y="429264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08720" y="2492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732720" y="3213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877080" y="263628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148360" y="4149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012000" y="3645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580000" y="3141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77080" y="4653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812000" y="3573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407664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596360" y="2996640"/>
            <a:ext cx="9972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12000" y="494172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451640" y="5013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736040" y="428472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888320" y="481752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lineární vzt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916280"/>
            <a:ext cx="33526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0360" y="4005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35640" y="486828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24360" y="4365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24360" y="4581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508720" y="5157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156360" y="3645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659640" y="3645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12000" y="4221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227640" y="3933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43640" y="3500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77080" y="3500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93080" y="378936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24720" y="3716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524720" y="4149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85080" y="429264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101080" y="450792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85080" y="4724280"/>
            <a:ext cx="7164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101080" y="494028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56720" y="515772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236000" y="364500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2T00:25:57Z</dcterms:modified>
  <cp:revision>297</cp:revision>
  <dc:subject/>
  <dc:title>statisti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