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DC54-4FB0-427E-A9E2-45842448D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F879-19B2-462C-8438-D2B11E853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0ED6-73C3-43BB-9373-8A614789C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34100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822840"/>
            <a:ext cx="264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B97A-1EBE-4EB1-A167-61167E254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9BFF-05D2-4834-B914-06338BAEC1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2528F-09ED-4143-B102-A2D008005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9185-DEA0-42C2-9631-C580A8173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5DF4-CA9A-423E-925E-00AD178A0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86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EAEFE-DE90-481C-9B54-EB6BC2552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282C-74C3-4527-BDF8-5DDC37291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82284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A96F4-EB27-4242-949D-8B8051AE1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341000"/>
            <a:ext cx="40158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822840"/>
            <a:ext cx="8229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C3D3-8A24-4602-AF3D-6CA80B72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066000"/>
            <a:ext cx="72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360" y="6265440"/>
            <a:ext cx="57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23A1-8288-46A2-AEBE-4872022B517E}" type="slidenum">
              <a:rPr b="1" lang="en-US" sz="2400" spc="-1" strike="noStrike">
                <a:solidFill>
                  <a:srgbClr val="ff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474880" y="633096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Arial"/>
              </a:rPr>
              <a:t>Základy marketingového výzku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29228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é test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CE84-C072-4174-892E-3EE38653D9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5680" y="17002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700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99DE-E12F-428A-9030-D9CA00BA17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444" t="3792" r="1691" b="3792"/>
          <a:stretch/>
        </p:blipFill>
        <p:spPr>
          <a:xfrm>
            <a:off x="324000" y="1197000"/>
            <a:ext cx="8515080" cy="48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44A1-E3F0-40F6-8705-72E4497F29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ednoduc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ožné začlenit prakticky do jakéhokoliv výzkum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Hypotetická situa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Izolované hodnocení jednoho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elze interpolovat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mezený počet cenových hladin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7985-5490-4A94-94DD-329DA118BC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enová citlivost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29"/>
                </a:solidFill>
                <a:latin typeface="Tahoma"/>
              </a:rPr>
              <a:t>Van Westendorp - price senzitivity meter - PSM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Pokládáme čtyři otázky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pro respondenta levný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LEVNÝ)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které by byl výrobek tak levný, že by to vzbudilo pochybnosti o jeho kvalitě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LEVNÝ)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pro respondenta již drahý. 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DRAHÝ)</a:t>
            </a: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ahoma"/>
              </a:rPr>
              <a:t>Cena, při níž by byl výrobek tak drahý, že by si ho respondent za žádnou cenu nekoupil.</a:t>
            </a: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Tahoma"/>
              </a:rPr>
              <a:t>(PŘÍLIŠ DRAHÝ) 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490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516D-93B3-4683-AA20-2C08660C21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04360" y="4492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12600" y="42624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85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24360" y="691920"/>
            <a:ext cx="9349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88000" y="25884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utr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běžnější cena na trhu, někdy to bývá medián ceny nebo cena dominantního výrob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5601-AA14-42D0-8445-5ED57D6008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83680" y="4005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64120" y="371628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5157720"/>
            <a:ext cx="35856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35280" y="1717200"/>
            <a:ext cx="1152720" cy="34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timální cen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jčastěji doporučená cena. Cena proti které je na trhu nejméně námit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4880" y="4865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2EE2-83A3-48FC-9ED2-678FBD66C2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981000"/>
            <a:ext cx="4032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val nejlepší ceny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mozřejmě čím větší je, tím větší má výrobce prostor pro stanovení ce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780000" y="1484280"/>
            <a:ext cx="1008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4880" y="494676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E166-E511-44A0-B165-238B72B635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55640" y="2133720"/>
          <a:ext cx="793764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937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56480" y="24811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78960" y="3062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84840" y="342900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říliš 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21080" y="5229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26028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levn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Cheap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292428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9244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851280" y="2637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24880" y="4795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72600" y="466236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h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626920" y="692280"/>
            <a:ext cx="576360" cy="38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720" y="25178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6960" y="4941720"/>
            <a:ext cx="5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684520"/>
            <a:ext cx="0" cy="288108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7600" y="407664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69720" y="414972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2690640"/>
            <a:ext cx="0" cy="2881440"/>
          </a:xfrm>
          <a:prstGeom prst="line">
            <a:avLst/>
          </a:prstGeom>
          <a:ln w="349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1052640"/>
            <a:ext cx="403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od marginální drahosti</a:t>
            </a:r>
            <a:br>
              <a:rPr sz="2400"/>
            </a:b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Point of Marginal Expensive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508720" y="1844640"/>
            <a:ext cx="1079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7080" y="429264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4581360"/>
            <a:ext cx="358920" cy="360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199400">
            <a:off x="3992400" y="1051920"/>
            <a:ext cx="219240" cy="2952720"/>
          </a:xfrm>
          <a:custGeom>
            <a:avLst/>
            <a:gdLst>
              <a:gd name="textAreaLeft" fmla="*/ 0 w 219240"/>
              <a:gd name="textAreaRight" fmla="*/ 79200 w 21924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zsah akceptovatelné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02E4-A839-451A-81E7-D9EB09654F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Výhody /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Opět velmi jednoduché a pochopiteln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nadno integrovatelné do většiny výzkum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Respondent musí znát ceny v daném segment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Nebere v potaz ostatní výrobky (pouze nepřímo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D4A7-1D11-4C6F-96CC-6ABD92BC27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BPTO - Brand-Price-Trade-Off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20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Princip „spotřebitelské hry“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Respondent musí znát výrobky a jejich ceny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Vycházíme z reálných cen, ze kterých vytvoříme několik cenových hladin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Bere v potaz konkurenční prostředí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3759120"/>
          <a:ext cx="2016000" cy="2262240"/>
        </p:xfrm>
        <a:graphic>
          <a:graphicData uri="http://schemas.openxmlformats.org/drawingml/2006/table">
            <a:tbl>
              <a:tblPr/>
              <a:tblGrid>
                <a:gridCol w="1257120"/>
                <a:gridCol w="758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564000" y="3759120"/>
          <a:ext cx="2171520" cy="221940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28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908000" y="5272200"/>
            <a:ext cx="1008360" cy="3585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487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504120" y="3772080"/>
          <a:ext cx="2171520" cy="2219040"/>
        </p:xfrm>
        <a:graphic>
          <a:graphicData uri="http://schemas.openxmlformats.org/drawingml/2006/table">
            <a:tbl>
              <a:tblPr/>
              <a:tblGrid>
                <a:gridCol w="1271520"/>
                <a:gridCol w="90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Sp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Coca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Fa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Pepsi-C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5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Kof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30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92929"/>
                          </a:solidFill>
                          <a:latin typeface="Tahoma"/>
                        </a:rPr>
                        <a:t>žádn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796000" y="46958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07000" y="4518000"/>
            <a:ext cx="1008000" cy="3589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E490D-CE6F-470A-97F5-4CD936C27E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řehled lekc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Základní pojm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Metod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AFB3-64DD-4CD2-A032-CEE6135BC0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výstup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96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prvních výběrů znač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ěrnost znač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díly na trhu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řechod od jedné značky ke druhé v závislosti na ceně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eakce na změnu cen u konkurenc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pojíme-li s odhadem nakupovaného množství za danou cenu, lze odhadnout i objem prodej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Simulace chování lidí (změny DPH, zdražení, atd.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E12F-7DEE-4B29-8C07-4503865E87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PTO -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elké vzorky (nákladné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utnost provádět samostatně (nelze začlenit do jiného výzkumu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louhé, pracné a komplikované dotazová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Riziko „odhalení hry“ respondente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D3257-5B01-4ECA-B076-C91CFC1148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(preferenční analýza)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 ceně přidáváme i parametry výrobku / služby / tarif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užíváme zejména před uvedením na trh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Výstupem je komplexní pohled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kombinace ceny a parametr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ůležitost jednotlivých vlastnos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složení výrobku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6A27-5A48-4E03-AFEC-C12AF03B52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71520" y="978480"/>
            <a:ext cx="45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3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9880" y="3164400"/>
            <a:ext cx="429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Tarif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minut: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čet SMS: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řevedení volných minut: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Cena: 1000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949D-E57E-446D-8CA0-EFFB9D4AE8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0000"/>
                </a:solidFill>
                <a:latin typeface="Tahoma"/>
              </a:rPr>
              <a:t>Conjoint analýza – nevýh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rahé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Složité na pochopení, analyzování a vysvětl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Vyžaduje velké know-how agentur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Dotazovací software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Tahoma"/>
              </a:rPr>
              <a:t>Zkušené tazatele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6C87A-4037-46D5-A462-7AB9BB92D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Nabídka a poptávk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02600" y="5589000"/>
            <a:ext cx="89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konalá konkurence: firmy maximalizují ZISK, spotřebitelé maximalizují UŽIT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63640" y="836640"/>
            <a:ext cx="4896000" cy="4268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234800" y="1197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3960" y="50133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ož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BB52-A0D3-4594-9008-32458B819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Určení cen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Nákladová cena – analýza nákladů, daní, apod.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Konkurenční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optávková - výzkum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umpingová – monitoring trhů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0A63-E247-4CC1-9689-04E2937D7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08080" y="0"/>
            <a:ext cx="5127840" cy="623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1D85-D6EC-4E5D-9122-DD83BF4A9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Co nás zajímá?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ou určit cenovou strategii?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Optimální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Tzv. cenové prahy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Jak by se trh vyvíjel po příp. zdražen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0C08-CD10-4C83-AD7B-A51CE18CAF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Metody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Očekávaná cen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pravděpodobnost koupě“ (Gabor Granger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enová citlivost“ (Van Westendorp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BPTO (Brand-Price-Trade-Off)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Conjoint analýza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0F7E-49D5-4554-8D58-0C93F8D2FD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Očekávaná cena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Pro jednoduchou orientaci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Detailně představíme respondentovi výrobek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Tahoma"/>
              </a:rPr>
              <a:t>a pokládáme otázku: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JAKÁ BY BYLA OČEKÁVANÁ CENA, TOHOTO VÝROBKU?</a:t>
            </a: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D339-D8FE-4526-A1CC-6C4CDA17DE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ravděpodobnost koupě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Gabor-Granger – GG - Purchase intention 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0. léta 20. století</a:t>
            </a:r>
            <a:endParaRPr b="0" lang="en-US" sz="28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23508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7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3286080"/>
            <a:ext cx="71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3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24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upil/a byste si výrobek v testované chuti a oba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za cenu 20,90 K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jedno 140g bal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9740-BAE0-4B67-9B94-2179C7DD35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00:50Z</dcterms:created>
  <dc:creator>počitadlo</dc:creator>
  <dc:description/>
  <dc:language>en-US</dc:language>
  <cp:lastModifiedBy>user</cp:lastModifiedBy>
  <dcterms:modified xsi:type="dcterms:W3CDTF">2008-12-03T08:31:56Z</dcterms:modified>
  <cp:revision>132</cp:revision>
  <dc:subject/>
  <dc:title>Snímek 1</dc:title>
</cp:coreProperties>
</file>