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3601-8A85-4B82-9333-0403C8B2D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7A39-3E68-43CC-BB9F-6BA500936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91B3-E768-4A39-AB1C-13F838F948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355D7-B45F-4FA9-8E19-79588852EC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AB57-B0D3-46C2-8EBD-5AA012BE21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29B7-E70B-4160-9C37-8D485764A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AD6B-062B-4809-AEB9-66D352C27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3A4E-87BB-4FE2-A127-A756A1917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92A1-860F-4803-825B-EE4B69D92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6E60-C00B-4AAE-B1E9-F3B531FBE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C8B0-F1D7-44F1-BF90-E764FB0253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29356-31C1-4134-A9E6-265A74937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F967-DC5B-4789-AB18-A53394888211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to.cz/ftp/top20.csv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B2E5-1E48-49E7-BF38-11807A7536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GRP – Gross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1 point = 1 % obecné koupěschopné cílové populace (15+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užívá se pro výpočet ceny spotu 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TV stanice prodávají GRP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Česku 1 bod za 22000 Kč = 85 000 diváků 15+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TRP – Target Rating Points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GRP na konkrétní cílové skupině (ženy 25-30, rozvedené, s jedním dítětem a nakupující 1x denně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 praxi se GRP a TRP často nerozlišuj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66874-9EF2-4E24-9995-FA3663DCB1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OTH/OTS – Opportunity To Hear/Se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rát měl člověk v cílové skupině možnost vidět/slyšet reklamní sděle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OTS = TRPs/Net reach 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OI - Return on Investment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Kolik přinese každá investovaná jednotka </a:t>
            </a:r>
            <a:r>
              <a:rPr b="0" i="1" lang="cs-CZ" sz="1600" spc="-1" strike="noStrike">
                <a:solidFill>
                  <a:srgbClr val="000000"/>
                </a:solidFill>
                <a:latin typeface="Tahoma"/>
              </a:rPr>
              <a:t>(%, Kč, EUR)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hare of Voice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Podíl naší kampaně na reklamním trhu daného segmentu (GRP, odhad media spendů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ůležitý ukazatel při plánování kampaní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Data sbírají specializované agentury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1672-FD07-4050-90D1-D5A229A01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O (Asociace Televizních Organizací)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Česká televize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CET 21 spol.s r.o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FTV Prima spol. s r.o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Asociace komunikačních agentur České republik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echnicky realizuje Mediaresear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www.ato.cz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67110-267D-45CD-A614-EC1EF12C8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istuje od roku 1997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Již třetí vl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04/2007 nový panel s 1600 domácnostm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anel je reprezentativní na domácnosti s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prezentativita je kontrolována souběžným F2F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Kontrola „podezřelých“ respond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nline přístup k datů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ční obměna 25 % panelu  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uhá televizní domácnos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D432-A3A6-4A0E-8CC0-6468000D53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1052640"/>
            <a:ext cx="3809880" cy="248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4552920" cy="165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34880" y="135720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enos dat pomocí 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FD85-9978-446C-BDE1-621104A17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ating (sledovanost)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pořad či kanál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otal ra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cílové skupiny sledující  jakýkoliv kanál čili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přijímač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h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% podíl kanálu z Total rating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S – Average Time Spen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CAC6-423B-4294-9B91-D58045D80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344680" y="203040"/>
          <a:ext cx="6691320" cy="5818320"/>
        </p:xfrm>
        <a:graphic>
          <a:graphicData uri="http://schemas.openxmlformats.org/drawingml/2006/table">
            <a:tbl>
              <a:tblPr/>
              <a:tblGrid>
                <a:gridCol w="642960"/>
                <a:gridCol w="1452600"/>
                <a:gridCol w="347760"/>
                <a:gridCol w="571320"/>
                <a:gridCol w="919080"/>
                <a:gridCol w="919440"/>
                <a:gridCol w="919080"/>
                <a:gridCol w="919080"/>
              </a:tblGrid>
              <a:tr h="4312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týden 2007 (12.11.- 18.11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oř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Progr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aná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Datu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Začáte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Kon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8dc"/>
                          </a:solidFill>
                          <a:latin typeface="Arial"/>
                        </a:rPr>
                        <a:t>Sled.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8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49: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1: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2: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4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viz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30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6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9: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7: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8: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1: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7: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inace v růžové zahrad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1: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5: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tnické humoresk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8: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2: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2: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-1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tovní novi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:54: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0: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jišťovna štěst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13: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:24: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as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1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5: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:06: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4800" y="709560"/>
            <a:ext cx="285480" cy="285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9960" y="981000"/>
            <a:ext cx="13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382F-D6D4-4447-8D2B-40DA786521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Shar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68360" y="1341360"/>
          <a:ext cx="8228880" cy="4750200"/>
        </p:xfrm>
        <a:graphic>
          <a:graphicData uri="http://schemas.openxmlformats.org/drawingml/2006/table">
            <a:tbl>
              <a:tblPr/>
              <a:tblGrid>
                <a:gridCol w="2082960"/>
                <a:gridCol w="1191240"/>
                <a:gridCol w="1028880"/>
                <a:gridCol w="1191240"/>
                <a:gridCol w="1270440"/>
                <a:gridCol w="1464120"/>
              </a:tblGrid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T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t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ěti 4 -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eny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,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ži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,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,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8d8"/>
                    </a:solidFill>
                  </a:tcPr>
                </a:tc>
              </a:tr>
              <a:tr h="95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pělí 15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c4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3378240" y="98064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6. týden 2007 (12.11.- 18.11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1C97-8ABE-4491-A897-72792FE50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eoplemete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hody a nevýhody T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Vysoké náklady na spot, dlouhodobé plánování, přetlak inzerentů, monopol Primy a Novy (85 %)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V je pasivní médium =&gt; obtížně zasáhnutelné „výnosné“ cílové skupin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Dobré měření sledovanosti (dobré cílení), rychlý zásah, celoplošné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8982-926A-4AFF-8E52-49695CCBB2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Radio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d roku 2006 došlo k oddělení od Mediaprojek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lepšení reliability výsledků díky nové metodologii (CATI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ické problémy – je respondent schopen si pamatovat co, kdy a jak poslouchal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ní možné sledovat „online“ vývoj pořadů (výsledky po Q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C75E-7849-4832-8B54-59FC0CA3E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merční komunik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 měř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4B2C-E903-4433-89F0-8A6B624613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Tištěná reklama – Mediaprojek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iz externí prezent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ozlišuje čtenost od prodaného náklad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livy na inzer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5948-D388-411E-8AB9-01E76CED7B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ištěná reklama – ABC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nákladu média (vytištěného / prodanéh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ředplatné + přímý prodej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věřování supplement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0CF3-498F-4E91-A2A1-0F391E6539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8000" y="1197000"/>
          <a:ext cx="8989920" cy="4324320"/>
        </p:xfrm>
        <a:graphic>
          <a:graphicData uri="http://schemas.openxmlformats.org/drawingml/2006/table">
            <a:tbl>
              <a:tblPr/>
              <a:tblGrid>
                <a:gridCol w="2160360"/>
                <a:gridCol w="758880"/>
                <a:gridCol w="758880"/>
                <a:gridCol w="758880"/>
                <a:gridCol w="758880"/>
                <a:gridCol w="758880"/>
                <a:gridCol w="758880"/>
                <a:gridCol w="758520"/>
                <a:gridCol w="758880"/>
                <a:gridCol w="75888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onděl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Úter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tře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Čtvr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át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obo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Nedě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tiště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ní průměr prodaný nákl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lesk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1 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73 8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3 3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35 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2 6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5 6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5 5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58 7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Deník / TV Magazín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br>
                        <a:rPr sz="1000"/>
                      </a:b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6 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9 3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1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0 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1 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4 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96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22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ladá fronta DNE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fra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63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6 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9 6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45 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3 8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1 5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66 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3 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rávo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Borgis, a. s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0 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8 6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9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1 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04 8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1 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ha!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rika, s.r.o.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4 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5 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3 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2 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6 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2 7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2 6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3 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5 4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ort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Ringier ČR, a. s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8 4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8 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5 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6 1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7 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1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8 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Šíp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ltava-Labe-Press, a. s.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1 7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5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0 7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7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0 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2 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Lidové noviny, a. s</a:t>
                      </a: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.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4 7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3 5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6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4 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3 6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Hospodářské noviny</a:t>
                      </a: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 </a:t>
                      </a:r>
                      <a:r>
                        <a:rPr b="0" i="1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Economia, a. 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7 6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6 6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8 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65 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x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5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9 3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08440" y="404640"/>
            <a:ext cx="61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áří 2007 – prodaný / tištěný n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B6B7-C364-444D-9B4E-E829F3658D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31647-4895-433A-BB05-71C72D85A0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7A12-18EA-41AF-A67D-05E52D61C1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27440" y="6093000"/>
            <a:ext cx="34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zn.: Právo má 40% SŠ 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7631-DACB-4070-9155-254905BB87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B8EB-CED3-4E5C-AED5-829F358B3D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diální agentur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vrhují mediaplán a mediami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amix: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elevizní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rádiové reklamy 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tiskové a internetové reklamy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ahoma"/>
              </a:rPr>
              <a:t>outdoorová reklama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onitorují téměř všechna média v ČR (výstupem je např. share of voice nebo media spendy ostatních firem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DF0E-9E62-4BD5-A3EF-B570BAD292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AC0C-250E-4E9E-8331-E9900D3B6CC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klama v místě prodeje (PO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les promotio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ampling (např. vzorky v novinách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td.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E75C-02C6-40D6-A4C9-B333120E9D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C (Bussiness to Custom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B2B (Bussiness to Bussiness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adlinková komunikace, Above the Line (ATL), „na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dlinková komunikace, Below the Line, „podlinka“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irect marketing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diální a reklamní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5577-7970-4BFD-AF95-6E093B4B20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ěříme response rat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cílení na úzké cílové skupin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bré opory výběru (databáze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Experiment (kontrolní skupiny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ůže být velmi účinná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ákladná(?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6F9C-C2F4-49A5-9BBD-F6749B844C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Komerční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Image kampaně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Kampaně stimulující k určitému chová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Udržovací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Zaváděc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Re-branding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Sezón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Tahoma"/>
              </a:rPr>
              <a:t>Náklady na komunikaci jsou komplexn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Nelze přesně určit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Výrazně se mění podle produktů (dřevo x parfémy)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E445-348A-4B46-BF87-136C07E589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přím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zor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655B-3E7D-455A-A556-180F858BF0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měříme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sah kampaně (cílová skupina) -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Účinnost kampaně - IMPAC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rátkodobý a dlouhodobý vliv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DC94-1971-48A3-9FE7-DF5A84EEB7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F1E4-3BF4-4E3A-BF84-DBBA90CBB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Nadlinková komunik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V – Sledovanost - peoplemete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ádio – Poslechovost - Radio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Tisk - Čtenost - Mediaprojek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F302-4E2F-4348-84CA-CAC886731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jm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t Reac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rocento cílové skupiny zasažené během kampaně alespoň jednou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Příklad: Net Reach 86% znamená, že 86% dotyčné cílové skupiny vidělo z celé kampaně alespoň jeden TV spot.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Tahoma"/>
              </a:rPr>
              <a:t>x efektivní frekvence (typ kampaně – zaváděcí, udržovací, konkurenčnost segmentu, typ produktu, atd.)</a:t>
            </a: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Afinita - TAI, Target Affinity Index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Index (poměr mezi sledovaností pořadu, čteností média u cílové skupiny a průměrem)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ahoma"/>
              </a:rPr>
              <a:t>Vhodné pro orientační stanovení cílové skupiny kampaně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8A02-7005-4A78-BF04-B7AAF2C75E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P&amp;P</cp:lastModifiedBy>
  <dcterms:modified xsi:type="dcterms:W3CDTF">2007-11-22T23:03:04Z</dcterms:modified>
  <cp:revision>97</cp:revision>
  <dc:subject/>
  <dc:title>Snímek 1</dc:title>
</cp:coreProperties>
</file>