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BD405-F02D-4B3E-9991-D0C3BAD7F0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82284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95ECD-F7EE-4663-9427-27FCAF4117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B26A6-FD82-4FD8-AED7-8683A439AE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421E8-3732-4340-AE17-C1776CA7E0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661C7-B774-452E-B8AB-EFF752FF67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F1C10-2F10-479E-BA53-5687821944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E94DB-CB70-4E60-BB7E-8BDF0E1FE0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F41F0-B953-442A-AD22-F7CFEC710E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86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87898-60F1-4842-BD42-758840F79D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2F8CD-E7BB-4BEE-A9C1-E18E6501FF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73A1C-B61C-4D6C-B9F8-312E6C06CF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4C595-F7E6-4361-85AA-2F5317EB1F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611280" y="6066000"/>
            <a:ext cx="72072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4360" y="6265440"/>
            <a:ext cx="57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400" spc="-1" strike="noStrike">
                <a:solidFill>
                  <a:srgbClr val="ff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E010-D402-4030-9E8E-ECC31044860D}" type="slidenum">
              <a:rPr b="1" lang="cs-CZ" sz="2400" spc="-1" strike="noStrike">
                <a:solidFill>
                  <a:srgbClr val="ff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474880" y="6330960"/>
            <a:ext cx="36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Základy marketingového výzku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image" Target="../media/image3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4292280"/>
            <a:ext cx="56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Segmentace, typologi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17104-FF8A-42E6-979F-07FEC55E7B2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Data z výzkumů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595440" y="1192320"/>
            <a:ext cx="824364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užívají se pro „ad-hoc“ typ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Jako doplněk databází (přidávají dimenzi „proč“ a postoje, které nejsou součástí databáz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Samostatné, otestované segmentační nástroje, sloužící k analýze spektra spotřebitelů kli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9F683-40BB-4FA9-B762-76CA74243D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Demografická data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595440" y="1192320"/>
            <a:ext cx="82436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 nás založena na zdrojích z Českého statistického úř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dklady pro demografickou typolog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žnost definování absolutních počtů cílových skupin, výpočet potenciálu, ap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6CD78-0332-470E-9B86-D02BA6E33E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4320" y="2971800"/>
            <a:ext cx="201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toneSanItcTEEMed"/>
              </a:rPr>
              <a:t>Prax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767C9-2538-4836-9A34-96A3DCC768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Použití behaviorálních segmentací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7" name=""/>
          <p:cNvSpPr/>
          <p:nvPr/>
        </p:nvSpPr>
        <p:spPr>
          <a:xfrm>
            <a:off x="595440" y="1066680"/>
            <a:ext cx="82436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ro C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Predikujeme budoucí chování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na základě toho minulé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Cílení komunikace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(oslovujeme jenom někter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ytváření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nabídek na míru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– podle známých potřeb a očekávání skup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egmentace se stále doplňuje a mění (nové znalosti o segmentech lidí (např. o response rate v minulé kampani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ypicky je používají firmy, které se zákazníky přicházejí pravidelně do styku: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telefonní operátory, kabelové televize, banky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, ap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44675-B82C-4168-9D51-109B5C9D55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oužití postojových segmentací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9" name=""/>
          <p:cNvSpPr/>
          <p:nvPr/>
        </p:nvSpPr>
        <p:spPr>
          <a:xfrm>
            <a:off x="595440" y="1192320"/>
            <a:ext cx="83962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Často se používají „brandované“ nástroje agent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Analýza složení stávajících zákazníků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=&gt; určení nového cílení, počtu rizikových zákazníků, hodnoty nových, srovnání s konkurencí, nalezení nových cílových skupin, ap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Jako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doplněk stávající CRM segmentace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(postojová složka, at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Nástroj, jak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poznat svoje zákazníky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, jaké mají životní strategie, priority, cíle, jak žijí, jak se chovají, za co utrácejí, ap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Jde samozřejmě do jisté míry o módní záležit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2EE72-F13B-4CA3-8F1E-15CDAA9A78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Desatero pro praxi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1" name=""/>
          <p:cNvSpPr/>
          <p:nvPr/>
        </p:nvSpPr>
        <p:spPr>
          <a:xfrm>
            <a:off x="595440" y="914400"/>
            <a:ext cx="824364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egmentace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není krátkodobý projekt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– je to způsob, kterým by se mělo řídit podnikání fi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Dobrá segmentace komunikuje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pomocí ATL i BTL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(komunikace vůči zákazníkům by měla být ve všech kanálech konzistent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egmentace by měla vodítkem pro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akvizici, obchodní cílení a retenci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– měla by managementu „říkat na koho a čím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Čím je kontakt se zákazníky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těsnější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, tím více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behaviorální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by segmentace měla bý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egmentace by měla zahrnovat i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hodnotu zákazníka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– identifikovat ty nejlepší zákazní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257C9-1DF0-4C4E-B44B-CDA246E0AA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Desatero pro praxi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595440" y="914400"/>
            <a:ext cx="824364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lastností lidí jsou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ícedimenzionáln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segmentace by měla zákazníky popisovat ve více rovinách (hodnoty, potřeby, životní styl, apo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e mnohem jednodušší segmentaci vymyslet, než ji potom zavést a dlouhodobě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ystematicky použív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ace by měla být vytvořen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 míru konkrétní firmě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tandardizované nástroje nemusí vždy fungov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ace by měla bý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 nejjednodušš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nadno uchopitelná a pochopitelná a zároveň nést co nejmenší redukcí re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9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ždá segmentace se (paradoxně:-) týká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d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měla by proto reagovat na potřeby lidí nikoliv fi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5A517-0425-4131-9BA3-C0ABBEA818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Metody založení segment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Databáze (tvrdá data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Výzkum (měkká data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Clusterová analýza (nalezení podobných respondentů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Faktorová analýza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Meritorní a manažerská rozhodnutí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Propojování segmentací, mikrosegment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AC507-91C0-4F40-9696-9BAEA385529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292280"/>
            <a:ext cx="56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Ukázk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06E95-89D4-4681-8ADC-3CDE7F4506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Ukázk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385560" y="2971800"/>
            <a:ext cx="632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StoneSanItcTEEMed"/>
              </a:rPr>
              <a:t>AISA &amp; Leo Burnet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0585F-84D0-4907-A2F2-6E582DF1535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řehled lek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Proč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Metodologi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Jednotlivé nástroje, ukázk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AA974-3265-4BCB-9AD7-4E2D21C1B2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Ukázk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410040" y="2971800"/>
            <a:ext cx="589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StoneSanItcTEEMed"/>
              </a:rPr>
              <a:t>Tambor typologi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37E0B-8A85-4C17-A568-A758A26B8D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97948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5520"/>
          </a:xfrm>
          <a:prstGeom prst="rect">
            <a:avLst/>
          </a:prstGeom>
          <a:solidFill>
            <a:srgbClr val="233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AMBOR TYPOLOGIE</a:t>
            </a:r>
            <a:br>
              <a:rPr sz="2800"/>
            </a:b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SEGMENTACE POPULACE 16 – 64 LET</a:t>
            </a:r>
            <a:endParaRPr b="0" lang="en-US" sz="18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131840" y="1295280"/>
          <a:ext cx="696744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1840" y="1295280"/>
                    <a:ext cx="696744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488360" y="3486240"/>
            <a:ext cx="695160" cy="92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300720" y="5516640"/>
            <a:ext cx="930240" cy="67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5"/>
          <a:srcRect l="0" t="8338" r="10987" b="0"/>
          <a:stretch/>
        </p:blipFill>
        <p:spPr>
          <a:xfrm>
            <a:off x="1130400" y="2340000"/>
            <a:ext cx="772920" cy="104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6578640" y="1409760"/>
            <a:ext cx="1020600" cy="76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835280" y="5805360"/>
            <a:ext cx="1098360" cy="731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6883560" y="2819520"/>
            <a:ext cx="191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02e4c"/>
                </a:solidFill>
                <a:latin typeface="Arial Narrow"/>
              </a:rPr>
              <a:t>Klára &amp; Rich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 Narrow"/>
              </a:rPr>
              <a:t>MLADÍ KONZERVATIV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32320" y="5765760"/>
            <a:ext cx="2451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02e4c"/>
                </a:solidFill>
                <a:latin typeface="Arial Narrow"/>
              </a:rPr>
              <a:t>Věra &amp; Mi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 Narrow"/>
              </a:rPr>
              <a:t>STŘEDNÍ LÉ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9520" y="1111320"/>
            <a:ext cx="191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02e4c"/>
                </a:solidFill>
                <a:latin typeface="Arial Narrow"/>
              </a:rPr>
              <a:t>Tonda &amp; Růže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 Narrow"/>
              </a:rPr>
              <a:t>DEPRIVOVA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36840" y="5270400"/>
            <a:ext cx="191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202e4c"/>
                </a:solidFill>
                <a:latin typeface="Arial Narrow"/>
              </a:rPr>
              <a:t>Aneta &amp; Kev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3300"/>
                </a:solidFill>
                <a:latin typeface="Arial Narrow"/>
              </a:rPr>
              <a:t> </a:t>
            </a:r>
            <a:r>
              <a:rPr b="1" lang="cs-CZ" sz="1400" spc="-1" strike="noStrike">
                <a:solidFill>
                  <a:srgbClr val="ff3300"/>
                </a:solidFill>
                <a:latin typeface="Arial Narrow"/>
              </a:rPr>
              <a:t>MLADÍ A NEKLID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7840" y="176544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02e4c"/>
                </a:solidFill>
                <a:latin typeface="Arial Narrow"/>
              </a:rPr>
              <a:t>Marcela &amp; Jiř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 Narrow"/>
              </a:rPr>
              <a:t>MLADÍ DUC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3606840"/>
            <a:ext cx="191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02e4c"/>
                </a:solidFill>
                <a:latin typeface="Arial Narrow"/>
              </a:rPr>
              <a:t>Ludmila &amp; Kar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 Narrow"/>
              </a:rPr>
              <a:t>SEBEVĚDOM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35640" y="838080"/>
            <a:ext cx="191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02e4c"/>
                </a:solidFill>
                <a:latin typeface="Arial Narrow"/>
              </a:rPr>
              <a:t>Roman &amp; Jiři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 Narrow"/>
              </a:rPr>
              <a:t>NEKVALIFIKOVANÍ LID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8"/>
          <a:stretch/>
        </p:blipFill>
        <p:spPr>
          <a:xfrm>
            <a:off x="1914480" y="909720"/>
            <a:ext cx="1036800" cy="766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3774960" y="1663560"/>
            <a:ext cx="781200" cy="15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14 %</a:t>
            </a:r>
            <a:br>
              <a:rPr sz="1400"/>
            </a:br>
            <a:r>
              <a:rPr b="1" lang="en-US" sz="1200" spc="-1" strike="noStrike">
                <a:solidFill>
                  <a:srgbClr val="ffff66"/>
                </a:solidFill>
                <a:latin typeface="Arial Narrow"/>
              </a:rPr>
              <a:t>12 %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1 %</a:t>
            </a:r>
            <a:br>
              <a:rPr sz="1200"/>
            </a:br>
            <a:r>
              <a:rPr b="1" lang="en-US" sz="1200" spc="-1" strike="noStrike">
                <a:solidFill>
                  <a:srgbClr val="b6b3b2"/>
                </a:solidFill>
                <a:latin typeface="Arial Narrow"/>
              </a:rPr>
              <a:t>1 %</a:t>
            </a:r>
            <a:br>
              <a:rPr sz="1200"/>
            </a:br>
            <a:r>
              <a:rPr b="1" lang="en-US" sz="1200" spc="-1" strike="noStrike">
                <a:solidFill>
                  <a:srgbClr val="99cc00"/>
                </a:solidFill>
                <a:latin typeface="Arial Narrow"/>
              </a:rPr>
              <a:t>6 %</a:t>
            </a:r>
            <a:br>
              <a:rPr sz="1200"/>
            </a:br>
            <a:r>
              <a:rPr b="1" lang="en-US" sz="1200" spc="-1" strike="noStrike">
                <a:solidFill>
                  <a:srgbClr val="00009a"/>
                </a:solidFill>
                <a:latin typeface="Arial Narrow"/>
              </a:rPr>
              <a:t>7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64160" y="1790640"/>
            <a:ext cx="78084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27 %</a:t>
            </a:r>
            <a:br>
              <a:rPr sz="1400"/>
            </a:br>
            <a:r>
              <a:rPr b="1" lang="en-US" sz="1200" spc="-1" strike="noStrike">
                <a:solidFill>
                  <a:srgbClr val="ffff66"/>
                </a:solidFill>
                <a:latin typeface="Arial Narrow"/>
              </a:rPr>
              <a:t>20 %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3 %</a:t>
            </a:r>
            <a:br>
              <a:rPr sz="1200"/>
            </a:br>
            <a:r>
              <a:rPr b="1" lang="en-US" sz="1200" spc="-1" strike="noStrike">
                <a:solidFill>
                  <a:srgbClr val="b6b3b2"/>
                </a:solidFill>
                <a:latin typeface="Arial Narrow"/>
              </a:rPr>
              <a:t>7 %</a:t>
            </a:r>
            <a:br>
              <a:rPr sz="1200"/>
            </a:br>
            <a:r>
              <a:rPr b="1" lang="en-US" sz="1200" spc="-1" strike="noStrike">
                <a:solidFill>
                  <a:srgbClr val="99cc00"/>
                </a:solidFill>
                <a:latin typeface="Arial Narrow"/>
              </a:rPr>
              <a:t>7%</a:t>
            </a:r>
            <a:br>
              <a:rPr sz="1200"/>
            </a:br>
            <a:r>
              <a:rPr b="1" lang="en-US" sz="1200" spc="-1" strike="noStrike">
                <a:solidFill>
                  <a:srgbClr val="00009a"/>
                </a:solidFill>
                <a:latin typeface="Arial Narrow"/>
              </a:rPr>
              <a:t>20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56400" y="2502000"/>
            <a:ext cx="780840" cy="15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41 %</a:t>
            </a:r>
            <a:br>
              <a:rPr sz="1400"/>
            </a:br>
            <a:r>
              <a:rPr b="1" lang="en-US" sz="1200" spc="-1" strike="noStrike">
                <a:solidFill>
                  <a:srgbClr val="ffff66"/>
                </a:solidFill>
                <a:latin typeface="Arial Narrow"/>
              </a:rPr>
              <a:t>32 %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5 %</a:t>
            </a:r>
            <a:br>
              <a:rPr sz="1200"/>
            </a:br>
            <a:r>
              <a:rPr b="1" lang="en-US" sz="1200" spc="-1" strike="noStrike">
                <a:solidFill>
                  <a:srgbClr val="b6b3b2"/>
                </a:solidFill>
                <a:latin typeface="Arial Narrow"/>
              </a:rPr>
              <a:t>4 %</a:t>
            </a:r>
            <a:br>
              <a:rPr sz="1200"/>
            </a:br>
            <a:r>
              <a:rPr b="1" lang="en-US" sz="1200" spc="-1" strike="noStrike">
                <a:solidFill>
                  <a:srgbClr val="99cc00"/>
                </a:solidFill>
                <a:latin typeface="Arial Narrow"/>
              </a:rPr>
              <a:t>9 %</a:t>
            </a:r>
            <a:br>
              <a:rPr sz="1200"/>
            </a:br>
            <a:r>
              <a:rPr b="1" lang="en-US" sz="1200" spc="-1" strike="noStrike">
                <a:solidFill>
                  <a:srgbClr val="00009a"/>
                </a:solidFill>
                <a:latin typeface="Arial Narrow"/>
              </a:rPr>
              <a:t>32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78280" y="4025880"/>
            <a:ext cx="7812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22 %</a:t>
            </a:r>
            <a:br>
              <a:rPr sz="1400"/>
            </a:br>
            <a:r>
              <a:rPr b="1" lang="en-US" sz="1200" spc="-1" strike="noStrike">
                <a:solidFill>
                  <a:srgbClr val="ffff66"/>
                </a:solidFill>
                <a:latin typeface="Arial Narrow"/>
              </a:rPr>
              <a:t>18 %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4 %</a:t>
            </a:r>
            <a:br>
              <a:rPr sz="1200"/>
            </a:br>
            <a:r>
              <a:rPr b="1" lang="en-US" sz="1200" spc="-1" strike="noStrike">
                <a:solidFill>
                  <a:srgbClr val="b6b3b2"/>
                </a:solidFill>
                <a:latin typeface="Arial Narrow"/>
              </a:rPr>
              <a:t>5 %</a:t>
            </a:r>
            <a:br>
              <a:rPr sz="1200"/>
            </a:br>
            <a:r>
              <a:rPr b="1" lang="en-US" sz="1200" spc="-1" strike="noStrike">
                <a:solidFill>
                  <a:srgbClr val="99cc00"/>
                </a:solidFill>
                <a:latin typeface="Arial Narrow"/>
              </a:rPr>
              <a:t>5%</a:t>
            </a:r>
            <a:br>
              <a:rPr sz="1200"/>
            </a:br>
            <a:r>
              <a:rPr b="1" lang="en-US" sz="1200" spc="-1" strike="noStrike">
                <a:solidFill>
                  <a:srgbClr val="00009a"/>
                </a:solidFill>
                <a:latin typeface="Arial Narrow"/>
              </a:rPr>
              <a:t>14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81320" y="3949560"/>
            <a:ext cx="78120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47 %</a:t>
            </a:r>
            <a:br>
              <a:rPr sz="1400"/>
            </a:br>
            <a:r>
              <a:rPr b="1" lang="en-US" sz="1200" spc="-1" strike="noStrike">
                <a:solidFill>
                  <a:srgbClr val="ffff66"/>
                </a:solidFill>
                <a:latin typeface="Arial Narrow"/>
              </a:rPr>
              <a:t> 37 %</a:t>
            </a:r>
            <a:br>
              <a:rPr sz="1200"/>
            </a:b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4 %</a:t>
            </a:r>
            <a:br>
              <a:rPr sz="1200"/>
            </a:br>
            <a:r>
              <a:rPr b="1" lang="en-US" sz="1200" spc="-1" strike="noStrike">
                <a:solidFill>
                  <a:srgbClr val="b6b3b2"/>
                </a:solidFill>
                <a:latin typeface="Arial Narrow"/>
              </a:rPr>
              <a:t>11 %</a:t>
            </a:r>
            <a:br>
              <a:rPr sz="1200"/>
            </a:br>
            <a:r>
              <a:rPr b="1" lang="en-US" sz="1200" spc="-1" strike="noStrike">
                <a:solidFill>
                  <a:srgbClr val="99cc00"/>
                </a:solidFill>
                <a:latin typeface="Arial Narrow"/>
              </a:rPr>
              <a:t>7 %</a:t>
            </a:r>
            <a:br>
              <a:rPr sz="1200"/>
            </a:br>
            <a:r>
              <a:rPr b="1" lang="en-US" sz="1200" spc="-1" strike="noStrike">
                <a:solidFill>
                  <a:srgbClr val="00009a"/>
                </a:solidFill>
                <a:latin typeface="Arial Narrow"/>
              </a:rPr>
              <a:t>29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9"/>
          <a:stretch/>
        </p:blipFill>
        <p:spPr>
          <a:xfrm>
            <a:off x="812880" y="4229280"/>
            <a:ext cx="755640" cy="105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2254320" y="3454560"/>
            <a:ext cx="206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30 %</a:t>
            </a:r>
            <a:r>
              <a:rPr b="1" lang="en-US" sz="1400" spc="-1" strike="noStrike">
                <a:solidFill>
                  <a:srgbClr val="ff660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ffff66"/>
                </a:solidFill>
                <a:latin typeface="Arial Narrow"/>
              </a:rPr>
              <a:t>24 % </a:t>
            </a:r>
            <a:r>
              <a:rPr b="1" lang="en-US" sz="1200" spc="-1" strike="noStrike">
                <a:solidFill>
                  <a:srgbClr val="ff3300"/>
                </a:solidFill>
                <a:latin typeface="Arial Narrow"/>
              </a:rPr>
              <a:t>4%</a:t>
            </a:r>
            <a:r>
              <a:rPr b="1" lang="en-US" sz="1200" spc="-1" strike="noStrike">
                <a:solidFill>
                  <a:srgbClr val="ffff66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b6b3b2"/>
                </a:solidFill>
                <a:latin typeface="Arial Narrow"/>
              </a:rPr>
              <a:t>6 %</a:t>
            </a:r>
            <a:r>
              <a:rPr b="1" lang="en-US" sz="1200" spc="-1" strike="noStrike">
                <a:solidFill>
                  <a:srgbClr val="ffff66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99cc00"/>
                </a:solidFill>
                <a:latin typeface="Arial Narrow"/>
              </a:rPr>
              <a:t>13 %</a:t>
            </a:r>
            <a:r>
              <a:rPr b="1" lang="en-US" sz="1200" spc="-1" strike="noStrike">
                <a:solidFill>
                  <a:srgbClr val="ffff66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009a"/>
                </a:solidFill>
                <a:latin typeface="Arial Narrow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87480" y="2044800"/>
            <a:ext cx="7812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28 %</a:t>
            </a:r>
            <a:br>
              <a:rPr sz="1600"/>
            </a:br>
            <a:r>
              <a:rPr b="1" lang="en-US" sz="1400" spc="-1" strike="noStrike">
                <a:solidFill>
                  <a:srgbClr val="ffff66"/>
                </a:solidFill>
                <a:latin typeface="Arial Narrow"/>
              </a:rPr>
              <a:t> 24 %</a:t>
            </a:r>
            <a:br>
              <a:rPr sz="1400"/>
            </a:br>
            <a:r>
              <a:rPr b="1" lang="en-US" sz="1400" spc="-1" strike="noStrike">
                <a:solidFill>
                  <a:srgbClr val="ff3300"/>
                </a:solidFill>
                <a:latin typeface="Arial Narrow"/>
              </a:rPr>
              <a:t>2 %</a:t>
            </a:r>
            <a:br>
              <a:rPr sz="1400"/>
            </a:br>
            <a:r>
              <a:rPr b="1" lang="en-US" sz="1400" spc="-1" strike="noStrike">
                <a:solidFill>
                  <a:srgbClr val="b6b3b2"/>
                </a:solidFill>
                <a:latin typeface="Arial Narrow"/>
              </a:rPr>
              <a:t>8 %</a:t>
            </a:r>
            <a:br>
              <a:rPr sz="1400"/>
            </a:br>
            <a:r>
              <a:rPr b="1" lang="en-US" sz="1400" spc="-1" strike="noStrike">
                <a:solidFill>
                  <a:srgbClr val="99cc00"/>
                </a:solidFill>
                <a:latin typeface="Arial Narrow"/>
              </a:rPr>
              <a:t>8 %</a:t>
            </a:r>
            <a:br>
              <a:rPr sz="1400"/>
            </a:br>
            <a:r>
              <a:rPr b="1" lang="en-US" sz="1400" spc="-1" strike="noStrike">
                <a:solidFill>
                  <a:srgbClr val="00009a"/>
                </a:solidFill>
                <a:latin typeface="Arial Narrow"/>
              </a:rPr>
              <a:t>17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04120" y="4597560"/>
            <a:ext cx="1644480" cy="17366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ff"/>
                </a:solidFill>
                <a:latin typeface="Arial Narrow"/>
              </a:rPr>
              <a:t>XX %  kategorie </a:t>
            </a:r>
            <a:br>
              <a:rPr sz="1200"/>
            </a:br>
            <a:r>
              <a:rPr b="1" lang="cs-CZ" sz="1200" spc="-1" strike="noStrike">
                <a:solidFill>
                  <a:srgbClr val="ffffff"/>
                </a:solidFill>
                <a:latin typeface="Arial Narrow"/>
              </a:rPr>
              <a:t>           energ. nápoj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66"/>
                </a:solidFill>
                <a:latin typeface="Arial Narrow"/>
              </a:rPr>
              <a:t>XX %  Red Bull</a:t>
            </a:r>
            <a:r>
              <a:rPr b="1" lang="cs-CZ" sz="1200" spc="-1" strike="noStrike">
                <a:solidFill>
                  <a:srgbClr val="000000"/>
                </a:solidFill>
                <a:latin typeface="Arial Narrow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3300"/>
                </a:solidFill>
                <a:latin typeface="Arial Narrow"/>
              </a:rPr>
              <a:t>XX %  American Bu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b6b3b2"/>
                </a:solidFill>
                <a:latin typeface="Arial Narrow"/>
              </a:rPr>
              <a:t>XX %  Erec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99cc00"/>
                </a:solidFill>
                <a:latin typeface="Arial Narrow"/>
              </a:rPr>
              <a:t>XX %  Kamika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9a"/>
                </a:solidFill>
                <a:latin typeface="Arial Narrow"/>
              </a:rPr>
              <a:t>XX %  Semt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 Narrow"/>
              </a:rPr>
              <a:t>XX %  Podíl skupiny </a:t>
            </a:r>
            <a:br>
              <a:rPr sz="1200"/>
            </a:br>
            <a:r>
              <a:rPr b="1" lang="cs-CZ" sz="1200" spc="-1" strike="noStrike">
                <a:solidFill>
                  <a:srgbClr val="000000"/>
                </a:solidFill>
                <a:latin typeface="Arial Narrow"/>
              </a:rPr>
              <a:t>           v  popula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63914-ECF3-4374-A451-683825CB01A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22400"/>
          </a:xfrm>
          <a:prstGeom prst="rect">
            <a:avLst/>
          </a:prstGeom>
          <a:solidFill>
            <a:srgbClr val="2332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AMBOR TYPOLOGIE</a:t>
            </a:r>
            <a:br>
              <a:rPr sz="2800"/>
            </a:b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SEGMENTACE POPULACE 16 – 64 LET</a:t>
            </a:r>
            <a:endParaRPr b="0" lang="en-US" sz="18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04920" y="1190520"/>
          <a:ext cx="8564400" cy="4326120"/>
        </p:xfrm>
        <a:graphic>
          <a:graphicData uri="http://schemas.openxmlformats.org/drawingml/2006/table">
            <a:tbl>
              <a:tblPr/>
              <a:tblGrid>
                <a:gridCol w="2450880"/>
                <a:gridCol w="952560"/>
                <a:gridCol w="978120"/>
                <a:gridCol w="990360"/>
                <a:gridCol w="1054080"/>
                <a:gridCol w="1079640"/>
                <a:gridCol w="1058760"/>
              </a:tblGrid>
              <a:tr h="437400">
                <a:tc gridSpan="3"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33253"/>
                          </a:solidFill>
                          <a:latin typeface="Tahoma"/>
                        </a:rPr>
                        <a:t>Nenároční škudlilové</a:t>
                      </a:r>
                      <a:r>
                        <a:rPr b="1" lang="en-US" sz="1200" spc="-1" strike="noStrike" baseline="30000">
                          <a:solidFill>
                            <a:srgbClr val="233253"/>
                          </a:solidFill>
                          <a:latin typeface="Tahoma"/>
                        </a:rPr>
                        <a:t>**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33253"/>
                          </a:solidFill>
                          <a:latin typeface="Tahoma"/>
                        </a:rPr>
                        <a:t>Nakupují Impulsivně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233253"/>
                          </a:solidFill>
                          <a:latin typeface="Tahoma"/>
                        </a:rPr>
                        <a:t>Poslouchají im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33253"/>
                          </a:solidFill>
                          <a:latin typeface="Tahoma"/>
                        </a:rPr>
                        <a:t>Požadují kvali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14080"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Tonda &amp; Růžen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DEPRIVOVA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0,1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717 3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4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2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8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4080"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233253"/>
                          </a:solidFill>
                          <a:latin typeface="Tahoma"/>
                        </a:rPr>
                        <a:t>Roman &amp; Jiřin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NEKVALIFIKOVANÍ LID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5,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 065 3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3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7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7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3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4080"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Klára &amp; Richar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MLADÍ KONZERVATIV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1,3 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802 53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7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40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9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4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4080"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Věra &amp; Mila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80880" indent="-38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STŘEDNÍ LÉ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7,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 917 56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7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1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6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4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4080"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7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Aneta &amp; Kevi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MLADÍ A NEKLID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8,4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 306 7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7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40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41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5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4080"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233253"/>
                          </a:solidFill>
                          <a:latin typeface="Tahoma"/>
                        </a:rPr>
                        <a:t>Ludmila &amp; Kare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SEBEVĚDOM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5,3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76 4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6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1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6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3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14080"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Marcela &amp; Jiří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MLADÍ DUCH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2,9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916 1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4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8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5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1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00600">
                <a:tc>
                  <a:txBody>
                    <a:bodyPr lIns="0" rIns="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00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7 102 096</a:t>
                      </a:r>
                      <a:r>
                        <a:rPr b="0" lang="en-US" sz="1500" spc="-1" strike="noStrike" baseline="30000">
                          <a:solidFill>
                            <a:srgbClr val="292929"/>
                          </a:solidFill>
                          <a:latin typeface="Tahoma"/>
                        </a:rPr>
                        <a:t>*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19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8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2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0" rIns="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3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529920" y="5711760"/>
            <a:ext cx="610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3253"/>
                </a:solidFill>
                <a:latin typeface="Tahoma"/>
              </a:rPr>
              <a:t>*  Populace 16 až 64 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3253"/>
                </a:solidFill>
                <a:latin typeface="Tahoma"/>
              </a:rPr>
              <a:t>** Podíl lidí s touto charakteristikou v daném segmentu populac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6E844-D5F1-41FE-8D1F-BCA20778B6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roč segmentaci?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595440" y="1116000"/>
            <a:ext cx="80150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 dnešních trzích jsou dva protikladné trend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hy se stávají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sovými a globálním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&gt; unifikace služeb a zboží na globální úrovni (ztráta regionálních rozdíl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řetlak na trhu, převis nabídky nad poptávkou vede ke stále vetší potřebě cílit n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nší a menší cílové skupin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např. homosexuálov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90120" y="5494320"/>
            <a:ext cx="45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třeba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SEGMENT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67080" y="4191120"/>
            <a:ext cx="609840" cy="121896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6A7C1-87A0-449E-9FCC-6122DEDDA9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Segmentace popul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595440" y="1116000"/>
            <a:ext cx="8167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Marketéři (typicky firmy FMCG nebo služeb) si uvědomili, že své unifikované a masově vyráběné výrobky prodávají </a:t>
            </a:r>
            <a:r>
              <a:rPr b="1" lang="cs-CZ" sz="2000" spc="-1" strike="noStrike">
                <a:solidFill>
                  <a:srgbClr val="000000"/>
                </a:solidFill>
                <a:latin typeface="Tahoma"/>
              </a:rPr>
              <a:t>RŮZNÝM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 zákazníkům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9480" y="2305080"/>
            <a:ext cx="2667240" cy="1996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991120" y="2011320"/>
            <a:ext cx="973080" cy="1638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114800" y="3774960"/>
            <a:ext cx="2301840" cy="1843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991120" y="4626000"/>
            <a:ext cx="1805040" cy="1469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5052960" y="2357280"/>
            <a:ext cx="1087560" cy="1638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rcRect l="12432" t="16675" r="12432" b="16675"/>
          <a:stretch/>
        </p:blipFill>
        <p:spPr>
          <a:xfrm>
            <a:off x="6843600" y="1828800"/>
            <a:ext cx="1289160" cy="1892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7500960" y="3470400"/>
            <a:ext cx="1338120" cy="2016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8037360" y="2168640"/>
            <a:ext cx="1030320" cy="1731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9"/>
          <a:stretch/>
        </p:blipFill>
        <p:spPr>
          <a:xfrm>
            <a:off x="5659560" y="3098880"/>
            <a:ext cx="2112840" cy="1542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rot="21000000">
            <a:off x="3580920" y="2819160"/>
            <a:ext cx="1219320" cy="685800"/>
          </a:xfrm>
          <a:prstGeom prst="rightArrow">
            <a:avLst>
              <a:gd name="adj1" fmla="val 50000"/>
              <a:gd name="adj2" fmla="val 4444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5440" y="4724280"/>
            <a:ext cx="344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že zákazníci kupují stejné věci z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ůzných důvod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C497E-ED82-4666-9C65-BA63835B1F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27040" y="2954160"/>
            <a:ext cx="46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Jak se to dělá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12776-7CA6-4C6C-9EB4-F44A2B9641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Druhy segment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595440" y="1192320"/>
            <a:ext cx="80150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Behaviorální (na základě chová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Usage, struktura spotře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stoj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Demografic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Založená na hodnotě zákazní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+ kombinace výše zmíněných (multidimenzionál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110C8-096C-4733-8A68-760C7FF225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íle segmenta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6" name=""/>
          <p:cNvSpPr/>
          <p:nvPr/>
        </p:nvSpPr>
        <p:spPr>
          <a:xfrm>
            <a:off x="595440" y="1192320"/>
            <a:ext cx="82436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CRM (Customer Relationship Manage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dpora a zefektivnění direct marketing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Určení hodnoty zákaz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redikce budoucího chování li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Hlubší poznání zákaz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dpora akvizice zákazníků, cross-sellu, up-sellu, re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2B20A-A6CA-4E23-B341-3818601821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Z čeho se segmentace dělají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595440" y="1192320"/>
            <a:ext cx="8243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ejní a CRM databáz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ýzkumy (postojové segment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mografická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A5AA0-1BB0-4E46-B50E-E630CD73A7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rodejní a CRM databáz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0" name=""/>
          <p:cNvSpPr/>
          <p:nvPr/>
        </p:nvSpPr>
        <p:spPr>
          <a:xfrm>
            <a:off x="595440" y="1192320"/>
            <a:ext cx="824364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okud jsou databáze v dobrém stavu, jde o nejlepší zdroj d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Zaznamenávají reálné chování li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Vytvořenou segmentaci lze použít přímo v komunikaci se zákazní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Nevíme, proč se lidé chovají, tak jak se chovají (lidé nakupují stejné věci z různých důvodů – </a:t>
            </a: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např. tarif Home Mini mohou lidé mít ze stovky důvodů a mnoha způsoby jej využívat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180A8-0759-4106-B852-37E88D7DA0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9:00:50Z</dcterms:created>
  <dc:creator>počitadlo</dc:creator>
  <dc:description/>
  <dc:language>en-US</dc:language>
  <cp:lastModifiedBy>user</cp:lastModifiedBy>
  <dcterms:modified xsi:type="dcterms:W3CDTF">2008-12-03T08:32:08Z</dcterms:modified>
  <cp:revision>102</cp:revision>
  <dc:subject/>
  <dc:title>Snímek 1</dc:title>
</cp:coreProperties>
</file>