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676-FAE4-42FD-BD0A-C16B164E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5D2-9B18-4410-8BC3-DF66D79B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A7D-A12E-4EDC-A9B8-632522F9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EF1-F3F9-423A-A350-9E96A7E6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FCE8-1912-4405-A8AF-52719D08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DAC6-D1FF-480F-870F-4D7EB60D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8ABF-D437-4572-8425-1AAFA730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7C2A-89D6-413D-869B-7FCD1B15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06C5-792A-47DE-9FCB-EBF6AC0F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DF46-0C5A-4D64-8A1E-C088FFE5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D404-35D7-4C1A-8842-CBB4465C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5100-2824-4665-B610-39484ACC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8759-1666-456C-8675-A950864B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541C-D8FB-4B24-8587-95C3B173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AAF1-4419-43FD-970F-A7589A66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A817-292F-4649-B110-626FAA59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F72B-17C7-402B-B36E-3AC5708E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AB73-8452-4EA8-B658-DFE82CA4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CDF-DC44-4A67-8AC1-DE7C968F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1EE-7DD3-4473-8D6D-1FF27F1A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F5E-1837-4A7D-8B36-B30F6B0B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F25-7968-4B02-A2FE-1DFF1782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45F-F47A-44DF-82DA-36B0947E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6A6-59B0-4620-A939-732A2E57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6881-43E1-4E46-83BF-545CAA9C2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1D84-911B-43DF-B2BF-2D2A8B44C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4:02Z</dcterms:modified>
  <cp:revision>11</cp:revision>
  <dc:subject/>
  <dc:title>III.3. REKLAMY JAKO GESTALT</dc:title>
</cp:coreProperties>
</file>