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61F-2D90-47A4-AC5E-2B377E43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CF3-4697-4E28-A124-125CAA16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138-25EE-4FC9-8586-B9376CC3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A65-6F12-4982-B204-62619748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33AC-1AB3-4F23-9E2E-3695E10C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E89D-64EF-47B6-AE6C-7F4136DD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E941-4755-4D6F-AEF3-A4B9A5AF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A0B2-CEC5-4801-9977-AC16FA22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0125-26BB-47F4-98D4-0416F460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5FB6-1478-41B9-8DB6-95224305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DD25-38EA-44A9-BD8F-2DE32F08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99F-2C4D-4B62-BF31-11E43FF5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D2A2-699F-4559-B897-E7772C2D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8D11-7827-4344-981C-144D4824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2A99-7890-4D5B-AAC2-F2BE677F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E4B1-072A-46A3-AC56-D5B2EF4D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07E9-DB75-48FD-A471-333AA310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297-150D-42E6-9F75-CD798996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43E4-E7C0-42A7-A84A-B5598C64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C76-20DE-4086-96A8-005ECCC7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438D-6DA0-4BF5-A337-ED2BE8BA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4FF-C416-4275-9581-7F0149D6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F35-AD03-42E3-8A30-7B032CE6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D7B-D618-4280-9601-605537CD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3323-57F1-4946-A4FE-4B51867D3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F5F1-35CE-499F-ACDD-90B09BAAD6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XI. MÉDIA JAKO NÁSTROJ SOCIALIZACE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ORIE MEDIÁLNÍ KULTIVACE 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Cultivation Analysis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tří do etapy „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orie silných mediálních účink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nejrozsáhlejš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jekt mapující všeprostupující a permanentně přítomné vzorce televizní reprezentace, respektiv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působy jakými televize „kultivuje“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centru zájmu jsou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louhodobé účinky, respektive výsledky kumulativní expozice televizním obsahům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to absorpční proces nelze chápat jako formu intencionálního přesvědč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Vliv televize na konzumenty není lineárn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říká nám co máme děl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 jistém smyslu je zde paralela s teorií mediální agendy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Nejde o spiknutí mocných, kteří se rozhodli jednoduše manipulovat masu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Mechanismus mediální kultivace ve svém důsledku představuje mnohem hlubinnější proces, který s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dehrává mimo naši volní kontrolu a je výsledkem fungování řady kulturních, technologických a ekonomických faktorů,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které formují tz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 LOGIK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j. určité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vyhnutelné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utinami, produkčními a technologickými podmínkami determinované chování mé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á otázka, která se v případě kultivace vnucuje z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 bylo dříve“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OBSAHY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RE-TELEVIZNÍ ZKUŠENOST?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je tato otázka nesprávná, irelevant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idé se podle ně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dí do symbolického prostředí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 kterém se odehrává velká část našich mentálních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ž jsou výrazně ovlivňovány televizním mainstreamem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ěti se začínají dívat na televizi několik let před tím, než začínají číst, a často dříve než začínají mluvit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programy pro děti 1-3.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mítá prost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totožnění kultivace s mechanismem posíl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ak jej známe od Klapper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vitační proces, při kterém jsou zasaženy de facto všechny skupiny a jejich  životní sty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Proto je televize hlavní kulturní zbraní stabilní společ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 jen jiné slovo pro účinek. Není to jednocestný monolitický proc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KULTIV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dpokládá oboustrannou interakci publika a médi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podle Gerbnera žádný z dosavadních postupů soustřeďujících se na analýzu existence či neexistence účinků není schopen zachytit každodenní kultivační proces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vliv na symbolickou strukturu sociálního  prostředí  je propojen s dalšími vlivy. Prot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lze říci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e by mediální kultivace jen jednoduše vytvářela obrazy,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íše je j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grálním aspektem celého dynamického procesu v rámci, kter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ituce produkují potřeb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ty a různé ideologické koncepty, které de facto veřejnost vyžaduj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MECHANISMUS JAK OVLIVNIT PŘÍMO POLITICKÉ A NÁKUPNÍ CH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Kultivační proces charakterizuj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/permanentího opakování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stabilních, repetitivních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televizních vzorců, kterým se dá těžko uniknout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jelikož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2/ televize poskytuje systém sdělení, která sice nejsou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ejná, ale jsou 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komplementární a vytvářejí koherentní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systém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(systém bez mezer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3/ V relativně stabilní společnost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způsobuje kultivační proces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rezistenci vůči změ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4/ Neprokázané silné účinky jsou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nepřímým důkazem kultivačního působení televiz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5/ Kultivace je výsledkem tlaku mainstreamových informací na většinu publika, u kterého je pak velmi obtížné identifikovat změnu postoje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toho vypl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todologická zm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ou kultivační analýza přiná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pření primární či jedině určující role selektivních mechanism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 je známe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radičního marketingového výzkumu a výzkumu persuaz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naop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bsorbuje, pohlcuje různé ideové koncepce a  postoje a činí z nich stabilní mainstream jakýsi proud hlavních, klíčových událost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nými slovy kultivační teorie vychází z předpokladu, že  hlavní charakteristikou současného mediálního působení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robení diváka tlaku televizního                     mainstrea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ční teorie  tak poněku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pozaďuje selektivní mechanism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tím se liší od tradičního výzkumu mediálních účin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ubin, Peerse a Taylor (1988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kázali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ní působení a jeho dopady/účinky jsou programově specifick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i co sledovali 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nní pořad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vy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ně altruismu a důvěry k druhý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ilní konzumenti sledujíc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odružné film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pro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íce starosti o vlastní bezpeč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 A REZONANCE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ces kultivace je posilován prostřednictvím dvou mechanism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ZONA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spojení s hlavním proud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dva pojmy zavádí Gerbner s cílem vysvět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lišné účinky silného konzumentstv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r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ůzné sociální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e není jednosměrný proce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i kterém televize působí přímo na publiku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 mechanismy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“ a „mainsteaming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dstav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alší proměnné, které televizní působení většinou nevědomky využí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ZONA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“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ce je interakce  mezi sdělením a kontex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Děti, které jsou více integrovány do rodiny jsou  více resistentní vůči násilným obsahům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i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chází tehdy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yž je kultivační účinek posílen pro určitou skupinu populac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říkla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zi množstvím televizní  konzumace a strachem ze zločin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 mnohem větší mezi těmi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ijí v zónách s vysokou kriminalito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í televizní konzumenti nepřipisují problému kriminality takovou váh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elevizní konzumenti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zi nimi jsou t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že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id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ločinnost jako vážnější problé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li zde hra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jich psychické a fyzické dispozice, které více rezonují se zobrazováním zločinnosti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 ZNAMENÁ DOSTAT „DVOJITOU DÁVKU“.Televizní obsah amplifikuje reálnou zkuše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představy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MÉDII EXIST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ADA ZÁKLADNÍCH VÝZNAMŮ A PŘEDPOKLADŮ, KTERÉ  JSOU OBECNĚ SDÍLEN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tažení do hlavního proudu v kombinaci se silnou televizní konzumací znamená siln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AVDĚPODOBNOST PŘEKONÁNÍ RŮZNÝCH DIFERENCÍ – sociálních  či kulturních v rámci celé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instreaming vede ke sjednocení názorů ve skupině, k homogenizaci, absorbování odlišných názorů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tvoření JEDNOHO OBECNÉHO TELEVIZNÍHO OBRAZU SOCIÁLNÍHO SVĚ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362800" cy="57261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todou potvrzující existenci mainstreamingu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parace postojů silných a slabých televizních konzum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 různým typům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rber rozlišuje tzv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labé (light) (0-1,99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střední (midle) (2-3,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ilné (heavy) (4+) televizní konzumen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utorem této teorie komunikace zaměřené speciálně na TV účinky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eorg Gerbner z Anenberg School of Communication na Pensylvanské universit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výzkum započal v roce 1967 pod názv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tohoto širšího  výzkumného projektu se rozvinula v roce 1974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orie televizní kultivace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o asi vůbec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jdelší a nejdražší longitudinální výzkum věnovaný televizním účinků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S Gerbnerem zde spolupracují zvlášt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ncy Signorielli, Michael Morgan a Larry Gros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á koncepce vychází z široce pojatého výzkumu kulturních indikátorů, který se ve svých počátcích soustředil na analýz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televizního násil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upně se výzkum rozšířil na další okruhy. Tedy na otázk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ovlivňuje televize vnímání a jednání ve vztahu k pohlaví, věkovým stereotypům, zdraví, vědě, rodině, minoritám, náboženstv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DIFERENCIÁ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edstavuje metodu komparace postojů „slabých“ a „silných“ televizních konzumentů k různým otázkám a indikují diference ve vnímání sociální reality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360" y="1916280"/>
            <a:ext cx="9144000" cy="486864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rozdíl v pojetí reality mezi „silnými“ a „slabými“ televizními konzumenty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ámci stejné demografické kategor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v konzumenti mnohem častěji popisují svět tak jak jej vidí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prokazuje, že 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ilných televizních konzum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responduje obraz každodenní reality s televizním obrazem svě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DOTAZOVANÝCH TÉ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ze světové populace činí obyvatelstvo USA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konzumenti uváděli odpověď násobně přesahující správných šest procent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labí konzumenti přeceňovali podíl populace USA mnohem méně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ominantní postavy vystupující v tv obsazích jsou ve velké většině Američa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populace pracuje ve složkách, které se zabývají uplatňováním či vynucováním zákon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dhad silných konzumentů vysoce překračoval správné jedno procento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12%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pět silní konzumenti výrazně předstihovali ve svém odhadu slabé konzumenty (2%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ních obsazích vystupuje okolo  20%  postav působících v roli vykonavatele záko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é procento v populaci představují lidé starší 65 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televizní konzumenti ve srovnání se slabými konzumenty odhadovali podíl občanů starších 65 let jako výrazně nižš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elevizní pořady, zvláště dramatické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dostatečně reprezentují staré lid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ý je podíl žen ve společnost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konzumenti silně podhodnocují odhad počtu žen ve společnosti.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Odpovídá to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reprezentaci ženských postav a jejich obrazu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Podobně mezi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dětmi ve třetí - páté třídě se u silně sledujících projevila jednoznačná stereotypizace ženské role směrem k domácím pracím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Jakou máte šanci, že se v nejbližších sedmi dnech setkáte osobně s násilím?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uváděli výrazně vyšší procento (30%) než je správné 1% a opět byli ve svém očekávání výše než slabí konzumenti. Více než polovina pořadů uváděných v televizních sítích (52%) prezentuje otevřené násilí, (80%) agresivní scény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okud se obecně zamyslíte, dá se podle Vašeho názoru lidem věřit"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jsou ve srovnání se slabými výrazně nedůvěřivější. Pociťují vyšší pocit ohrožení.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E VEDE SILNÉ KONZUMENTY K TOMU, ABY VNÍMALI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AZ SVĚTA JAKO OHROŽUJÍC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je podle Gerbnera jeden ze základních a nejobecněji sdílených účinků T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Gerbnerova zjištění se prokázala i, když se je pokusil falzifikovat rol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ku, vzdělání, pohlaví, mírou čtení novi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DIFERENCUJE  ZDE ŽÁDNÁ SOCIODEMOGRAFICKÁ CHARAKTERISTIKA DOTÁZANÝCH,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LE POUZE MÍRA JEJICH TELEVIZNÍ KONZUMACE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IDEOLOGICKÝ MAINSTREAM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V OSLOVUJE CO NEJŠIRŠÍ SKUPINU POPULACE A HOMOGENIZUJE TAK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NAŽÍ SE POTĚŠIT VĚTŠINU A NAŠTVAT, CO NEJMENŠÍ POČET LID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ýsledkem je, že se snaž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BALANCOVAT OPOZIČNÍ POLITICKÁ STANOVISKA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stolovat jakýsi střední kurs či střední cestu - cosi jako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UTRÁLNÍ DISKUR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3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lní televizní konzum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mají tendenci deklarovat 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ITICK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k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mírnění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píše než jako konzervativci či liberálové, a to zvláště mezi republikán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Liberálové a konzervativci s rostoucí mírou konzumace názorově splýva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LEVIZE KULTIVUJE K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LAVNÍMU PROUD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Vzniká tak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NIFIKOVANÁ POLI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jekt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(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67+) sestává ze tří tématických okruhů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stitucionální analýza procesu formování a distribuování mediálních obsa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é procesy, vlivy a tlaky působí při produkci masmediálních obsah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systému sděl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co jsou dominantní obrazy, fakta a hodnoty produkované masovými méd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d roku 1967 zaznamenávají vždy jede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ýden ročně obsah hlavních televizních sí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podrobují je obsahové analýze s cílem zachytit základní rysy a trendy, které používá televize ke konstrukci světa pro své publikum. Za dvacet let vznikla databáze zahrn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 000 postav a 2200 pořadů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íčové lekce, vzorce, obrazy světa, které televize publiku poskytuje pak využil Gerbner ve třetí části výzkumu pro formulaci základních ot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televizních konzumen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aký je vztah mezi mírou konzumace televize a koncepcí reality u televizních divá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analýza kombin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sahovou analýzu televizních sděl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 kvantitativní (dotazníkovou) reprezentativní analýzou publi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měřuje se na trvalé společné důsledky života v televizní kultuř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3068640"/>
            <a:ext cx="8785440" cy="32734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ncy Signorielli a Larry Morgan charakterizovali celý projek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o snahu zjistit, zda ti, kteří tráví více času před televizní obrazovkou, mají větší sklon vnímat reálný svět jiným způsobem, než ti, kteří televizi sledují méně, ale jsou přitom srovnatelní v základních demografických charakteristikách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NÁSTROJ SOCIALIZ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s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ální kulturní institucí moderních společnost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em rodiny, který vypráví nejvíce příběhů, a to v největším rozsah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monopolizuje své postavení a zahrnuje i jiné zdroje informací, které dříve formovaly lidské prefere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alizovaný systém produkce příběhů, které vytvářejí koherentní svět obrazů a sdělen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dětství nás TV systé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kultivuje“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efinuje náš vkus a způsob jak pracujeme s jinými zdroji informací a sděl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se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imárním nástrojem socializace a každodenních informac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itualita mše jako kolektivně sdíleného vzorce tradiční spol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dnes nahrazová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aždodenním rituálem kolektivní konzumace televizních obsahů, které i zd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dílejí elity společně s lid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SEKULÁRNÍ NÁBOŽENSTV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ogie mezi náboženským ritem a televizní konzuma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respektive podobnost jejich sociálních funkcí indik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kontinuálním opakování sociálních vzorců (mýtů, ideologií, vztahů apod.)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které slouží k definování sociálního světa a legitimizaci  sociálního řád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i užívá většina publika neselektivně, téměř rituálně. Jde o 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xpozici totálnímu vzor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píše než žánru či progra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polečně sdílené pojetí sociální reality na masové úrovni. Ve srovnání s jinými médi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ává televize k dispozici relativně omezenou sadu možnost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to pro neomezené množství zájmů publika. Komerční charakter televizní produkce vede k j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selektivní konzuma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hodnutí o tom, zda budeme sledovat daný pořad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něno  časem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y je vysílán, spíše než jeho obsa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prokazuj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ůměrné množství konzumace televize odpovídá životnímu stylu divá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typické české domácnosti ja zapnutá T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ě pěa půl hodiny den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růměr denní sledovanosti osob starších 15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et překračuje 3 hod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zumujeme habituálně a neselektiv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tomto směru nehraje významnější roli zmnožení TV programů. Neprokázalo se, že by jejich větší množství korespondovalo přímo úměrně s bohatším diferencovanějším mediálním obsah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opak dominantním trend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úzování či vertikální integrace v mediálním průmyslu - například pohlcení velké části nakladatelských domů elektronickými konglomerá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 v praxi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dukování stejného materiálu pro různé mediální trh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ště homogennější se jeví z tohoto pohledu užívání technologi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deozáznamu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střednictvím zappingu sice populace zcela prokazatel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niká reklamám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jiný program, ale uniká opět za stejnou verzí především primetimového programu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úniku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ference mezi jednotlivými formáty jsou pouze formální. Programová struktura zůstává stejně rigidní jako struktura mýdlové opery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upozorňuje na to, že různé typy programů, včetně zpravodajství, sdíle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obné klíčové či charakteristické znaky, které jsou typické pro vyprávění příběh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rytelling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 se ze dne na den produk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ciální stereotyp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castingu, typizace a vzniká  t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svě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sledkem této masivní expozice je to, co nazývá Gerb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9144000" cy="244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kultiv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sociokulturní mechanism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vlivňování publika, které se liší od koncepce mediální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ů, která se zaměřuje na působení vždy jedno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dělení a není schopna pojmout mediální působení jak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ele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MEDIÁLNÍ KULTIVACE JE O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      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ÍM PÚSOB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vypráv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typy příbě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iktiv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ých se promítá neviditelná dynamika lidského života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iv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luzivní potenciál lidských př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zpravodajství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ém jsou potvrz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avidla a priority dané společ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r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pomáhají s orientací ve společnosti (radí jak se bránit v situaci ohrožení nebo např. co nakupovat apod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yto tři druhy vyprávění vytvářejí společně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OVANOU KULTU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tomto smyslu funguje televize jako nástroj proces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RÚSTÁNÍ, UNIFIKACE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tahuje původně zcela disparátní narace do jednoho prostor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LCUJE VEŘEJNOU SFÉR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47:11Z</dcterms:created>
  <dc:creator>JV</dc:creator>
  <dc:description/>
  <dc:language>en-US</dc:language>
  <cp:lastModifiedBy>JV</cp:lastModifiedBy>
  <dcterms:modified xsi:type="dcterms:W3CDTF">2010-12-09T09:07:15Z</dcterms:modified>
  <cp:revision>5</cp:revision>
  <dc:subject/>
  <dc:title>XI. MÉDIA JAKO NÁSTROJ SOCIALIZACE TEORIE MEDIÁLNÍ KULTIVACE   (Cultivation Analysis)</dc:title>
</cp:coreProperties>
</file>