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434-A6A6-4516-B3A6-7351B939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809-92F2-4458-A6BE-5759C664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78F-A6EA-4F04-9D2A-323851FA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4CF-84E1-4142-8769-3CF25400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1A09-8A23-457D-8365-677087FA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16A7-038E-4105-BDD0-190CD3CE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31EC-DF1B-4F08-9A42-BD706021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9CED-B959-4367-B9C8-33D651EC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B205-CC62-4B53-8CFD-D266B99C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A778-D4B5-402D-B407-AB05AAA8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BF6F-822F-4E46-ABEB-61A5221F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876-5D14-4435-A7EA-587F8ED6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995A-5BEB-4F89-A8A9-6212977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C287-3019-41B0-AB5C-4DF0EE26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E6FB-B394-4858-BF3F-75DA9844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B031-C0EF-4117-AE74-028DD267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66DA-51B1-4507-92F8-4952C51E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4C2-6054-4E11-A152-14580B99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60E-E997-43B1-A401-81D57799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89B-3B4F-4645-A6AF-4CB6BB0C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C00-20F0-4B46-9E8C-243587A6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4B2-4A39-4976-BE02-2682B186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B90-5A9C-4A3E-A5CD-231FAE43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91F-1B4D-42EE-BB31-BF31C552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9445-E845-4804-B400-1863F1884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7C71-31DB-4B7B-91A5-1CD09BCE4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II. Úkol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zvolte libovolné mediální sdělení (nejlépe reklamní povahy) a pokuste se identifikovat v jeho rámci použité konstrukční principy vycházející ze základních percepčních zákonů tvarové (gestalt) psycholo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oto pojetí výrazně podtrh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 roli příjem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ý v rámci percepčního procesu přináší cosi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astní informa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odobnost se sémiotickým přístupem je zřetelná v důrazu na aktivitu a individuálnost zpracování. Samotní sémiotici se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zabývají vlastními podmínkami či příčinami za nichž k aktivní a de facto vždy individuální percepci docház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to z pohledu vlastního psychického aparátu či ustrojení člověka. Sémiotici zůstávají většinou pouze u popisu mechanismu jak jsou jednotlivě zpracovávány jednotlivé znaky z pohledu jejich významové výstavb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percepce dochází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rumentaci řady bitů informací, které jsou v tomto smyslu defacto rekonstruován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dyž cosi pozorujeme zapojujeme i svou minulou zkušenost (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ozdíl od fungování fotoaparátu, kamery apod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ento vztah ke zkušenosti dobře dokládají případy lidí, kteří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ískali opětovně zrak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Jsou bombardováni množstvím stimulů, které neznají a které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sou schopni interpretovat jen za pomoci různých smyslových zkušeností, nejčastěji  dotykové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ýznam zkušenosti dokládá skutečnost, že například vnímání dvou/třídimenzionální informace je  pro od narození slepých jedinců nemožné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platí například i pro lidi, kteří nikdy neviděli fotografii a musí se jí učit číst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. KAZUISTIKA (Gregory, 1986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řípad pacienta, který byl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epý od dětství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 získal zrak po transplantaci rohovky v 52lete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eho obraz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postrádal koherenci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-  vše splývá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stává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trach z chůz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, kterou jako slepý běžně zvládal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del jeho vlastního bytu byl dotykový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vět byl dotykový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jednou s novou vizuální zkušeností byl pro něho prostor extrémně konfúzní,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nedokázal posuzovat velikost a perspektiv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eho původní život, kdy neviděl  byl dán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linearitou a sekvenčností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aková percepční mapa ovšem neposkytuj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statečné informace o pohybu v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imultánním prostoru  a hloub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zvyklý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ekvenční a materiální svět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byl schopen vnímat dvoudimenzionální fotografie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iděl jen barevné skvr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klád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mazané skvrny za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tváře jen díky tomu, že znal hlas daných osob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tato vizuální nezralost jej vedla k tomu, ž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vnímal klasické optické iluz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například týkající záměny figury a pozadí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(Neckarova kostka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bez zralé vizuální zkušenosti skutečně viděl to, co mohl na poprvé pocítit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íklad některé věci, které považov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 základě hmatové zkušenosti za hezké a měl je rád byly najednou vizuálně odporné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ebyl schopen deficit ve vizuálním učení vykompenzovat či odstranit. Výsledkem byla skutečnost, ž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ociálně s tímto novým světem nevyrovnal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stupně u něho narůstá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epresivita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Umírá po dvou letech od tranplant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pad popisuje situaci člověka, který je plně schopný vnímat svět skrze zvuk a dotyk, ale jeh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ysl pro cel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yl na nulové úrovni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rozvinutý vizuální kortex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k vedl k tomu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mohl vidět, ale n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nímat-percipovat ve vizuálním mó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de o důkaz význa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zuálního učení a paměti při vizuální percepci.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o co naše oči registrují není obrazem reality. Spíše se dá říci, že náš mozek/ky kombinují informace zprostředkované očima s dalšími smysly a syntetizuje je s naší minulou zkušeností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ový obraz nám pak pomáhá s orientací v sociálním světě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. J. Gibso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liš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mezi obrazem na sítn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po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ntální aktivit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á vytváří ná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svět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A/ „Vizuál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e“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větla na sítn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tímc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výsledkem dop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B/ „Vizuální svět“ j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interpretací vzorců světla jako reality.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zuální svět je interpretací reality ne realitou samotnou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obraz formovaný v mozku prostřednictvím integrace multisenzorických informaci a kulturní zkuše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jde spíše 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ntální mapu, ne o teritorium v jeho úpl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de defacto o distinkci mezi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percepc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realitou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, o propast, kterou nelze nikdy uzavřít. To, co označujeme jako realitu je výsledkem procesu, který počíná světelnou refrakcí a končí komplexní dynamikou psyché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ávě proto, že  věci vnímáme konzistent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ěříme tomu, co vidím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Nakonec tudíž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vidíme více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ž realitu. Vidíme to co očekávám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některá výtvarná díla - Magri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 případě televize vnímáme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ybně okolo třiceti procent obsah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který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ztotožňujeme s teritori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s map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nalogie 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kem a fotoaprátem je nesprávná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likož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ítnicový obraz je toliko nejelementárnějším stádie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komplexním procesu „vidění“. Oko je pouz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iologickým nástrojem pro shromažďování informa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dostupným z vnějšího prostředí. Obraz, který nám oči zprostředkovávají nepracuje na rozdíl od fotoaparátu na základě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chanismu zachycování obrazů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jde o komplexní proces zachycující existenci změny, formy a rysů, ve kterém jsou selektivně připravována data pro interpretaci v mozk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Současná vizuální teorie předpokládá, že vizuální paměť u vidících jedinců existuje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da reprezentativních tvarů, které obsahují invariantní, stálé, neměnné vlastnosti objektů v jejich různých užitích či situacích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yto neměnné vzorce u slepých od narození chybí. Tím jak vizuální zkušenost narůstá stávají se tyto vzorc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hématy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podle, kterých rozlišuje základní tvary a umožňují mezi nimi rozlišovat (viz díle percepční témata (Doris Grabe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az na sítni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frontován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kušenostním schematem drženým v tzv. dlouhodobé pamě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Paměťová reprezentace tak výrazně ovlivňuje povahu percipovaného objekt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ínové divadl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acující se základními charakteristikami např. zvířat je typickým příkladem existence takových sché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á se ovšem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aměť nedrží tvary jednoznačně ve stejné podob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aměť je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ermanentní proměně, a to pod vlivem nové zkušenost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de o otevřený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stém vzájemného ovlivňování vizuální paměťové zkušenosti a nové vizuální zkuše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např.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raumatické zkušenosti jsou ukládány do odlišných částí moz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dyž si lidé vědomě vzpomenou na traumatický zážitek dochází k překrvení amygdaly a dochází k aktivizaci vizuálního kortex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ýsledkem mohou být intenzivní vizuál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lashback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vzpomínkové zábles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uje se tak de facto 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choanalytická teorie vytěs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I.1.TEORIE  PERCEPCE: GESTALTISTICKÉ KOŘENY, HOLISTICKÁ PERCEPČNÍ ŠKOLA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mes Gibson (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he Ecological Approach to Visual Perception, 1979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důrazňuje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že obraz, který vidíme není dán hlavním stimulem, světlem, respektive jeho obsahem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l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de primárně o diference mezi jednotlivými světelnými skvrnami. Vidíme na prvním místě rozdíly mezi nimi mezi těmito skvrnami, ale ne je samotné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 se přitom opírá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teorii a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ůrazňuje, ž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ce má holistickou-celostní povahu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APITOLA II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ERCEPCE V MASOVÉ  KOMUNIKACI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ou z nejproblematičtějších vlastností komunikačních  modelů v první etapě výzkumu masových médií - tedy v etapě silných účinků, teorie injekční stříkačky, letící střely, (koncepcí které tvrdí, že média mají přímé a silné účinky)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chopnost modelů silných účinků vyrovnat se záludnostmi percepčního mechanismu.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odely pracují  s představou sdělení jako šípu zasahujícího jeden cí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pomíjejí ovšem právě vliv percepčního mechanismu jednotlivých příjemců, který zásadním způsobem ovlivňuje interpretaci sděl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GESTALT PSYCHOLOGI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ce teoretiků tzv. gestalt (tvarové) psychologie se zaměřil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ynamickou percepční organizaci vnější zkušenosti do smysluplných celků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kladatelé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ax Werthei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0-1943),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olfgang Köhl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7-1967) 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urt Koff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6-1941) považují z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líčový organizující percepční princip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ednotu smysl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vzniká velmi časně. Jsou defacto první, kteř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upozornili na roli princip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ednoty-cel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 rámci procesu vnímá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jímaj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chanismy kombinace částí do více méně smysluplných celků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cházejí přitom z předpokladu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elek je více než pouhý součet část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ZOMORFICKÁ TEORIE PERCEPCE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ax Wertheimer došel na základě percepčních experimentů k tomu, že klíčový je v percepci</a:t>
            </a:r>
            <a:r>
              <a:rPr b="1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vztah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edy cosi odlišného než co je obsaženo v jednotlivých oddělených vjemech. 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ejde tedy o jednotlivá podráždění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odle tohoto pojetí se zdá ž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principy percepce leží mezi jevy, elementy a ne v nich samotných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apříklad př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ranspozici melodie jsou užité noty jiné, ale melodie je stále rozpoznatelná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elodie je tak funkcí vztahu mezi jednotlivými částmi notace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Podobně uvažují dnešní neurofyziologové, když předpokládají, že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neexistuje centrální dirigent, ale spíš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forma demokratické symfonie mezi jednotlivými částmi mozku.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‚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GURA a POZAD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´figure' a 'ground')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elá teorie vychází z předpokladu existence univerzálních charakteristik lidské percep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chom byli schopni identifikovat vizuální obraz musím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ěl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minantní tvar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'figuru' s jejími hraničními konturami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pozadí- ground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“ toho co aktuálně odsouváme do poza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princip ilustruje ambivalentní zobrazení dánského psychologa Edgara Rubina.</a:t>
            </a:r>
            <a:br>
              <a:rPr sz="2800"/>
            </a:b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hodující je to, co  v daném případě akcentujeme – bílá váz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černé siluet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Pokud akcentujeme siluety jde o figuru a zbytek odsouváme do pozad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537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Percepce či obraz organizován prostřednictvím dvou mechanismů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koheze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zolac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nie umístěné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ízko seb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dobné barv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vary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ndují k formování jednotek jako ohraničených celků, jež jsou izolovány od ustupujícího poza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stalt psychologové vytvořili několik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univerzálních princip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někdy se hovoří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onech percepční organizac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 hlavní můžeme považovat následující (terminologie se někdy částečně proměňuje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ákony percepční organizace podle gestalt teorie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/ princip jednoduchosti, podobnosti (simila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2/ princip blízkosti (proximit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3/ princip dobrého/hladkého průběhu (good continu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4/ princip uzavření (closu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/ princip preference menšího tvaru (smallness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/ princip ohraničení (surroundedness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/ princip symetrie (symmetr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1/ / princip jednoduchosti, podobnosti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uktura vyobrazených předmětů (tečky a čtverečky) uspořádané vertikálně a horizontálně tzn. že princip blízkosti není adekvátní. Vidíme ale střídání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oupců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 koleček a čtverečků. Je tomu tak proto, že máme tendenci asociovat podobné rysy. V případě nerozlišených objektů vidíme řádky i sloupce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364644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85680" y="3645000"/>
            <a:ext cx="3225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Princip blízk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 percepčním procesu se sousední body nemusí dotýkat, aby byly logicky spojovány jako části většího významového, smysluplného vzorce.</a:t>
            </a:r>
            <a:br>
              <a:rPr sz="24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Jeden  čtverec složený z teček v sérii sloupců. Charakteristiky, které jsou k sobě fyzicky blíž jsou snadněji asociovány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64320" y="2276640"/>
            <a:ext cx="24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4800" y="2276640"/>
            <a:ext cx="283356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46400" y="4995720"/>
            <a:ext cx="51339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rincip dobrého/hladkého průběhu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kon hladkého průběhu vnímání předpokládá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pletování již dříve vytvořených linií, ať už formálních nebo zkušenostníc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okud vnímáme jakýkoliv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ambivalentní stimul -  vnímáme jej jako odraz toho co očekáváme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ento princip říká, že kontury vycházející z plynulého průběhu preferujeme před změnou směru. Vidíme zde linie a-b a c-d, ale ne a-d,  c-b, a-c a d-b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61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9080" cy="4581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á modifikace tváře muže do postavy ženy </a:t>
            </a:r>
            <a:br>
              <a:rPr sz="28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slední kresba nahoře a první dole je ukázkou ambivalenc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 platí pro ilustraci platí obecně i pro percepci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vnímáme to co je, ale to co chceme vidět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RO STUDIUM PÚSOBENÍ MASOVÝCH MEDIÁLNÍCH OBSAHÚ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JSOU DÚLEŽITÉ NÁSLEDUJÍCÍ OTÁZKY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Jaké mechanismy ovlivňují vnímání masových  mé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ak je vnímána jejich realita na základě existujícího vědění - držených postojů, schémat, stereotyp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Jak může konzumace masových médií ovlivnit vnitřní prostředí jedince tj. jak může ovlivnit míra konzumace médií postoje, stereotypy a schémata. Tento proces zapadá do kategori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percepce sociální re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kud je to tak, že percepční vzorce vytvářejí základy pro abstraktní myšlení a argumentování, pak je možné vidět v tomto základním principu nejen kořeny hladkého průběhu percepce, ale též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stereotypizován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ovšem zdůrazňuje spíš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istenci vnitřních percepčních principů,  než že by mluvil o učení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obně je tom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yž se díváme na oblohu, mraky nebo hvězdy tendujeme k využití vzorců, které byly vytvořeny dříve, jelikož poskytují stabilitu a vytvářejí vý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Princip uzavření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ferujeme uzavřené tvary před otevřenými. Vidíme tři přerušené obdélníky. Princip uzavření přebíjí princip blízkosti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5/ Princip preference menšího tvaru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ší oblasti máme tendenci vidět jako figury proti většímu pozadí.(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Vidíme  kříž spíše než bílé pozadí)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39960" y="2276640"/>
            <a:ext cx="31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6/ Princip symetr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tevřené, nedokončené figury např. série teček jsou vnímány jako jeden trojúhelník, kruh nebo čtverec, když dosadíme chybějící lin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či tečky. Jde o nevědomý proces, ve kterém oko a mozek vytváří nejlepší nejsymetričtější formy. Uvedený princip znali už před gestaltisty pointilisté a impresionisté, kteří užívali vzorce světla na plátně (Cézan, Manet, Monet, Renoi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43560" y="3647520"/>
            <a:ext cx="2350080" cy="2444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68360" y="3213000"/>
            <a:ext cx="115128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3213000"/>
            <a:ext cx="143964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6858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213000"/>
            <a:ext cx="0" cy="345600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213000"/>
            <a:ext cx="36720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6597720"/>
            <a:ext cx="410544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284640"/>
            <a:ext cx="216000" cy="33130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7/ Princip ohraničení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blasti, které vidíme obklopené dalšími máme tendenci vnímat jako  figury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(davají dané znaky nějaký význam, lze je přečíst?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3070080"/>
            <a:ext cx="835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AGNANTZ PRINCIP</a:t>
            </a:r>
            <a:br>
              <a:rPr sz="24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šechny uvedené principy percepční organizace slouží nadřazenému principu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agnän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ý říká, že dáváme přednost nejjednodušším a nejstabilnějších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terpretac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4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ERCEPČNÍ ZKRESLE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zhledem k tomu, ž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ěříme tomu, co vidí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áme tak rádi optické iluze. Typickou ilustrací percepční iluze, které podléháme je existenc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lepé skvr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j. místo, kde se již nervové receptory nedotýkají sítnice. V této oblasti již nedisponuje sítnicovými receptory a proto neexistuje cesta jak předávat vizuální informace. Uvedená oblast musí být vyplněna percepčně. Této absence, jakési díry ve vidění si nejsme vědomi. Přesto vidíme celistvé obrazy. </a:t>
            </a:r>
            <a:br>
              <a:rPr sz="2800"/>
            </a:b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nto model doplňování se odehrává obecně v celém procesu 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rvní data, které mozek vnímá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jsou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raniční kontur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o umožňuj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lišovat jeden objekt od druhého a de facto nám tak pomáhá nenarážet do věcí okol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Následuje naplňování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ování tohoto prázdného prost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 to i chybějících detailů, a to za užití tzv. zprůměrňování přijímaných senzorických dat, například bare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to percepční doplňování je paralelní s kognitivním zpracováním např. v rovině stereotyp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brazy formované vědomě i nevědomě vytvářejí percepční hranice a v jejich rámci pak více mé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utomaticky dosazujeme a zprůměrňujeme obsah vymezený těmito hranicemi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 co doplňujeme tak defacto reálně neexistu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nechceme podlehnout tomuto stereotypnímu a automatickému myšlení musíme jej podrobovat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ustálým kritickým zkoumán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o abstraktní myšlení a percepci hraje klíčovou roli schopnost skládat jednotlivé části do cel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ři vnímání věcí v našem okolí činím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extrémně komplexní výkon derivování významů z odlišných  a oddělených element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unifikovaného celku - tj. obrazu věcí odráž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listickou logiku, jež má své základy v evoluci percep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ato holistická schopnost organizovat věci do celků nám pomáhá např. oddělit telefonní přístroj od stolu, na kterém stoj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ěkdy se t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poved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ambivalence významů vede ke spojení jevů, které spolu nesouvisí. Příkladem je otázk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řešení ambivalentních významů, které mohou být interpretovány různými způsoby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Uvedený mechanismus ilustruje Rubinova iluze  „dvě tváře z profilu“, které se alternativně transformují do vázy, a to v závislosti na tom co vidíme jako figuru a co jako pozadí.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áza nebo tvář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Jde o ilustraci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ztahu figury a pozadí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, které se alternativně prosazují jako figury.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dyž jsou síly izolování a soudržnosti v rovnováze vzniká ambivale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Váza/ tvář model je ambivalentní protože variuje mezi dvěma interpretacemi, které nelze jednoznačně priorizovat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Á MATKA A MÁ TCHYNĚ. Poprvé publikována 1915. Jde 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ernativní portrét mladé ženy, která se proměňuje ve starou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Nos staré ženy je současně spodní čelistí mladé ženy.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Ať už vidíme jako první mladou nebo starou ženu svou roli zde hraje skutečnost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očekává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/ 1 PERCEPCE A POHYB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hyb je pro naši percepci zásadn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obně jako barv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registrován bezprostředně a automaticky percepčním systémem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zuální systém  byl vyvinut s tím cílem, aby nás varoval před nebezpečím. Proto reagujeme n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hyb jako na signál, který je potenciálně pozitivní nebo negativní změnou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 je pak to, co s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ěje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měny ve vizuálním poli vyžadují naši pozornost kvůli pohybu. Díky pohybu jsme lépe schopni porozumět struktuře objektu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hyb odhaluje třídimenzionální formu a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dděluje figuru od pozad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 zvířata při ohrožení tzv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zmrznou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ž je de facto kamufláž pro přežit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k se pohnou odhalují své charakteristiky - tvar, velikost, směř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1/  Mullerova-Lyerova iluze OBR.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2/ Ďáblovy proměnlivé vidle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3/ Neckerova kostka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5689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staltisté byli první, kdo upozornili v rámci mechanismu percepce n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vědomé a automatické procesy, které organizují podráždění podle zkuše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ůrazňují přitom, že procesy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komprese a redukc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vizuální inform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rmují percepční elementy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do jeji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jjednodušší a nejefektivnější podo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dyž sledujeme film nejsou tzv.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ceptory krátkých záblesků schopny rozlišit mezi zdánlivým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álným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pohybem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/V prvním případě jde o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dojem pohybu ze dvou skutečně existujících stimulů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/ V druhém o identifikac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álného pohybu, tak jak se normálně odehrává v přírodě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brázky v rychlém sledu na plátně ústí do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iluze kontinuálního pohybu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ochází k tomu, že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zdánlivý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ohyb a rychlé sekvence jsou čteny jako další stimuly s podobnými časovými a prostorovými charakteristikami. Pohyby na filmovém plátně identifikujeme podobně jako pohyby reálné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es je rychlost pohybu jednotlivých políček standardizovaná. U prvních filmů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olísala rychlost mez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16 až 24 obrázk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za sekundu, takže při nižší rychlosti bylo vidět jejich běh, míhání. J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 facto o idiomatické vnímání filmu zmize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nto fakt měl klíčový vliv pro roli médií jako zábavy. Ač považujeme daný film za plytký, stále jej pozorujeme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i sledujeme částečně i proto, že se obrázky pohybuj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kční film je v tomto smyslu dobrou ilustr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odnocení umělecké úrovně pořadu je tak vlastně až sekundární zkušeností. Dialogy i akce jsou často příliš rychlé na to, aby byly analyz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víc těsně nastřihané události, akce působí na naši percepci a vyvolávají dojem kauzálního vztahu místo vědomí pouhé chronologie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de o jakousi ztrátu percepční logiky, která vysvětluje proč akční filmy navzdory absenci pevněji a logicky vystavěné zápletky jsou vnímány jako příběh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ávě pohyb obrázků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fra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zdrojem speciálních efek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lmování miniaturních modelů zvýšenou rych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jejich následná projekce ve standardní rychlosti vyvolává dojem jejich „reálné“ očekávatelné velik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žívání pojm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se liší podle vědeckého pole či užité metodologie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7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A/vjem, percepční pole, percepční plynul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gnitiv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ociální percepce, selektivní percep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sociál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ercipovaná realita, percepce sociální re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munikační vě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c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- je  proc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ijím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pracov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informací prostřednictvím smyslů. Není to ovšem pouze pasivní mechanický proces (jako kamera nebo magnetofon) přijímání informací, ale spíš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ynamický proces zpracování informac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v jistém smyslu produkování těchto sděle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NEJJEDNODUŠŠÍ VYMEZENÍ ZDÚRAZŇU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ATEGORIZAČNÍ FUNK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ERCEPČNÍHO MECHANISMU, KTERÁ ALE SLOUŽÍ FUNKCI OBECNĚJŠÍ –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APTAĆNÍ,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(percepční ostražit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ercepce je komplexní proces, při kterém lidé (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(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(c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pre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senzorickou stimulaci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ysluplného a koherentníh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brazu světa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V tomto procesu tedy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nemůžeme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 hovořit o jednoznačné korespondenci mezi vnější realitou a jejím zpracováním individuem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aré mechanistické koncepce naopak předpokládaly, že všichn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vnímají jevy stej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resp., že  v případě vnímání  jednoho konkrétního objektu je tento vnímán  totožně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Jde o posun od pozitivistického ke 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A/ kogntivistickému a B/ konstruktivistickému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řístup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36:08Z</dcterms:created>
  <dc:creator>JV</dc:creator>
  <dc:description/>
  <dc:language>en-US</dc:language>
  <cp:lastModifiedBy>JV</cp:lastModifiedBy>
  <dcterms:modified xsi:type="dcterms:W3CDTF">2010-11-12T07:51:51Z</dcterms:modified>
  <cp:revision>6</cp:revision>
  <dc:subject/>
  <dc:title>KAPITOLA II. PERCEPCE V MASOVÉ  KOMUNIKACI</dc:title>
</cp:coreProperties>
</file>