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91A-B0E9-407E-8AE1-4D0A22E7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AE0-C5F3-4D49-9C05-9E99E3AB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F40-3ED3-413C-AA32-B3DCD709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AB2-0854-445C-9F4C-044613E2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C10E-FFF1-4C95-A1C3-429C6861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BF39-57C7-46CA-8255-9874B655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7C4A-112A-4CE0-993C-A983030A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92B8-7C0B-400F-B0FF-1245C58C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1FB8-C925-4B82-9030-0BE5F5E9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7A04-FBCA-4956-8C4A-58E31AEB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54F9-5035-49CD-B96B-33E6590F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037-1406-450E-90F2-51E11450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9C16-3D3F-4EAD-8162-A2F697B0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D2FA-464B-45E3-AC06-D834F86E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04F1-D2B7-465D-9BBF-3067E91E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7C3A-2950-440B-A152-DEFD2ABA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F5D3-77A7-41F8-B59A-375F321D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4C6-D324-4035-851D-72E3261C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CB8-683E-4B52-8E27-296737E0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C5B-4341-4C2E-BEE7-B4ED9FBF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71C-B7D5-46C0-9946-B3102587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31F-DA49-489D-A4EE-E71E2923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A57-D48E-4DA9-A972-1BBE8030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AE6-2CBD-4445-B1E1-781A9707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7BBC-AA6A-454C-B0CB-F98027463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B229-22B9-427E-ADBB-5B96DE6F2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. PÚSOBENÍ MASOVÝCH MÉDIÍ A ROLE INTERPERSONÁLNÍ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Dvoustupňová komunik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Difůze inovací S -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J- 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edle psychologických výzkumů zaměřených na mechanismy přesvědčován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ruhá  etapa výzkumu mediálních účinků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harakterizová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ologickou snahou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émonizovat pozici masových médií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, respektive korigovat představu o jejich všemocném a přímém působ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číná zde etapa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mezených mediál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ÝZKUM DECATU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 E. Katz /P.F. Lazarsfeld, 1954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by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ncipován tak, aby odpověděl otázku pro National  news magazine týkající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kupních vzorců, vkusu při oblékání a užívání kosmetiky, návštěvě kina a formování mínění v lokálních politických událoste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identifiko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zorové vůd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jejich pozice, kterou zastávají v životním cyklu a podle sociálního stat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ými otázkami, které si v této době výzkumníci položili se zaměřili na to zd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 tvůrci mínění shodují ve věku, pohlaví, sociálním statu apod.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a jsou tvůrci mínění více vystaveni médiím?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i jsou tvůrci mínění více zaujati daným problémem?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LAVNÍ ZJIŠ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2% postojových změn v jednotlivých tématech bylo způsobeno osobním vliv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ruhé osob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Jako rozhodující se ukáz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integrace do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ostatní sociodemografické charakteristiky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k, pohlaví, vzdělání byly až sekundárn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udie potvrdi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ad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se vyskytují  na všech statusových roviná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Vyvstává tak otázka čím se liší od svých souběžc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ifikací hodnot dané skupi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o je zač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to tedy osoba jíž se souběžci snaží napodo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Kompeten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co z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trategickou sociální pozi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koho zná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tegická pozice je jednak dána tím koho zná uvnitř skupiny, (leader musí mít souběžce) které dominuje a zároveň koho zná mimo skupinu v relevanci k danému témat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SOCI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dále prokázala, že se tvůrci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vystavují mediálnímu působení než jejich souběžc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íce četli noviny a politické rubriky v případě volebního vůdcov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5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zorové vůdcovstv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definováno výraz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atem, předmětem sdělení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mají někdy kosmopolitní charakter někdy charakter lokál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6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„opinion leaderů“ je dán nejen tím, čím jsou - tedy sociálním  statem, věkem nebo pohlavím, ale té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ukturou a hodnotami skupiny jíž jsou člen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ůrci mínění defacto fungují tak, že posilují skupinové normy a individuální míně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působení zvyšuje názorovou homogenitu skupiny. Ti, kteří původně deklarovali  jiný postoj jej změnili v tom směru, že se konformizoval s jejich primární skupinou, přáteli a znám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o charakteristický rys vztahu souběžců k tvůrcům mínění se ukázala jeji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chota podpořit je i v případě, že pochybovali o správnosti jejich náz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dobné zjištění potvrzují studie zabývající se diseminací tzv. inovací - v případě šíření a doporučení nových léků se projevila ochota souběžců podržet své názorové vůdce i v situaci, že jimi doporučené léky selhal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7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vliv se ukázal silnější a častější nejen v politice, ale i  módě,  um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t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příklad p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ř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ostojových změnách ve vztahu k filmové produkci byl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ersonální kontakt pět a půlkrát silnější než druhé nejvýraznější médium -  novin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(J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e ale třeba předpokládat jak časovou dynamiku, tak i odlišnou kulturní pozi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ou etapu omezených účinků (jak psychologické tak i sociologické studie) shrnuje a završuje  prá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osepha Klappera Effects of Mass Communication (1960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zde činí několik základních  generalizací postavených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ěř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00 empirických studi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ředevším laboratorní povah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koncipoval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zv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ý odmítá dlouho dominantní mode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hypodermického účinku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Místo toho prefer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tuační“ či „funkční“ opti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app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uští teorii, která  považuje masovou komunikaci za jedinou a dostačující podmínku sociálního účin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ENOMENISTICKÝ PŘÍ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CHÁZÍ Z PŘEDPOKLADU, ŽE MÉDIA PŮSOBÍ SPOLEČNĚ S OSTATNÍMI VLIVY V KOMPLEXNÍ SITUACI, KTEROU NELZE REDUKOVAT NA PÚSOBENÍ JEDINÉ PROMÉNNÉ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ová komunikace obyčejně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nutnou a postačující příčinou sociálních účink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le působí spíše společně s řadou zprostředkujících faktor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y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prostředkující faktory obvykle proměňují masovou komunikaci v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ílčí sílu tj. nikoliv v jedinou příčinu posilování postojů veřejn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píše tak postoj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il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ž m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Tam, kde vyvolává masová komunikace čistou postojovou konverzi bu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a/ zprostředkující faktory jsou neúčinné a působení je přím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zprostředkující faktory, které posilují postoj, působí ve smyslu změ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zbývají zde ještě další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ziduální situace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 kterých skutečně působí masová komunikace přímo a slouží tak jistý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sychofyzickým funkcím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determinant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 posílení a tzv. malé z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idí Klap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chanismus dvoustupňové komunikac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, res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dividuální psychickou výba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ň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mechanis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erční povahu masových médi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terá jsou nucena zastávat pouze ta hlediska a hodnoty proti nimž není námitek a tak pouze  posiluje dosavadní náz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ý je okamžik, kdy si vytvoříme zábranu proti cizím názor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zábrany al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ůsobí v případech zrodu mínění o otázkách zcela nov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ávě zde vidí prostor pro přesvědčovací působ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apper zde připomíná Goebelsovu parolu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koli řekne první slovo světu má vždy prav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RITIKA DVOUSTUPŇOVÉHO MODELU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větší část studií potvrzuje, že zpráva se šíří v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ětší míře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zprostředkovan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je otázk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zda jde 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é ovlivňování či pouhé sdílen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míně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 Odlišnost O.L. a souběžců je někdy sporná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ukazuje se, ž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op. leadři mohou být jak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aktivní tak i pasivní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dvoustupňový model předpokládá pouze jejich aktivitu a pasivitu masy, je třeba uvažovat možnou záměnu rol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tento model zcela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gnoruje existenci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třetího typu a to individua, které není ani leadrem a souběžc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individua, která zprávy nevyhledávají ani se nenechávají ovlivnit v diskusi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jde o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izolát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či neparticipanty, kterých ovšem může být poměrně vysoký počet ve vztahu k různým tématů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5/ další výzkumy potvrzuje existenc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více kroků či stupň</a:t>
            </a:r>
            <a:r>
              <a:rPr b="0" lang="cs-CZ" sz="3100" spc="-1" strike="noStrike">
                <a:solidFill>
                  <a:srgbClr val="feec94"/>
                </a:solidFill>
                <a:latin typeface="Times New Roman"/>
              </a:rPr>
              <a:t>ů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Trohldahl - Dvoucyklový model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 předpoklad, že O.L.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používají pouze mediální kanály selhává v rozvojových zemích, ale i v krizových situacích, kdy se dá spíše předpokládat </a:t>
            </a:r>
            <a:r>
              <a:rPr b="1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řetězová komunikace než klastrová - tedy přes názorového vůdce</a:t>
            </a:r>
            <a:r>
              <a:rPr b="0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7/ je třeba zdůraznit 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rozdíl mezi tím jak pracují se sdělením jeho první nositelé a jeho druzí uživatelé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souběžci), kteří 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více lpí na na osobnostních zdrojích, zatímco tvůrci mínění dají více na médi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I. MECHANISMY DISTRIBUCE INFORMACÍ A ÚČINKY ZPRAVODAJSKÝCH OBSAHŮ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ůžeme zde rozlišovat tři základní sub-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distribuce zpráv z pohledu typu události a typu mé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uvedená problematika zahrnuje i otázky týkající se mechanismů distribuce zpravodajských obsahů, například v krizových situací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J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distribuce informací ve společnosti a její nerovnová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této oblasti patří otázky spojené s tzv. informační chudobou nebo s dnes módním pojm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digital devide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širších smyslu zahrnuje toto téma i problematika distribuce vědění /např. inovací/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S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nastolování témat a forma selektivního výběru udál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především o mechanismy konstrukce tzv. mediální agend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agenda set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oples´ Choice (1948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aul Felix Lazarsfeld, Hazel Gaudetová a Bernard Berelson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výzkum (1940), který se pokusil měřit účinky volební kampaně ve vztahu k potenciálním voličům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ýza mediální  persuaze v reálné situ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 byl postaven na technice opakovaných interview se skupi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00 respond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Erie County v Ohiu. Úkolem bylo odhalit jak masová média ovlivnila postoje v presidentské kampani. V pravidelných měsíčních intervalech byl po sedm měsíců dotazová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anel potenciálních volič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pírující v základní sociodemografických charakteristikách strukturu populace Erie Coun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ný projekt byl designová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z pohledu teorie sílných masových méd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ýsledek šetření byl překvapujíc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/ MODEL DISTRIBUCE INFORMACÍ V ZÁVISLOSTI NA TYPU UDÁLOSTI A TYPU MÉDI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J-KŘIVKA/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vedená problematika zahrnuje i otázky týkající se mechanismů distribuce zpravodajských obsahů, například v krizových situací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dle studií o šíření inovací se v šedesátých letech začíná věnovat pozornost podmínkám, za kterých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i distribuci sdělení dána přednost face to face komunikaci před informacemi z masových médií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ezprostředním impulsem k výzkumu byl atentát na Kennedyho  v roce 1963. Cílem těchto studií byla speciální potřeb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rolovat veřejnou reakci a pokus o to vyhnout se pan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roce 1964 se objevuje první studie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icharda Hilla a Charlese Bonjea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přinesla překvapivé zjiště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atentátu na presidenta v Dallasu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než polovina Američanů dozvěděla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známých či přátel, čtvrtina z televize, šestina z rozhlas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tailnější analýza ukazuje 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šíření informací čtyři hlavní proměnn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sah znalostí o dané kauze, kterými populace dispon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 dané udá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žství přenášených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v níž znalost o dané události pochází prvotně z médií, respektive z osobních kontakt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eenberg rozdělil události ve zpravodajství do tří typů podle to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jaké míře jsou šířeny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de 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i, které ma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ízkou obecnou významnost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jsou vel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é pro malou skupin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akové zprávy nejsou prominentním cílem médií, ale protože informace je důležitá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stou cílovou skupin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sou zprávy selektivně zmiňovány a předávány těm, kteří se k nim nedostali v prvním kole prostřednictvím osobního sdělení.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hlášení vítěze v soutěži mladých houslistů  pořádané při hudebním festivalu Pražské jar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událost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ecně sdíleného význa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hlavní zprávy dne, které dostal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ou podporu ve zpravodajství a jsou sdělovány většině popul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kové události se nepředávají dominantně personálním stykem, i když mohou být poté diskutovány. Jde např. 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ukončení stávky nebo zprávu o plánovaném zvýšení jízdného na dráze nebo velká bankovní loupe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II. Typ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jde o zpráv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trémní důležitosti, vysoké dramatické kvalit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á se zde předpokládat, že budou významné sko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všechny a také dostanou téměř stoprocentní mediální pozor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Greenbergově studii je příkla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entát na Kennedyh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Mohl by to být útok na Twins v NY neb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report z listopadová demonstrace na národní tříd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ýzkum ukazuje, že paradoxně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přes extrémní mediální pozornost stoupá zde význam interpersonální komunikace.</a:t>
            </a:r>
            <a:r>
              <a:rPr b="0" lang="cs-CZ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Extrémní význam zprávy mobilizuje nejen zájem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médi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le i interpersonální komunikac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: J-KŘIVKA (B.S. Greenberg, 1965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zk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jišťoval zdroje informací 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8 různý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ech - o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% do 100% znalosti. Vznik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ologie na základě porovnání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znalo jednotlivé informace z me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je zná, ale zdrojem nebyla masová méd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OLOGIE (viz gra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-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- B, C,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-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ízká obecná známost události - relativně nízký vliv osobního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, C, D/ událost obecného významu - osobní sdělení má nejslabší vli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/ s narůstající dramatičností zprávy progresivně roste význam interpersonálního přenosu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975280"/>
          </a:xfrm>
          <a:prstGeom prst="rect">
            <a:avLst/>
          </a:prstGeom>
          <a:solidFill>
            <a:srgbClr val="000000"/>
          </a:solidFill>
          <a:ln w="381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kazuje se, že když „jde do tuhého“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dia nejsou  nejrychlejším ani nejkredibilnějším tamtam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dé se automaticky vrací k interpersonální komunikaci jako k jakési antropologické konstantě, jistotě, která vytěsňuje umělý svět médi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AD 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TRIBU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AKO TYP DVOUSTUPŃOVÉ KOMUNIKA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zásadě je situace šíření inovací postaven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voustupňovém komunikačním model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Model šíření inovací se soustřeďuje především na finální stádium procesu tj. přivlastnění resp. odmítnutí sdělení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tedy o analýzu sociálního procesu popisující jak jsou nové ideje, praxe či konkrétní objekty šířeny v rámci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verett Roger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práci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Diffusion of Innovation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983) popisuje proces přijetí 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ovace v následujících  pěti krocí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lativní výhod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e daná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pší než stav, který jí předcház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atibili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, ve kterém je inovace vnímána v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uladu s existujícími hodnotami, minulou zkušeností a potřeba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jích potenciálních příjem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lexi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je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ožitá k pochopení a následnému uži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ifikovatel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se dá s inovac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rimentovat na při modifikaci jejích některých fu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ranspare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sledky inovace viditelné pro ostat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ím vyšší hodnota jednotlivých kategorií, tím větší pravděpodobnost přijetí dané inov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amotný proces rozhod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ěluje Rogers do pěti stá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nal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tavení se působení inovace a pochopení jak fung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suaz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postoje vůči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ozhodnu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oces ústící v rozhodnutí zda přijmout či nepřijmout danou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liz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astní využití inov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tvrz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ílení nebo naopak popření daného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 vytvořil typologii potenciálních příjemců inov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ovátoř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ilně motivova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hledači nových ideí, kteří mají kosmopolitnější vztahy než osta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osvojitel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ova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ruzí, čas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ůrci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e kterým se informace stává brzo protože mají velké množství komunikačních a vztahových sí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aná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atr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jdříve se obracejí na své blízk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i tvůrce mí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zdní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keptičtí, často si přivlastňují inova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základě okolního tlaku např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 pracovní či ekonomické nevyhnutel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dil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adiční, často lidé v izolaci, obrácení do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53%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lenů panelu /obyvatel v Erie County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íl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vé dlouhodoběji držené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olební preference,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%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řešl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příklonu k jedné politické straně /kandidátovi/ k posto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nejsem rozhodnu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„nejsem rozhodnut“ k nějaké politické stra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kázaný vliv masových médií na uskutečnění čisté postojové konverze byl velmi nízk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ze 5%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ond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 průběhu prezidentské kampaně svůj postoj, s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líčovým zjištěním ale bylo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kontakt je mnohem častější a efektivnější než kontakt s médii, a to z pohledu jejich volebního chová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potvrdili, ž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raznější vliv na jejich rozhodování o tom koho volit měly vlastní politické diskuse se známými a blízk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liv tisku a rozhlasu byl v tomto smyslu sekundár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ova S křivka (1983, 1995) „Distribuce inovací“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ANDARDNÍ PRÚBĚH PENETRA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LASTNICTVÍ ČERNOBÍLÉHO/BAREVNÉHO TV USA1946-19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324000" y="549360"/>
          <a:ext cx="94680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549360"/>
                    <a:ext cx="9468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X.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YPOTÉZA VĚDOMOSTNÍ PROPAST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Knowledge gap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96720" y="47628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O-STEP-FLOW MODEL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Model dvoustupňové komunikace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2/ hypotéza o existenci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INION LEADERS“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 komunikační model, který předpokládá, že informace jdou nejdřív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ŮM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od nich k ostatním tzv. souběžcům (follower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odhalil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vztahy (KOMUNIKACE) byly mnohem vlivnější, a to především pro ty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i svůj postoj v průběhu kampaně či učinili své rozhodnutí až v závě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to zjištění bylo překvapující protože celý výzkum byl koncipován na základě - TEORI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omizovaného masového publika a nepředpokládal tedy vůbec roli další zprostředkující oso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édia nepůsobí v sociálním vakuu, ale vstupují do velmi komplexní sítě sociálních vztahů a soupeří s dalšími zdroj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dybychom užili jiné terminologie - dvoustupňový komunikační model popis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pecifický typ  selektivní expoz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vedená zjištění změnila východiska následujících výzkumů v tom smysl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spondenti-publikum musí být vždy zkoumáni v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ntextu skupiny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či skupin k nimž náleží nebo které mají na mysli. To znamená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ěch které je mohou ovlivňovat při formulaci mínění postojů či rozhodnutí. Došlo k znovuobjevení role malé skupi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ladní zjištění z této studie lze shrnout do následujících bod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individua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ou sociálně izolovanými atomy,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le členy sociálních skupin v nichž dynamicky interagu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kce na mediální sdělení není přímá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zprostředkovaná a ovlivněná sociálními vztahy individ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individua v rámci komunikačního procesu nejsou rovná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le zastávají různé role, které lze rozdělit na aktivní individua, která informace vyhledávají a pasivní, která jsou závislá na sděleních aktivní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vůrci mínění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sou charakterizován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šší konzumací médií, častěji se vystavují jejich působ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jsou společenštějš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mají vyšší vědomím vlastního vlivu na druhé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disponují připsanou rolí zdroje a průvodce v rámci da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vyskytují se v každé statusové skupině a sdílejí některé charakteristiky s ovlivňovaný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i nejvýznamnější výzkumy v dané oblast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rto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1949)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atterns of Influence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personální vliv komunikace v Rovere Rover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át New Jerse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- 86 respondent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žádáno, aby uvedl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ména těch, na které se obracejí o radu v nejrůznějších záležitostech. Ti kteří  byli zmíněni alespoň 4x byli  speciálně dotazováni. Rozlišují dva typ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Cosmopolitan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ocal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Berelson, Lazarsfeld a McPhe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Voting: A Study of Opinion Formation in a Presidential Campa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volební kampaně (1948) v městečku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mira (stát New York)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e se navíc ukázalo, ž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ové konverzi docházelo méně u těch, kteří byli vystavování intenzivnější mu působení a měli tendenci více trvat na své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3/ Katz, E., Mantzel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„Social Relations and Innovation in Medical Profession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zaměřený na mechanismus akceptaci  nového léku mezi lékaři.I zd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lný vliv interpersonální komunik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atzův a Lazarsfeldův výzku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ecatur“ (Illinois)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hodování v takových situacích jako je nakupování, móda, návštěva kina, veřejné záležit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.Katz a P. Lazarsfeld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AL INFLUEN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1955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éma: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liv tzv. tvůrců mínění v každodenním životě 800 žen z Decaturu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teoretické části práce se již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oří o nutnosti, aby  klasický model persuaze  počítal s rolí individua jako intervenujícího faktoru mezi stimulem média a výsledným míněním, rozhodnutím a jedn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8:02:27Z</dcterms:created>
  <dc:creator>JV</dc:creator>
  <dc:description/>
  <dc:language>en-US</dc:language>
  <cp:lastModifiedBy>JV</cp:lastModifiedBy>
  <dcterms:modified xsi:type="dcterms:W3CDTF">2010-11-18T09:07:55Z</dcterms:modified>
  <cp:revision>5</cp:revision>
  <dc:subject/>
  <dc:title>VII. PÚSOBENÍ MASOVÝCH MÉDIÍ A ROLE INTERPERSONÁLNÍ KOMUNIKACE</dc:title>
</cp:coreProperties>
</file>