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DBD-ACCF-465D-B200-63DBB39A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944-2C85-4583-A4DA-5429F8DC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1D9-747C-4049-B353-FB97CAD2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690-A966-41FE-8E6C-D45E3FE1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D66E-1B41-4D86-92C7-58B3621A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2512-5767-43A8-9D49-9E3E2259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CF87-010F-4B4B-A1BF-E8ACA374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3F90-A3E2-4D63-B201-5F990195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081C-2EE6-4C11-8578-28833466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8966-7066-48BB-B327-CF9B4D29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1763-9D31-46D5-A532-21ABD217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455-74DE-4359-A1A6-BB3D55C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5005-ED51-4C72-AE8A-891B43A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6324-5FAB-479E-9E6F-B6B8BFAA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341D-B338-4584-B949-C924120E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EB2D-7613-41B8-9BEA-0F36E679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84E6-B4C2-43C2-A347-0AFF8E46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3B7-81EC-4AA8-98CB-6DACF0A9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541-6E09-460C-B928-AD719667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895-FD17-41AD-BC68-168CC352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91A-95BE-418D-A4AF-44521C8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8DB-1F4F-4843-A51F-B2A0B62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C2D-3813-473F-BE36-28FA3146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DDC-2954-47A3-B3DD-83081F9C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89FB-B966-4E9F-8194-CF17D81F7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28F8-4220-4042-8B51-16BC9E04D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GRESE A NÁSILÍ V MÉDIÍCH</a:t>
            </a:r>
            <a:br>
              <a:rPr sz="3600"/>
            </a:br>
            <a:r>
              <a:rPr b="1" lang="en-US" sz="3600" spc="-1" strike="noStrike">
                <a:solidFill>
                  <a:srgbClr val="1cee0c"/>
                </a:solidFill>
                <a:latin typeface="Times New Roman"/>
              </a:rPr>
              <a:t>Vybrané teorie a výzkumy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Dr. Jaromír Volek, Ph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ulta sociálních stu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rykova univerzita B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 JE TO „TELEVIZNÍ NÁSILÍ“ (násilí na televizní obrazovce)?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šedesátých letech např. americk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rodní asociace pro vzdělávací poř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tvořila poměrně širokou definici televizního násilí,  kter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j cháp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jak ve fyzickém smyslu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- tedy jako zranění či zabití způsobené živému tvoru,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ak i jako způsobení psychického traumatu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definice přidávají ješte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verbální násil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áhodné násil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autonehod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které definice rozlišu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ex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 se násilí odehráv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ith uvád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35 subkategorií prezentace násil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lišuje například mezi tzv.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čistým a špinavým násil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Nejdiskutovanější definice - Gerbner a Gross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solidFill>
            <a:srgbClr val="660033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25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jevné uplatnění fyzické síly vůči sobě nebo druhým. Nemilosrdné uplatnění vlastní vůle vůči druhému za cenu jeho zranění nebo zabi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72000"/>
            <a:ext cx="8207280" cy="1283040"/>
          </a:xfrm>
          <a:prstGeom prst="rect">
            <a:avLst/>
          </a:prstGeom>
          <a:solidFill>
            <a:srgbClr val="feec94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Tato Gerbnerova definice ovšem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ezahrnuje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a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zpravodajské a dokumentární pořady ani  sport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b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ásilí verbál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03000"/>
            <a:ext cx="8280360" cy="91692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1/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vliv televizního násilí na konstrukci světa není dán výlučně množstvím hodin sledování, ale i programovou specifikou, tedy tím jak je dané téma informačně relevantní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384080"/>
            <a:ext cx="8280360" cy="64260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2/ nezáleží jen na tom, co je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 sledováno z pohledu obsahu, ale na tom, jak diváci  interpretují daný obsah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(např. pokud nejsou vnímány jako pravdivé reflexe situace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176080"/>
            <a:ext cx="8280360" cy="36828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3/ celou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percepci násilných obsahů musíme chápat jako situačně podmíněnou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33440"/>
            <a:ext cx="8280360" cy="642600"/>
          </a:xfrm>
          <a:prstGeom prst="rect">
            <a:avLst/>
          </a:prstGeom>
          <a:solidFill>
            <a:srgbClr val="5a0211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ÁSILÍ SE ALE UČÍME BEZ OHLEDU NA SITUACI, KDE SE ODEHRÁVÁ I BEZ OHLEDU NA FORMÁ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VIOLENCE INDEX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1d010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VI (violence index)= %P+2RP+2RH+%C+%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 P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= procentní zastoupení pořadů s prvky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v daném pořa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za hodinu vysl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C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násilných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c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zabí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ariuje od 115-185 (160)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KVANTITATIVNÍ OBRAZ KONZUMACE NÁSILNÝCH TV OBSAHÚ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50. letech bylo v prime time věnováno násilí 16% vysílacího čas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90. letech  tento podíl stoupl n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USA v hlavních televizních sítích ročně 10.000 vražd a 60.000 pokusů o vraž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é americké dítě vi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svých  12 l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101 tisíc násilných scé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včetně 13 400 násilných úmr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0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r>
              <a:rPr b="1" lang="cs-CZ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EORIE KATAR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pokládá, že akumulované agresivní impulsy, které v sobě individuum nese mohou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bít pokud je individuum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realizuje imaginativně v násilí a agresivitě zobrazené v TV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žívání násilných činů pozorovaných u fiktivních, simulovaných situací, vede k oslabení tenze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odhodlání diváka projevit vlastní agresivní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postoj vychází z teorií agresivního pudu (např. psychoanalýz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potvrzení této teorie hovoří především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eshbachovy výzkum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padesátých a šedesátých let, kde dokazu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dividua mohou kanalizovat vlastní agresivitu prostřednictvím fantazií produkovaného násilí nebo prostřednictvím sledování fiktivního násilí na televizní obrazov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Obecně je dnes teorie katarze přijímána velmi málo.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INHIBI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ování násilného chování může vyvol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ch z agrese, který s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íží odhodlání k vlastnímu agresivnímu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vláště realistické zobrazení agresivního aktu a jeho důsledků vyvol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uze silný str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EÚČINNOS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ato teorie vychází z předpokladu, že mediálně distribuované násilí není pro genezi skutečného násilí významné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t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zi hovoří následující argum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o přirozenosti násilného chování panují ve společnost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asně uspořádané normativní představ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předvedené násilí má pouze schopnost způsobit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átkodobé emoční vzruš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násilné akty v televizi nejsou recipienty chápány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nímány jako násilí, nýbrž jako zábavné fik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např. McGuir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 NABUZENÍ, SPUŠTĚ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arousal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toho, že sledování násilných pořadů více méně přím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cituje jedince a spouští u něj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cionální nabuzení je zde chápáno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specifická fyziologická reakc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vuje s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srdeční frekvence, zrychlené dýchání, zvýšené pocení, svalová tenze, zvýšená mozková čin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této hypotézy vede sledování násilného obsahu k následnému nabuzení  resp. k rostoucí agresivitě. Je zde ovšem předpoklad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ot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abuzení se velmi rychle rozplyne tedy, že zbývá velmi krátký čas mezi původním emocionálním nabuzením a možností reagovat agresivn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defacto o protiklad katarzní teze: sledováním násilných obsahů stoupá odhodlanost k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Berkowit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6669360"/>
          </a:xfrm>
          <a:prstGeom prst="rect">
            <a:avLst/>
          </a:prstGeom>
          <a:solidFill>
            <a:srgbClr val="1d010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T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Feshbach, 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: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iv násilí ve zpravodajství a publicist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a3253"/>
                </a:solidFill>
                <a:uFillTx/>
                <a:latin typeface="Times New Roman"/>
              </a:rPr>
              <a:t>HYPOTÉZA:</a:t>
            </a:r>
            <a:r>
              <a:rPr b="0" i="1" lang="cs-CZ" sz="28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televizní násilí percipované jako reálné spouští s mnohem vyšší pravděpodobností  vlastní agresivitu než násilí vnímané jako fikce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ma skupinám studentů byl promítnut televizní záznam z násilného střetu mezi policisty a stude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a/ v prvním případě byl záznam prezentován jako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eportáž - tedy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reálná událos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v druhém případě jako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fiktivní drama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ee0c"/>
                </a:solidFill>
                <a:latin typeface="Times New Roman"/>
              </a:rPr>
              <a:t>Prokázala se zřetelně 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výraznější tendence k agresivní reakci u skupiny, která viděla klip jako 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eálnou událost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UTLUME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této hypotéz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ásilí v televizi legitimuje jeho použití v reálném životě tím, že de facto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zpochybňuje/utlumuj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sociální sankce, normy, strach z trestu které normálně inhibují násilné chování.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normálních podmínek tak máme malou motivaci chovat se násilně. V případě, kdy se tyto zábrany zpochybní máme pak tendenc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ovat naučené agresivní ch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tlumení naučených zábran tak zároveň posiluje naučenou agres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sílení agrese se tak může odehrát ve chvíli, kdy je agresivní násilné jednán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měněn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 výzkum potvrdil, že se s vysokou pravděpodobností chováme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 shlédnutí násilných obsahů agresivněji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o platí především pro případy, kdy individuum bylo již v podrážděném stavu před sledováním násilného obs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ada studií potvrz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pouštěcí účinky televizního násilí, speciálně pornografických pořadů, na postoje vůči ženám, bez ohledu na situační kon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obsahových analýz, které provedl Larsen vyplývá, ž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ětšina násilí zobrazovaného v televizi je právě v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formě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osilujícího násil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roveň se ukazuje, že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sociálně desaprobované způsoby chování, včetně násilí, jsou častěji zobrazovány jako úspěšnější než sociálně aprobované formy ch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1d0106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0" lang="cs-CZ" sz="2000" spc="-1" strike="noStrike">
                <a:solidFill>
                  <a:srgbClr val="fa3253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Berkowitz, 196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CÍL STUDIE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Otestovat zda televize plní zástupnou funkci při posílení vlastní agresivit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 Experimentoval s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věma modely agre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a/ pomst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b/ sebeob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udenti shlédli dvě verze boxerského zápas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V první byl jeden z boxerů drtivě poražen a studenti se dozvěděli, že poražený je osobnostně problematický člověk, který vítěznému boxerovi rozvrátil rodinu -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forma pomsty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V druhé verzi byl poražený boxer představen jako bývalý šampión, který se dostal do obtížné osobní situace a pokouší se opět dostat na vrchol, ale prohrává - tedy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orma sebe obrany.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shlédnutí filmu obě skupiny mohly realizovat vlastní agresivitu formou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udělení elektrošoků fiktivní os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znamně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více agresivní byli studenti, kteří shlédli film, který v podtextu de facto legitimizoval pomstu</a:t>
            </a:r>
            <a:r>
              <a:rPr b="0" lang="cs-CZ" sz="24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a zároveň sebou nesl odměnu vítězstv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typický model o nespravedlivém osudu šlechetného  hrdi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Televizní násilí, které je vnímáno jako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ospravedlnitelné posiluje agresivitu konzumentů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Naopak agresivita, která není legitimována odkazem na nespravedlnost je slabš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eec94"/>
                </a:solidFill>
                <a:latin typeface="Times New Roman"/>
              </a:rPr>
              <a:t>NÁSILÍ A AGRESIVITA V MÉDIĆH: PRVNÍ VÝZKU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20. léta min. 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 USA,  kdy se filmový průmysl stává prioritním zdrojem masové zábav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ou výzkumnou otázkou bylo -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zda film eroduje morální standardy a má vliv na lidské chování.</a:t>
            </a: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ují se zde první závěry o tom, že filmová produkce výrazně ovlivňuje mladistvé a působí přímo na rozvoj jejich delikventní, kriminální kariéry (Blumer, Hauser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1954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áce Franka Werthama „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he Seduction of Innocent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aměřená 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ik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 upozorňoval na to,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že svádějí mladistvé k delikventnímu jednání, prezentují deformovaný obraz světa a že jejich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ýraznou obsahovou komponentou je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násilí, erotika a zlo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iž v této době se objevuje obava, že komiksy (ikonické komunikáty)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způsobují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oblémy se  čtení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ova kniha ve své době  na čas skutečně snížila čtenost tohoto žánr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vní televizní analýzy násilí se zabývající se de facto stejnými obava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zde však výrazný rozdíl v tom, že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porce televizního násilí je zřetelně  větší a nárůst je zde stále patrn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1cee0c"/>
                </a:solidFill>
                <a:uFillTx/>
                <a:latin typeface="Times New Roman"/>
              </a:rPr>
              <a:t>TEORIE UČENÍ</a:t>
            </a:r>
            <a:r>
              <a:rPr b="1" lang="cs-CZ" sz="32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Imitace-nápodob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hypotéza předpokládá, že diváci a zvláště mladí mají tendenc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čit se jednání postav vystupujících v násilných pořade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takové jednání kopírovat. Zde hraje důležitou roli proces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dentifikace s hrdin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ndura potvrdil v řadě výzkumů tento vztah platí, jak pro  nápodobu reálného násilí, tak i filmového televizního i v případě karikatur. Experiment (Bobo Doll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ěti napodobovaly zacházení s hračkou předtím exponované v televiz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 Bobo Doll (Bandura, 19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ěti se učí asociálnímu chování z televize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věma skupinám dětí promítnuty dvě verze filmu. V bylo užito velmi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agresivní chování titulní postavy filmu k plastikové panence jménem Bobo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V druhé agresivní motivy chování chyběl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 projekci si šli děti z obou skupin hrát do místnosti, kde bylo množství hraček včetně panenky Bob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pozorování této hry pak Bandura zaznamenal jednoznačně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vyšší stupeň imitovaného agresivního chování vůči panence u skupiny, která shlédla film s agresivním obsa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dalším výzkumu (1982) prokázal Bandura, že děti, které sledují v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televizi násilí, které je odměněno, mají tendenci k vyšší míře jeho nápodoby - k imitativní agres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tímco násilí, které se nevyplatil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(potrestané násilí)  bylo významně méně napodobová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TEORIE OSPRAVEDLŇOVÁNÍ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(racionalizace)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násilí či diskuse o něm může vést 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spravedlňování vlastních násilných čin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ex ante nebo ex post facto). Agresora (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očince) může vést ke konzumaci násilných programů, potřeb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hápat vlastní chování jako normální nebo si vytvořit iluzi, že je jako populární tv hrdina; tj. potřeba racionalizace chování neslučitelného s původním sebeobrazem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řed činem uvolní prostor chování, po činu se uchrání před pocity viny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 přenesení odpovědnosti na vnějšího činitel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extrapunitivi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- Chafee a McLeod (1987) prokázali, že děti, jejichž rodiče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ankcionovali formy násilí se vystavovali televiznímu násilí mé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5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ZNECITLIVĚNÍ-DESENZITIV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habitualiza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předpokládá, že opakované sledování následných scén vede k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nížení emocionální citlivosti na násilí a následně i k znecitlivění k násilí v reálném život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kázáno, že pokud sledujem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silí páchané na druhém pak v běžné situaci pociťujeme nelib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a studií se shoduje na tom, že příslušníci naší kultury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přijímají agresi jako něco příjemného, a to jak agresi pozorovanou tak i agresi vlast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obou případech pociťujeme silné úzkostné stav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ou otázkou této výzkumné cesty je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a opakované sledování úzkost provokujících aktivit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může omezit původní úzkost s těmito aktivitami spojovanou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ukazují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ěti - silní konzumenti (přes 25 hodin týdně) byly mnohem, méně citliví k televiznímu násilí ve smyslu fyziologických reakc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míry fyziologického nabuzení než slabí konzumenti (do 4 hodin týdně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(Drabman, Thomas,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Děti, které běžně sledují více násilí na televizní obrazovce budou vykazovat při jeho sledování nízkou nebo žádnou psycho-fyziologickou reak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vě skupiny dětí sledující rvačku mezi dvou spolužáků z nichž jeden byl poraněn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Skupina těch, kteří konzumovali větší porci násilí významně méně často tendovala k tomu zavolat pomoc dospělé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- Při promítnutí některých scén ze Stoneovy Čety byly zaznamenány významné  rozdíly v pulzu, tlaku, srdeční frekvenci, kožním elektrickém potenciálu u skupina slabých konzumentů na rozdíl od silný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yšší vzrušení vykazovali slabí konzumenti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400"/>
            </a:b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260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ýsledky studií v reálném prostředí naznačuj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že 1 - 4% pozdějšího agresivního chování l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ysvětlit předcházející konzumací televizní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ási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1d0106"/>
          </a:solidFill>
          <a:ln w="9360">
            <a:solidFill>
              <a:srgbClr val="1cee0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tivá většina české populace (92%) se domnívá, že sledování násilných a pornografických pořadů může narušit zdravý duševní vývoj dítě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916280"/>
          <a:ext cx="91440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y podle očekávání deklaruj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íce ženy než muži (53% v. 47%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esvědčení o škodlivosti tohoto typu televizního vysílán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ste s věk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96%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ů starších šedesáti let je přesvědčeno, že tyto pořady znamenají ohrožení pro dětskou psychiku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y sdílejí nejvíc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dé vzdělanějš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ezi  středoškoláky a vysokoškoláky je 90% přesvědčeno o nebezpečnosti těchto televizního zobrazování uvedených obsahů pro dětskou a mládež.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pohledu jednotlivých regionů vidí v násilných a pornografických pořadech největší nebezpečí  občané žijící n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žní Morav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íce než dvě třetiny respondentů (87%) se domnívá, že je nezbytně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né omezit televizní prezentaci těchto mediálních obsah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844640"/>
          <a:ext cx="8424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JAK  ŠÍŘENÍ NÁSILNÝCH POŘADŮ OMEZOVAT?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vrd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z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padoevropský trend zdůrazňující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/ potřebu  mí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statek informací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daných pořade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/ zároveň též </a:t>
            </a:r>
            <a:r>
              <a:rPr b="1" lang="en-US" sz="2400" spc="-1" strike="noStrike" u="sng">
                <a:solidFill>
                  <a:srgbClr val="1cee0c"/>
                </a:solidFill>
                <a:uFillTx/>
                <a:latin typeface="Times New Roman"/>
              </a:rPr>
              <a:t>důraz na  svobodu  volby a zodpovědnos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 vlastní výběr programů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565360"/>
          <a:ext cx="80643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80643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VÝZKU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Evropě byl pak první výzkum uskutečněn v roce 1958 ve Velké Británii. Hilda Himmelweitová, Oppenheim a Vince -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elevision and the Child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zkum pak výrazně akceleroval v USA v souvislosti se vzrůstající kriminalitou ve vnitřních městech, studentskými nepokoji. Nejsilněji zapůsobily obavy americké společnosti po  atentátech na J.F. Kenedyho, M.L. Kinga a R. Kenedyh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roce 1968 zakládá Lyndon Johnson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National  Commision on the Causes and Prevention of Violence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Následovalo zřízení iž speciální komise soustřeďující se na účinky televizního násilí -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he Surgeon General Scientific Advisory Committee on Television and Social Behaviour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sledkem celého projektu je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pětisvazková závěrečná práce,  jejíž závěry lze shrnout následovně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elevizní obsahy jsou silně saturovány násilným obsah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2/ děti i dospělí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ráví stále více času při sledování těchto televizních obsahů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3/ je zde základní shoda na tom, že </a:t>
            </a:r>
            <a:r>
              <a:rPr b="1" lang="cs-CZ" sz="2200" spc="-1" strike="noStrike">
                <a:solidFill>
                  <a:srgbClr val="1cee0c"/>
                </a:solidFill>
                <a:latin typeface="Times New Roman"/>
              </a:rPr>
              <a:t>televizní násilí skutečně zvyšuje pravděpodobnost agresivního chování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Ze zhruba  5500 základních studií provedených na toto téma se okolo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sedmdesáti procent shoduje na tom, že vliv televizí prezentovaného násilí působí negativně na dětskou psychiku.</a:t>
            </a:r>
            <a:r>
              <a:rPr b="0" lang="cs-CZ" sz="22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ul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ektive omezení násilných programů vyžadují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íce ženy než muž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56% v. 44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čnost obecně  roste s věkem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lativ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méně by omezovali násilí na obrazovce občané ve věku 18 - 24 let  (71%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 Naopak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by regulovali občané starší šedesáti let (96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jsou nakloněni  omezení tohoto typu programů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ihomoravané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94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CO JE TO PODLE ČESKÝCH DIVÁKŮ NEJMÉNĚ PŔIJATELNÉ NA TV OBRAZOVCE?</a:t>
            </a: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1512720"/>
          </a:xfrm>
          <a:prstGeom prst="rect">
            <a:avLst/>
          </a:prstGeom>
          <a:solidFill>
            <a:srgbClr val="feec94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Obecně nejvíce vadí: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vulgární vyjadřování (76%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2/ násilné scény (71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a s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výrazným odstupem 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pornofgraficé scény (40%).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708280"/>
          <a:ext cx="8136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08280"/>
                    <a:ext cx="8136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kce připisované násilí prezentovanému na televizní obrazovce z pohledu jejich vlivu na děti mladší 1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907920"/>
          <a:ext cx="7920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0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škodlivosti televizního násilí  podle žánrového zařazení pořad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052640"/>
          <a:ext cx="83516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3516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ZÁKLADNÍ POJMY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AGRESE</a:t>
            </a:r>
            <a:br>
              <a:rPr sz="24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konstruktivní agres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„nepravá agre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stavuje násilné chování, zahrnující především prvky loveckého a agonistického chování -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nezahrnuj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tedy podstatnou podmínk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pravé agrese“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- cíl zranit nebo ublížit.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struktivní, nepravá agrese vystihuje právě t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ruh násilného jednání, který máme do jisté míry se zvířaty společný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ilné jednání, které řadíme do této kategorie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e fyziologicky podmíněnou reakcí na aktuální reálný podně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zde diferencovat dva druh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otivem je fyziologická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hlad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motivem je určitá sociální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sp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ryzí - destruktivní agres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opakem agrese konstruktivní.  Mohli bychom ji jednoduše definovat jako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„nepřirozené“ útočné a násilné chování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gresivní chování v tomto případě není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„biologicky účinné“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evzniká na základě reálného ohrožení 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bývá doprovázeno přirozenými změnami vnitřního prostředí jedi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yzí destruktivní agrese je jevem častým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u lidského druhu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u zvířat se vyskytuje jen zříd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a to buď u zvířat „psychicky“ narušených, nebo v situacích, které jsou zcela nepřirozené a obecně ohrožují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ŘÍČINY SPECIFICKY LIDSKÉHO FENOMÉNU DESTRUKTIVNÍ AGRESE?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A/ Člověk nemá </a:t>
            </a:r>
            <a:r>
              <a:rPr b="1" i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vrozenou</a:t>
            </a: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 zábranu proti zabíjení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ím dokonalejší zbraně zvíře má, tím efektivnější jsou zábrany, které znemožňují těchto zbraní použí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 Navíc při vnitrodruhovém boji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epoužívají zvířata těch zbraní, kterými se brání proti svým nepřátelům, nebo které používají při lovu kořisti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tvrdí, že „vrozená agresivita /v našem pojetí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onstruktivní, nepravá agres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nemá u </a:t>
            </a:r>
            <a:r>
              <a:rPr b="0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člověka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 protipól v zábraně vůči zabíjení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neboť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člověk původně nebyl vybaven přirozenými zbraněmi, jimiž mohl zraňova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tedy chrupem, drápy a pod.)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nepotřeboval tedy ani vrozenou zábranu vůči zabíjení jako alternativní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B/ Volné sepětí pudu s objektem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Zvířecí „agresivní“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e regulováno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rozenými spouštěcími mechanismy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však lidské pudy se od tohoto modelu zásadně odlišují.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 lidí existuje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volné sepětí pudu s objekte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de o zdroj specificky lidské formy ryzí destruktivní agres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používal výraz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FULGURACE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která jako evoluční skok přinesla s sebou schop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symbolizace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 současně mož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destrukce ve službách grandiózních fantazií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“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lověk díky schopnosti </a:t>
            </a:r>
            <a:r>
              <a:rPr b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symbolizace může volně propojovat pudové potřeby s objektem uspokoje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tak přenáší své „přirozené“ agresivní sklony na jakýkoli objek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YPOLOGIE AGRESIVNÍCH PROJEVÚ PODLE SMĚRU A MOTIVU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0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rachiální x verbální agre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/přímá x nepřímá agrese,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c/ hostilní x obranná x užitková agre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d/ osobnostní x sexuální x sociální x psychicky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e/ heteroagrese x autoagrese x destrukce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lang="en-US" sz="2000" spc="-1" strike="noStrike" u="sng">
                <a:solidFill>
                  <a:srgbClr val="feec94"/>
                </a:solidFill>
                <a:uFillTx/>
                <a:latin typeface="Times New Roman"/>
              </a:rPr>
              <a:t>FORMA A SMĚR AGRESE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Brachiální (fyzická)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zaujetí bojového postoje, namíření zbra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napadení druhého (beze zbraně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napadení druhé osoby, působení krvavých zran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usmrcení osoby (rychlé, nekrvav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brutální, krvavé vražd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erbální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ironie, sarkasmus, nadávky  v nepřítomnosti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ironie, sarkasmus, nadávky vůči přítom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vyhrožování, zastrašování vůči nepřítomnému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vyhrožování, zastrašování a verbální napadení přítom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Autoagrese (násilí vědomě páchané na sobě samé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verbální snižování sebe s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fyzické, nekrvavé ubližování sobě samé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fyzické krvavé ubližo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sebevražda „jemnou“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sebevražda brutální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MOTIV AGRESE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sobnostn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tivace násilného činu plyne z osobnostních charakteristik agre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sexuál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gresivní jednání je prostředkem k dosažení sexuálního objektu nebo sexuálního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teritoriáln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směřováno na obranu nebo získání prostoru, ú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Ideov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ásilí vychází z různosti názorů a postojů k politickým, rasovým a jiným světonázorovým otázk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branně motivovaná agr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motivováno obranným postojem, na obranu sebe či jiné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ÍRA NÁSILNÉHO AKTU PODLE INTENZITY AGRESE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ironie, sarkasmus; zaujetí bojov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přímé verbální napadení (urážení, oso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fyzický kontakt proti vůli objektu zájmu (např. vytlač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napadení jiné osoby beze zbraně nebo nekrvavě (facka, rána pěstí apo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/ ozbrojené napa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/ způsobení krvavých zranění, brutalita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/ znásilnění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/ brutální likvidace doprovázená nefunkční destrukcí objek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43:51Z</dcterms:created>
  <dc:creator>volek</dc:creator>
  <dc:description/>
  <dc:language>en-US</dc:language>
  <cp:lastModifiedBy>JV</cp:lastModifiedBy>
  <dcterms:modified xsi:type="dcterms:W3CDTF">2009-12-17T09:33:39Z</dcterms:modified>
  <cp:revision>6</cp:revision>
  <dc:subject/>
  <dc:title>AGRESE A NÁSILÍ V MÉDIÍCH Vybrané teorie a výzkumy </dc:title>
</cp:coreProperties>
</file>