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125C-CF62-439A-B24C-A04F5C480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8CFC-4508-4B68-AF2A-4ACFC102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D515-BE9F-45E2-8A86-8997A8FF3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BD3A-E555-4F97-9B0A-A02EC4C14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CC27-2119-4120-A870-EFEC2E24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9EFD-766B-4818-80A1-FB127CCD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76DF-0F7B-47A5-8234-DB190EF3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AEDC-549D-4AB7-A887-D3BE68DC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1D7A-A459-4CEF-9FAF-66749C24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DB9A-A254-4647-B7A5-022E121B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2512-CC57-4BC4-8FC8-63A1DB4A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F45D-F1E6-4761-AD77-E682D9E4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524A-B8DD-41A1-9017-C2C90A57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1980-46C7-45B5-946D-26153A5B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5DF4-ABB9-4CB3-B777-BF80196D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4715-8037-4F30-A386-DD73D971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A22E-AFF8-444C-9BA0-B15A34F6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4F7A-B0AA-4E6C-BB98-7DC2A142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B3B1-8C01-40A8-96FA-31F2FF3A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467C-A702-46B4-9AB2-0F49D557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985C-F9AB-41F2-8FF2-318CB4F7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FE5D-A242-41AB-AD66-84D50CAF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FCC8-29C8-409E-8AB0-E6D0798A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DA90-F7F9-4005-A418-6362955E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5BCD-FF96-48FD-AEE0-EAC87E75D9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99B7-FAF1-4F25-94B4-FE2FC28A7E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XI. MÉDIA JAKO NÁSTROJ SOCIALIZACE</a:t>
            </a:r>
            <a:br>
              <a:rPr sz="2800"/>
            </a:b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TEORIE MEDIÁLNÍ KULTIVACE 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Cultivation Analysis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atří do etapy „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eorie silných mediálních účinků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de o nejrozsáhlejš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ojekt mapující všeprostupující a permanentně přítomné vzorce televizní reprezentace, respektiv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působy jakými televize „kultivuje“ své publiku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centru zájmu jsou tzv.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louhodobé účinky, respektive výsledky kumulativní expozice televizním obsahům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nto absorpční proces nelze chápat jako formu intencionálního přesvědč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1/ Vliv televize na konzumenty není lineární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eříká nám co máme děla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 jistém smyslu je zde paralela s teorií mediální agendy)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2/ Nejde o spiknutí mocných, kteří se rozhodli jednoduše manipulovat masu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 Mechanismus mediální kultivace ve svém důsledku představuje mnohem hlubinnější proces, který s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dehrává mimo naši volní kontrolu a je výsledkem fungování řady kulturních, technologických a ekonomických faktorů,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které formují tz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DIÁLNÍ LOGIK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j. určité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vyhnutelné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utinami, produkčními a technologickými podmínkami determinované chování médi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íčová otázka, která se v případě kultivace vnucuje z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C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 bylo dříve“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NÍ OBSAHY“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b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PRE-TELEVIZNÍ ZKUŠENOST?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le Gerbnera je tato otázka nesprávná, irelevantn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Lidé se podle něh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dí do symbolického prostředí,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e kterém se odehrává velká část našich mentálních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jež jsou výrazně ovlivňovány televizním mainstreamem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Děti se začínají dívat na televizi několik let před tím, než začínají číst, a často dříve než začínají mluvit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V programy pro děti 1-3.)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erbner ovše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dmítá prosté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totožnění kultivace s mechanismem posíle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ak jej známe od Klapper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de 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gravitační proces, při kterém jsou zasaženy de facto všechny skupiny a jejich  životní styl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Proto je televize hlavní kulturní zbraní stabilní společnost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NÍ KULTIVACE není  jen jiné slovo pro účinek. Není to jednocestný monolitický proces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 KULTIVAC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dpokládá oboustrannou interakci publika a médií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to podle Gerbnera žádný z dosavadních postupů soustřeďujících se na analýzu existence či neexistence účinků není schopen zachytit každodenní kultivační proces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 vliv na symbolickou strukturu sociálního  prostředí  je propojen s dalšími vlivy. Proto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nelze říci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že by mediální kultivace jen jednoduše vytvářela obrazy, míně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íše je jen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integrálním aspektem celého dynamického procesu v rámci, kteréh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nstituce produkují potřeby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odnoty a různé ideologické koncepty, které de facto veřejnost vyžaduj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NÍ KULTIVACE NENÍ MECHANISMUS JAK OVLIVNIT PŘÍMO POLITICKÉ A NÁKUPNÍ CHOVÁ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Kultivační proces charakterizuj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feec94"/>
                </a:solidFill>
                <a:latin typeface="Times New Roman"/>
              </a:rPr>
              <a:t>/permanentího opakování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stabilních, repetitivních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televizních vzorců, kterým se dá těžko uniknout,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jelikož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2/ televize poskytuje systém sdělení, která sice nejsou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stejná, ale jsou </a:t>
            </a:r>
            <a:r>
              <a:rPr b="0" lang="cs-CZ" sz="3000" spc="-1" strike="noStrike">
                <a:solidFill>
                  <a:srgbClr val="feec94"/>
                </a:solidFill>
                <a:latin typeface="Times New Roman"/>
              </a:rPr>
              <a:t>komplementární a vytvářejí koherentní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eec94"/>
                </a:solidFill>
                <a:latin typeface="Times New Roman"/>
              </a:rPr>
              <a:t>systém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(systém bez mezer)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3/ V relativně stabilní společnosti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způsobuje kultivační proces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000" spc="-1" strike="noStrike" u="sng">
                <a:solidFill>
                  <a:srgbClr val="feec94"/>
                </a:solidFill>
                <a:uFillTx/>
                <a:latin typeface="Times New Roman"/>
              </a:rPr>
              <a:t>rezistenci vůči změně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4/ Neprokázané silné účinky jsou </a:t>
            </a:r>
            <a:r>
              <a:rPr b="1" lang="cs-CZ" sz="3000" spc="-1" strike="noStrike">
                <a:solidFill>
                  <a:srgbClr val="feec94"/>
                </a:solidFill>
                <a:latin typeface="Times New Roman"/>
              </a:rPr>
              <a:t>nepřímým důkazem kultivačního působení televiz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5/ Kultivace je výsledkem tlaku mainstreamových informací na většinu publika, u kterého je pak velmi obtížné identifikovat změnu postoje.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 toho vyplýv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todologická změn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ou kultivační analýza přináš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de 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pření primární či jedině určující role selektivních mechanism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ak je známe z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radičního marketingového výzkumu a výzkumu persuaz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levize naopa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bsorbuje, pohlcuje různé ideové koncepce a  postoje a činí z nich stabilní mainstream jakýsi proud hlavních, klíčových událostí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inými slovy kultivační teorie vychází z předpokladu, že  hlavní charakteristikou současného mediálního působení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drobení diváka tlaku televizního                     mainstrea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ultivační teorie  tak poněkud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upozaďuje selektivní mechanism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 tím se liší od tradičního výzkumu mediálních účink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ubin, Peerse a Taylor (1988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kázali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elevizní působení a jeho dopady/účinky jsou programově specifick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i co sledovali víc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enní pořady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vykazovali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éně altruismu a důvěry k druhým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ilní konzumenti sledujíc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brodružné filmy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prokazovali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íce starosti o vlastní bezpečno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AINSTREAMING A REZONANCE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ces kultivace je posilován prostřednictvím dvou mechanism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EZONAN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AINSTREAMING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spojení s hlavním proud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yto dva pojmy zavádí Gerbner s cílem vysvětli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dlišné účinky silného konzumentství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pr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ůzné sociální skupin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ultivace není jednosměrný proce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ři kterém televize působí přímo na publiku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inými slovy mechanismy 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zonance“ a „mainsteaming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ředstavuj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alší proměnné, které televizní působení většinou nevědomky využí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EZONAN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„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“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ultivace je interakce  mezi sdělením a kontextem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např. Děti, které jsou více integrovány do rodiny jsou  více resistentní vůči násilným obsahům)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zonanci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ochází tehdy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dyž je kultivační účinek posílen pro určitou skupinu populace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apříklad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ztah mezi množstvím televizní  konzumace a strachem ze zločinnost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e mnohem větší mezi těmi, kteř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žijí v zónách s vysokou kriminalitou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abí televizní konzumenti nepřipisují problému kriminality takovou váhu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ilní televizní konzumenti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zi nimi jsou t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že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é vid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ločinnost jako vážnější problé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li zde hraj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jich psychické a fyzické dispozice, které více rezonují se zobrazováním zločinnosti v T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ZONANCE ZNAMENÁ DOSTAT „DVOJITOU DÁVKU“.Televizní obsah amplifikuje reálnou zkušen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AINSTREAMING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chází z představy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ZI MÉDII EXISTU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ADA ZÁKLADNÍCH VÝZNAMŮ A PŘEDPOKLADŮ, KTERÉ  JSOU OBECNĚ SDÍLENY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tažení do hlavního proudu v kombinaci se silnou televizní konzumací znamená silno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AVDĚPODOBNOST PŘEKONÁNÍ RŮZNÝCH DIFERENCÍ – sociálních  či kulturních v rámci celé skupin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ainstreaming vede ke sjednocení názorů ve skupině, k homogenizaci, absorbování odlišných názorů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tvoření JEDNOHO OBECNÉHO TELEVIZNÍHO OBRAZU SOCIÁLNÍHO SVĚ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362800" cy="57261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kladní metodou potvrzující existenci mainstreamingu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mparace postojů silných a slabých televizních konzumentů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 různým typům problém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erber rozlišuje tzv.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slabé (light) (0-1,99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střední (midle) (2-3,9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/ silné (heavy) (4+) televizní konzument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utorem této teorie komunikace zaměřené speciálně na TV účinky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Georg Gerbner z Anenberg School of Communication na Pensylvanské universit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Celý výzkum započal v roce 1967 pod názve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ultural Indicators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rámci tohoto širšího  výzkumného projektu se rozvinula v roce 1974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orie televizní kultivace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ako asi vůbec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ejdelší a nejdražší longitudinální výzkum věnovaný televizním účinků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S Gerbnerem zde spolupracují zvláště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ncy Signorielli, Michael Morgan a Larry Gros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elá koncepce vychází z široce pojatého výzkumu kulturních indikátorů, který se ve svých počátcích soustředil na analýz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unkce televizního násil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tupně se výzkum rozšířil na další okruhy. Tedy na otázk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 ovlivňuje televize vnímání a jednání ve vztahu k pohlaví, věkovým stereotypům, zdraví, vědě, rodině, minoritám, náboženství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ULTIVAČNÍ DIFERENCIÁL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ředstavuje metodu komparace postojů „slabých“ a „silných“ televizních konzumentů k různým otázkám a indikují diference ve vnímání sociální reality.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360" y="1916280"/>
            <a:ext cx="9144000" cy="486864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rozdíl v pojetí reality mezi „silnými“ a „slabými“ televizními konzumenty v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ámci stejné demografické kategori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ilní tv konzumenti mnohem častěji popisují svět tak jak jej vidí v T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erbner prokazuje, že 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silných televizních konzumentů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responduje obraz každodenní reality s televizním obrazem svět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PŘÍKLADY DOTAZOVANÝCH TÉ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eec94"/>
                </a:solidFill>
                <a:latin typeface="Times New Roman"/>
              </a:rPr>
              <a:t>Kolik procent ze světové populace činí obyvatelstvo USA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ilní konzumenti uváděli odpověď násobně přesahující správných šest procent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labí konzumenti přeceňovali podíl populace USA mnohem méně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Dominantní postavy vystupující v tv obsazích jsou ve velké většině Američan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eec94"/>
                </a:solidFill>
                <a:latin typeface="Times New Roman"/>
              </a:rPr>
              <a:t>Kolik procent populace pracuje ve složkách, které se zabývají uplatňováním či vynucováním zákon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Odhad silných konzumentů vysoce překračoval správné jedno procento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(12%).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Opět silní konzumenti výrazně předstihovali ve svém odhadu slabé konzumenty (2%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 televizních obsazích vystupuje okolo  20%  postav působících v roli vykonavatele zákon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eec94"/>
                </a:solidFill>
                <a:latin typeface="Times New Roman"/>
              </a:rPr>
              <a:t>Jaké procento v populaci představují lidé starší 65 le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ilní televizní konzumenti ve srovnání se slabými konzumenty odhadovali podíl občanů starších 65 let jako výrazně nižší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Televizní pořady, zvláště dramatické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nedostatečně reprezentují staré lid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eec94"/>
                </a:solidFill>
                <a:latin typeface="Times New Roman"/>
              </a:rPr>
              <a:t>Jaký je podíl žen ve společnosti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Silní konzumenti silně podhodnocují odhad počtu žen ve společnosti. 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Odpovídá to 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podreprezentaci ženských postav a jejich obrazu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Podobně mezi 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dětmi ve třetí - páté třídě se u silně sledujících projevila jednoznačná stereotypizace ženské role směrem k domácím pracím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700" spc="-1" strike="noStrike">
                <a:solidFill>
                  <a:srgbClr val="feec94"/>
                </a:solidFill>
                <a:latin typeface="Times New Roman"/>
              </a:rPr>
              <a:t>Jakou máte šanci, že se v nejbližších sedmi dnech setkáte osobně s násilím?</a:t>
            </a:r>
            <a:r>
              <a:rPr b="1" i="1" lang="cs-CZ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Silní tv. konzumenti uváděli výrazně vyšší procento (30%) než je správné 1% a opět byli ve svém očekávání výše než slabí konzumenti. Více než polovina pořadů uváděných v televizních sítích (52%) prezentuje otevřené násilí, (80%) agresivní scény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7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i="1" lang="cs-CZ" sz="2700" spc="-1" strike="noStrike">
                <a:solidFill>
                  <a:srgbClr val="feec94"/>
                </a:solidFill>
                <a:latin typeface="Times New Roman"/>
              </a:rPr>
              <a:t>Pokud se obecně zamyslíte, dá se podle Vašeho názoru lidem věřit"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?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Silní tv. konzumenti jsou ve srovnání se slabými výrazně nedůvěřivější. Pociťují vyšší pocit ohrožení.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ELEVIZE VEDE SILNÉ KONZUMENTY K TOMU, ABY VNÍMALI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BRAZ SVĚTA JAKO OHROŽUJÍC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o je podle Gerbnera jeden ze základních a nejobecněji sdílených účinků TV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ato Gerbnerova zjištění se prokázala i, když se je pokusil falzifikovat rol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ěku, vzdělání, pohlaví, mírou čtení novin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p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DIFERENCUJE  ZDE ŽÁDNÁ SOCIODEMOGRAFICKÁ CHARAKTERISTIKA DOTÁZANÝCH,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ALE POUZE MÍRA JEJICH TELEVIZNÍ KONZUMACE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EIDEOLOGICKÝ MAINSTREAM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V OSLOVUJE CO NEJŠIRŠÍ SKUPINU POPULACE A HOMOGENIZUJE TAK SVÉ PUBLIKU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NAŽÍ SE POTĚŠIT VĚTŠINU A NAŠTVAT, CO NEJMENŠÍ POČET LIDÍ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ýsledkem je, že se snaží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YBALANCOVAT OPOZIČNÍ POLITICKÁ STANOVISKA,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nastolovat jakýsi střední kurs či střední cestu - cosi jako </a:t>
            </a:r>
            <a:r>
              <a:rPr b="1" lang="en-US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UTRÁLNÍ DISKUR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34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lní televizní konzum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mají tendenci deklarovat  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LITICKY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ko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umírnění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píše než jako konzervativci či liberálové, a to zvláště mezi republikán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Liberálové a konzervativci s rostoucí mírou konzumace názorově splývaj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ELEVIZE KULTIVUJE K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HLAVNÍMU PROUDU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Vzniká tak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UNIFIKOVANÁ POLI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jekt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ULTURAL INDICATOR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(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967+) sestává ze tří tématických okruhů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stitucionální analýza procesu formování a distribuování mediálních obsah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aké procesy, vlivy a tlaky působí při produkci masmediálních obsah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nalýza systému sděl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co jsou dominantní obrazy, fakta a hodnoty produkované masovými médi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d roku 1967 zaznamenávají vždy jeden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ýden ročně obsah hlavních televizních sít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podrobují je obsahové analýze s cílem zachytit základní rysy a trendy, které používá televize ke konstrukci světa pro své publikum. Za dvacet let vznikla databáze zahrnujíc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26 000 postav a 2200 pořadů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líčové lekce, vzorce, obrazy světa, které televize publiku poskytuje pak využil Gerbner ve třetí části výzkumu pro formulaci základních otáz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nalýza televizních konzument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jaký je vztah mezi mírou konzumace televize a koncepcí reality u televizních divák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ultivační analýza kombinuj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bsahovou analýzu televizních sdělen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 kvantitativní (dotazníkovou) reprezentativní analýzou publik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měřuje se na trvalé společné důsledky života v televizní kultuř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3068640"/>
            <a:ext cx="8785440" cy="32734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ncy Signorielli a Larry Morgan charakterizovali celý projek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o snahu zjistit, zda ti, kteří tráví více času před televizní obrazovkou, mají větší sklon vnímat reálný svět jiným způsobem, než ti, kteří televizi sledují méně, ale jsou přitom srovnatelní v základních demografických charakteristikách“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LEVIZE JAKO NÁSTROJ SOCIALIZA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le Gerbnera s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V stal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entrální kulturní institucí moderních společností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členem rodiny, který vypráví nejvíce příběhů, a to v největším rozsahu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levize monopolizuje své postavení a zahrnuje i jiné zdroje informací, které dříve formovaly lidské preferenc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t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entralizovaný systém produkce příběhů, které vytvářejí koherentní svět obrazů a sdělení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d dětství nás TV systé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kultivuje“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definuje náš vkus a způsob jak pracujeme s jinými zdroji informací a sdělen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e se stal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imárním nástrojem socializace a každodenních informac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itualita mše jako kolektivně sdíleného vzorce tradiční společnost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dnes nahrazován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aždodenním rituálem kolektivní konzumace televizních obsahů, které i zd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sdílejí elity společně s lidem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LEVIZE JAKO SEKULÁRNÍ NÁBOŽENSTVÍ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nalogie mezi náboženským ritem a televizní konzumac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respektive podobnost jejich sociálních funkcí indikuj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/ kontinuálním opakování sociálních vzorců (mýtů, ideologií, vztahů apod.)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/ které slouží k definování sociálního světa a legitimizaci  sociálního řád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levizi užívá většina publika neselektivně, téměř rituálně. Jde o e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xpozici totálnímu vzorci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spíše než žánru či program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sledkem j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polečně sdílené pojetí sociální reality na masové úrovni. Ve srovnání s jinými médi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ává televize k dispozici relativně omezenou sadu možností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 to pro neomezené množství zájmů publika. Komerční charakter televizní produkce vede k jej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selektivní konzumaci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hodnutí o tom, zda budeme sledovat daný pořad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vlivněno  časem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dy je vysílán, spíše než jeho obsah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y prokazuj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ůměrné množství konzumace televize odpovídá životnímu stylu divák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V typické české domácnosti ja zapnutá TV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ůměrně pěa půl hodiny denn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Průměr denní sledovanosti osob starších 15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let překračuje 3 hodin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nzumujeme habituálně a neselektivn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 tomto směru nehraje významnější roli zmnožení TV programů. Neprokázalo se, že by jejich větší množství korespondovalo přímo úměrně s bohatším diferencovanějším mediálním obsahem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opak dominantním trendem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úzování či vertikální integrace v mediálním průmyslu - například pohlcení velké části nakladatelských domů elektronickými konglomerát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o v praxi znamená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dukování stejného materiálu pro různé mediální trh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ště homogennější se jeví z tohoto pohledu užívání technologi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ideozáznamu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střednictvím zappingu sice populace zcela prokazatelně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uniká reklamám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 jiný program, ale uniká opět za stejnou verzí především primetimového programu.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ní úniku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iference mezi jednotlivými formáty jsou pouze formální. Programová struktura zůstává stejně rigidní jako struktura mýdlové opery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erbner upozorňuje na to, že různé typy programů, včetně zpravodajství, sdílej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dobné klíčové či charakteristické znaky, které jsou typické pro vyprávění příběhů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orytelling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ak se ze dne na den produkuj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ociální stereotyp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střednictvím castingu, typizace a vzniká  ta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levizní svě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sledkem této masivní expozice je to, co nazývá Gerber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ULTIVAC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076640"/>
            <a:ext cx="9144000" cy="244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levizní kultiv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 je sociokulturní mechanism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vlivňování publika, které se liší od koncepce mediální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účinků, která se zaměřuje na působení vždy jednoh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dělení a není schopna pojmout mediální působení jak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ele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CHANISMUS MEDIÁLNÍ KULTIVACE JE O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                 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UMULATIVNÍM PÚSOB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e vypráv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ři typy příběh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iktivní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e kterých se promítá neviditelná dynamika lidského života,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spektiv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luzivní potenciál lidských př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aktick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– zpravodajství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e kterém jsou potvrzová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avidla a priority dané společ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raktick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pomáhají s orientací ve společnosti (radí jak se bránit v situaci ohrožení nebo např. co nakupovat apod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yto tři druhy vyprávění vytvářejí společně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DIOVANOU KULTU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 tomto smyslu funguje televize jako nástroj proces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RÚSTÁNÍ, UNIFIKACE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tahuje původně zcela disparátní narace do jednoho prostoru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HLCUJE VEŘEJNOU SFÉRU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8:47:11Z</dcterms:created>
  <dc:creator>JV</dc:creator>
  <dc:description/>
  <dc:language>en-US</dc:language>
  <cp:lastModifiedBy>JV</cp:lastModifiedBy>
  <dcterms:modified xsi:type="dcterms:W3CDTF">2010-12-09T09:07:15Z</dcterms:modified>
  <cp:revision>5</cp:revision>
  <dc:subject/>
  <dc:title>XI. MÉDIA JAKO NÁSTROJ SOCIALIZACE TEORIE MEDIÁLNÍ KULTIVACE   (Cultivation Analysis)</dc:title>
</cp:coreProperties>
</file>