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BEB-11C0-4221-BFE5-2AD70D5F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D57-57DE-4397-8CDC-E7FFDBFF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416-20DA-440E-AB59-16926E8B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1ED-D511-4113-88AD-E4089715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9C06-AAFD-42BB-B692-A4E7BF62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A2B8-92C3-4C22-A9D9-F6C13DB5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2F1E-1F79-4A34-8623-A00690A0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6CFD-1B05-4BA9-8FB5-573FB38D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20BA-50F2-41EF-B00C-CCEEB68A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2590-E6D7-43AC-A00A-D1E21E5F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C498-3625-4A1E-B28F-237F1331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6F8-9B77-43E4-8E60-EB588833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14BE-CC3B-4B91-9059-21D90AA6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F716-C6A8-42DE-9663-75B0A5D6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B2B8-CB31-427C-A75F-A47C6DCB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E3A3-F7B4-48E1-A5E0-AFA01210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0A01-FC88-4374-8ED7-476F6153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D7B-E610-4973-A49F-BE9128F7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2C5-507D-41C9-A1E9-4B0680CB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0F1-1835-4F81-B785-8EABF0FA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D76-342B-445F-B736-382B3EA1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E31-E9B9-4E17-946F-9A1E7C9B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32F-4F7B-4471-AFA7-B0EFF1F8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8EB-BFD0-4E94-A2E0-09A34AD0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CEFB-C30B-4894-8844-DB0A7D853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9342-109F-454A-A972-E28C4C2D9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3:38Z</dcterms:modified>
  <cp:revision>11</cp:revision>
  <dc:subject/>
  <dc:title>III.3. REKLAMY JAKO GESTALT</dc:title>
</cp:coreProperties>
</file>