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ACD-62CE-4461-8127-75C0B908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EAB-A754-4110-AF8D-4563BAC4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8D6-F49E-438F-A030-F6268935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54F-DB86-4DBE-AA94-6B4B9D1C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4DDF-40D9-419A-8DE1-8C9AC2D5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4E23-2724-4143-9A20-BCFFC474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77CF-6E58-4AD0-95C7-9A98D42C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FD53-CB0F-4592-BBCF-E8A59598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D660-2DE5-4914-A5EC-AE6EDF2C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0D14-CE40-4AA0-99E9-FD28C659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60EC-369E-42DE-9C97-B0237C6B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2A5-34B6-46BD-ABEE-87611AF3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AC49-E1A2-4195-AC59-F7660FA8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CF46-7538-4024-8629-509BD0F5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C9CD-5108-470D-84B9-9F5A189B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EE10-AA8A-4D53-8E14-A7B2B5CC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E4AA-8874-485D-AE68-90AEC140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49D-3C9D-429F-A588-3A85F87B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154-29AC-4084-A95E-CEC15248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B59-FC3F-4A74-8989-5695AE36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129-6026-4E0C-86C0-252EFE01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542-39C6-4D37-B9AE-E2D14915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8E5-858C-4983-BE68-9122A3E8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60C-8B5B-482D-9034-41C1FCD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FA2C-7ED4-4A40-B5A2-1AD621530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15D5-AAFB-4B3A-A5F6-4C4486836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XI. SPIRÁLA MLČENÍ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809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 se de facto objevuje již ve výzkumu „People´s Choic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73 Elisabeth Noelle - Neumannová ředitelka centra pro Výzkum veřejného mínění Allennsbachu a profesorka na universitě v Mainzu. (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Zpět k teorii silných účinků, 1972)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í koncep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stupuje do etapy silných mediálních účink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tvrdí, že  pochybnosti o silných mediálních účincích byly dá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todologickým omezení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ětšiny klasických výzkumů zaměřených na vliv masových médi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508640"/>
            <a:ext cx="8137440" cy="20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cep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ály mlče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ychází ze známého, historicky ověřeného zjištění, ž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polečnost trestá své nepřizpůsobivé za jejich neochotu sdílet většinové, dominantní hodnoty, normy a post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. INTERPRETACE VOLEBNÍCH VÝSLEDK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rlamentní volby  - 196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ízí se zde Lazarsfeldova teorie tzv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and wagon effec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oslední vagón při volebních kampaních, ve  kterém měla své místo kapela - kam se dalo naskočil ještě za rozjezdu 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ast minute swing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volba v poslední minutě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 analogiam – jakoby voliči v posledních třech měsících naskočili do onoho vozu s kapelou, který vezl SP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ovšem ve své koncepci  polemizuje s názorem P. F. Lazarsfelda, který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lidé chtějí být vždy na straně vítě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jelikož s ním spoj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stavu určit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isku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mítá ta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incip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nd wagon effect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lidí nemá ambice získat úřad či moc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ou může vítěz poskytnout. Říká, že je zde ve hře  jiný fenomén, a to o snah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HNOUT SE IZOLACI, KTERÁ JE SPOLEČNÁ VŠEM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. VOLEBNÍ TEST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ellová se pokusila prokázat svou tezi tím, že  konfrontovala voličské preference zjišťované standardní otázkou  </a:t>
            </a:r>
            <a:br>
              <a:rPr sz="3200"/>
            </a:b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„které politické straně byste dali hlas, kdyby byly zítra volby?“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tázkou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DO PODLE VAŠEHO NÁZORU VYHRAJE PARLAMENTNÍ VOLBY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 ukazuje vývoj očekávání u této druhé otázky objevuje se zde trend naznačujíc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ěkteří (váhaví) voliči v závěru naskočí do vagónu SP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nci spirály mlče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Noellové bylo přesvědčivé vítězství dáno právě tímto fenoménem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lo o vládní stranu a přimknutí k ní bylo mnohem snadně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inými slov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sympatizanti obou stran mohou být početně velmi blízko, al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ohou se lišit svou energií, svou hlasitostí projevu - tj. například nošení stranických odznaků, mediálně vděčné perform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(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ituální výzva na souboj inscenovaná před kamerami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íla obou stran je navíc nerozhodnutými percipována defakto jen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kladě několika parciálních, vzhledem k síle strany irelevantních většinou mediálních „detailů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ně hlasití“ postupn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éně komunikují svůj názor  a tím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bývají více dojem o vlastním vyloučení a více pochybují o správnosti vlastní percepce problému, o správnosti vlastního soudu a tudíž komunikují ještě mé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zhodujícím důvodem pro toto mlčení 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trach z izol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d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dstava o reálnosti převahy jedněch nad druhý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terá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á tvar spirály, jejíž průběh indikuje oslabování názoru jedné st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de facto tvrdí, že 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ota lidí hovořit o nějakém problému je silně  determinována veřejným klimatem či společenskou atmosférou, která se daného tématu dotýká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kud je individuum držitelem názoru, který většina nepodporuje umlk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. HISTORICKÉ ANA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mechanismu „spirály“ ilustroval de facto již Tocqueville, když popisoval úpadek církve v polovině 18 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 hlavní faktor tohoto úpadku bylo podle něho právě postupn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odmlčování se.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cqueville píše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i, co si podrželi víru v církev začali mít strach, zda by je taková veřejná deklarace nevedla k izola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1972 Noellová celý výzkum opakovala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ařilo se jí identifikovat skupinu lidí, kteří se cítí relativně izolovaní a prokázala u nich silnou inklinaci podléhat fenoménu poslední minut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lo o jedi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s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ižším sebevědomí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ně zaujaté politiko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/ TĚMTO LI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ŠLO O TO BÝT U MOCI, ALE O TO BÝT S VĚTŠINO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dyž lidé cítí, že se od nich ostatní odvracejí jsou mnohem manipulovatel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ch z izolace je silou, která dává spirálu mlčení do pohybu. V případě, že náš názor nemá šanci na širokou akceptaci a zároveň se ná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chce jej opustit zbývá druhá možnost - zmlkn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KRIT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éma, které nechává teorie spirály nezodpovězené se týká otázky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jak začít znovu“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bízí se možnost, ž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i, kteří  sdílí většinový názor pomalu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ztrácejí sílu hájit jej neb se již nesetkávají se silným odpor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říká, že pro povahu masové komunikace jsou určující tři následující charakteris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ytváření jednotlivých sdělení na základě nabalování dílčích událostí podle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ředstavy o jejich potenciálně spojité povaze a vytváření kontinuitního pojetí děj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udypřítom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ení oblast, které by se dnes média vyhýb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sona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hoda při produkci základních témat či rámců komunikačního sdělení resp. produkcí unifikovaného obrazu daného tématu či události bez ohledu na různé typy médi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nto efekt shody omezuje působení selektivních mechanismů a brání možnosti vybrat si jiné sděl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. PSYCHOLOGICKO - ANTROPOLOGICKÉ KOŘENY TEORIE SPIRÁLY ML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ová vychází z toho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společnost užívá k udržení sociální integrity takové tlaky či sociální mechanismy jako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strakizace, sociální exkluze, zesměšnění či sociální izolace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inec chce vyhnout izolaci musí přijmout způsoby chování, normy, hodnoty, které jsou obecně akcept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idský život je v tomto smysl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manentním monitorováním situace na tomto pol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hovoří o tom, že každý jedinec disponuje  jakýms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vázi-statistickým orgánem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ky kterému je schopen vníma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měny veřejného mínění, aniž by ovšem byl schopen detailněji je kvantifikovat či vysvětli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av veřejného mínění odhadují jedinci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pozor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ziosobních interak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na základě sled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asových médi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poskytují informace o distribuci veřejného mínění ve vztahu k jednotlivým problém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trach z izol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odle Neumannové klíčovou hodnotou. Funguje jako antropologická konstanta výrazně ovlivňující náš život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cit bezpečí -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ntologickou jisto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piricky inspiroval Noellovou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ýzku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lomona As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Solomon Ash, 195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sh testova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budou respondenti ochotni korigovat svůj odhad na základě vlivu ostatních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IMENTÁLNÍ ÚKO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ždy desetičlenné skupiny měli posuzovat,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která ze tří uvedených čar odpovídá jedné vybra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L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ové experimentální skupin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en po druhé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istupovali k uvedeným vzorkům a označovali identické čár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aždý odhad se opakoval 12 krá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vní dvě kola všichni naprosto správně odhadovali velikost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dvou kolech začali asistenti, kteří byli členy skupiny označovat za stejně dlouhou evidentně kratší čá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 deseti řádných členu skupiny postupně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est opustilo svůj původní správný názor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ouze  dva si stáli na své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správném hodnocení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lší dv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dnou nebo dvakrát zaváhal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le jinak drželi správný náz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bývajících šest se zcela přizpůsobilo tlaku většin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tšina lidí se spojuje s názorem většiny byť by její názor byl myln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potvrzuje Tocquevillův názor, že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rozba z izolace je silnější než hrozba omyl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 cílem vyhnout se možné sociální izolaci vykonáváme podle Noello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vky drobných pozor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znamenáváme stovky signálů o tom, zda js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klopeni sympatií či naopak zda jsme odmítán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odtud vyvozuje, že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ání veřejného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é rozdělení na 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 MLU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 TY, KDO MLČ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„hlasitost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é skupiny, která nemusí být zpočátku výrazně početnější vede 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panování veřejného prostoru jedním názorem a ke spuštění mechanis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ční či názorové spirály. Hlasitější názor dále posiluje 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éně viditelný či slyšitelný dále ztrá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troverzních témat sílí ti, jejichž názor se jeví být dominantně sdíl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tímco ti, jejichž názor tuto charakteristiku postrádá postupně umlk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co se cítí silnější projevují se hlasitěji a jsou tudíž viditelnější a opticky silněj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ová média ovlivňují proces spirály třemi způso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formují povědom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jsou dominan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formují povědomí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á témata a názory jsou na vzestu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informuj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člověk může prezentovat, aniž by se vystavoval hrozbě izo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A. HISTORICKÉ SOUVISLOST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dea „spirály mlčení“ se rodí v ro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1965, kdy na podzim vrcholila volební kampaň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vedla jeden z výzkumných týmů, který v průběhu této kampaně měři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 politických stran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poslední rok měly obě dominantní strany CDU/CSU a SPD velmi podobné výsledky. Rozdíl mezi nimi byl velmi mal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vlastních volbách však došlo k tomu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díl narostl na více než deset procent ve prospěch SPD (SPD - 49,5,  CDU/CSU - 38,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ště v srpnu činil rozdíl mezi oběma stranami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.5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srpnem a říjnem došlo tedy k nárůstu rozdílu o 8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si položila otázku,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o mohlo vézt k tak razantní změně, takovému nárůstu preferencí pro SP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8:44:38Z</dcterms:created>
  <dc:creator>JV</dc:creator>
  <dc:description/>
  <dc:language>en-US</dc:language>
  <cp:lastModifiedBy>JV</cp:lastModifiedBy>
  <dcterms:modified xsi:type="dcterms:W3CDTF">2010-12-02T08:37:10Z</dcterms:modified>
  <cp:revision>3</cp:revision>
  <dc:subject/>
  <dc:title>XI. SPIRÁLA MLČENÍ </dc:title>
</cp:coreProperties>
</file>