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738C-8E6E-4C90-96DE-DACEFC3AA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FC4C-DD0A-40A3-BB83-9A14A70F8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5D37-F231-4C48-A2EA-8C4C5B4F0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36FF-B130-41AF-89A0-F1D5CBAAC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C58E8-4DBA-493A-9108-617E431DA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D7D2A-2628-437B-A392-2C1E271B2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D9E20-BF64-4B69-9732-6CF28B9BD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FA06A-A583-4FD7-832D-D7E5D549F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C5D78-8ED2-40D9-8978-E784126A3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DB0F8-956B-4E2B-B30C-94D469A3F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2A4E9-A090-45B8-95E2-1438B8EA6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1C16-1C5B-4478-9AC1-F7B7DDAEF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E574E-69EA-4896-8DE9-8AAA2EACE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4F817-0EFF-4AF6-BBAB-2E03097A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67374-DA43-4969-A721-4D20A5EFE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9B952-508D-43DE-AF14-06A34F194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9B219-8AA9-42B1-BB6C-7C14E5E1B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DD99-06C0-4973-8EBD-02A5078E9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FC5C-5532-41B5-A873-E51157050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8C27-F0FF-44F7-A2C8-84D399B21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7B8D-1A0C-46CA-99F6-864E4AF61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CC46-C621-46D0-959C-C4E0C1E45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96B1-518C-4C63-8D02-0417FEC35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7A5F-4EB3-412F-A08F-446AFC69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D17C9-24B2-4DD0-AC0F-18AC5A83C0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F1EE1-C7A3-43A2-B066-2B41BF0274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21844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IV. KAPITOLA: SOCIÁLNÍ PERCEPCE</a:t>
            </a:r>
            <a:br>
              <a:rPr sz="2800"/>
            </a:b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eorie sociální percepc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klade na první místo v procesu vnímání sociální zkušenost jedince a obecně sociální faktory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 rozdíl od neurofyziologie, která se soustřeďuje především na stav receptorů individua a na vlastnosti vnímaných objektů). 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2997360"/>
            <a:ext cx="9144000" cy="3860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 V důsledku existence sociálních faktorů, sociální zkušenosti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nevidíme „věci o sobě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, ale máme tendenci vnímat to, co konvenuj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našim potřebám a očekávání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 Percepce a interpretace skutečnosti je určována aktuálními motivy, respektive zkušeností a formuje se v průběhu sociálního vývoje jedi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B/ SELEKTIVNÍ POZORNOST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e takový proces, při kterém věnuje jedinec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pozornost jen těm částem sdělení, které jsou v souladu s jeho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íněním a snaží se vyhnout protichůdným sdělením. Jde o situace, kdy jedinci nejsou schopni dopředu posoudit, zda budou percipovaná sdělení v souladu s jejich  postoj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 rozdíl od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lektivní percep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jde o parciální proces, při kterém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nedochází k hlubšímu zpracování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 vyhodnocení informací. Vymazávání pozornosti při sledování násilných scén na TV  obrazov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891640" cy="43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C/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SELEKTIVNÍ PERPCEPCE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je psychický proces, při kterém jedinec „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vypíná“ vědomou pozornos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pokud je vystaven situaci, kdy dostává sdělení, která odporují jeho postojům a naopak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„zapíná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“ pozornost v opačném případě. Nejpodstatnější charakteristikou tohoto psychického procesu je skutečnost, že v rámci této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„nepozornosti“ ale aktivně/nevědomě přepracovává sdělení k „obrazu svému“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EXPERIMENT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G. Allport - Postmann L.: The Basic Psychology of Rumor,1945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Studie orientovaná na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téma 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šíření pomluvy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Pokusili se ilustrovat jak se průběhu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sociálního sdílení a šíření informace proměnilo verbální sdělení tak, aby odpovídalo existujícímu povědomí a postojům.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Skupině respondentů byl předveden 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obrázek ostré hádky mez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černým a bílým mužem, na kterém drží běloch v ruce břitv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a ohrožuje Afroameričana.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 Probandi měli tento obráz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popsat další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skupině respondentů, kteří jej měli popsat další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at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 průběhu následných postupujících komunikačních kontaktů se b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řitva postupně přesunula z ruky bělocha do ruky  Afroameričana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teriál, který neodpovídá percepčním zkušenostem individua musí být přepracován  tak, aby odpovídal jeho osobním potřebám a zájmům.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o co bylo vnější stává se vnitřním, co bylo objektivním  stává se subjektivní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9144000" cy="38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D/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SELEKTIVNÍ RETENCE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e tendence individua znovu si vybavit pouze ty informace, které jsou v souladu s jeho potřebami, postoji a dalšími psychologickými charakteristikami.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Jde  o to udržet v paměti v aktuálním a vyvolatelném stavu ty informace, jež posilují názory individua a vytěsnit ty, jež jsou mu nepříjemné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EXPERIMENT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JONES, KOHLER, 1958)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 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Dvě skupin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eec94"/>
                </a:solidFill>
                <a:latin typeface="Times New Roman"/>
              </a:rPr>
              <a:t>a/ stoupenci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segregace afroameričanů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b/ její odpůrc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Dostaly za úkol naučit se výroky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, které byly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eec94"/>
                </a:solidFill>
                <a:latin typeface="Times New Roman"/>
              </a:rPr>
              <a:t>a/ jednak ostře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protičernošsk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b/ a jednak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proti apartheidu, pro rasovou rovno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Následně byla testována schopnost jak si jednotliví členové obou skupin byli schopni vybavit jednotlivé výrok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eec94"/>
                </a:solidFill>
                <a:latin typeface="Times New Roman"/>
              </a:rPr>
              <a:t> „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Segregacionisté“ jednoznačně lépe vybavovali ty výroky,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které konvenovaly s jejich protičernoškými postoj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KULTURNÍ OČEKÁVÁNÍ</a:t>
            </a:r>
            <a:br>
              <a:rPr sz="24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ercepci formuje předchozí zkušenost a ovlivňuje ji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sociální očekáván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motivace a potřeby, nálady a postoje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1141200"/>
            <a:ext cx="9144000" cy="57164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EXPERIMENT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vě skupiny dětí mezi 7-9 let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/ z nejnižších soc. vrstev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/z nejvyšších soc. vrste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ostaly za úkol nakreslit mince (od dvoucentu až po půldolar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ýrazně větší rozměr připsaly jednotlivým mincí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ěti z nejnižších vrstev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Jde o příklad přecenění sociálního faktu.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EXPERIMENT: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Probandi dostali v temné místnosti dva výstřižky  ze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stejného materiálu a stejné barvy (zelené):                  </a:t>
            </a:r>
            <a:r>
              <a:rPr b="0" i="1" lang="cs-CZ" sz="3200" spc="-1" strike="noStrike">
                <a:solidFill>
                  <a:srgbClr val="009900"/>
                </a:solidFill>
                <a:latin typeface="Times New Roman"/>
              </a:rPr>
              <a:t>„</a:t>
            </a:r>
            <a:r>
              <a:rPr b="1" i="1" lang="cs-CZ" sz="3200" spc="-1" strike="noStrike">
                <a:solidFill>
                  <a:srgbClr val="009900"/>
                </a:solidFill>
                <a:latin typeface="Times New Roman"/>
              </a:rPr>
              <a:t>list  jabloně“ </a:t>
            </a:r>
            <a:r>
              <a:rPr b="0" i="1" lang="cs-CZ" sz="3200" spc="-1" strike="noStrike">
                <a:solidFill>
                  <a:srgbClr val="0099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009900"/>
                </a:solidFill>
                <a:latin typeface="Times New Roman"/>
              </a:rPr>
              <a:t> „oslíka“.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Oba výstřižky nasvíceny červeným kašírovacím světlem, které překrylo původní barvu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espondenti byli dotázáni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A/ „Zda jsou oba výstřižky stejně  barevné?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B/„O  jakou intenzitu barvy jde?“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i="1" lang="cs-CZ" sz="3200" spc="-1" strike="noStrike">
                <a:solidFill>
                  <a:srgbClr val="feec94"/>
                </a:solidFill>
                <a:latin typeface="Times New Roman"/>
              </a:rPr>
              <a:t>  </a:t>
            </a:r>
            <a:r>
              <a:rPr b="0" i="1" lang="cs-CZ" sz="3200" spc="-1" strike="noStrike">
                <a:solidFill>
                  <a:srgbClr val="009900"/>
                </a:solidFill>
                <a:latin typeface="Times New Roman"/>
              </a:rPr>
              <a:t>Jako  „</a:t>
            </a:r>
            <a:r>
              <a:rPr b="1" i="1" lang="cs-CZ" sz="3200" spc="-1" strike="noStrike">
                <a:solidFill>
                  <a:srgbClr val="009900"/>
                </a:solidFill>
                <a:latin typeface="Times New Roman"/>
              </a:rPr>
              <a:t>zelenější“ </a:t>
            </a:r>
            <a:r>
              <a:rPr b="0" i="1" lang="cs-CZ" sz="3200" spc="-1" strike="noStrike">
                <a:solidFill>
                  <a:srgbClr val="009900"/>
                </a:solidFill>
                <a:latin typeface="Times New Roman"/>
              </a:rPr>
              <a:t>byl vnímán</a:t>
            </a:r>
            <a:r>
              <a:rPr b="1" i="1" lang="cs-CZ" sz="3200" spc="-1" strike="noStrike">
                <a:solidFill>
                  <a:srgbClr val="009900"/>
                </a:solidFill>
                <a:latin typeface="Times New Roman"/>
              </a:rPr>
              <a:t> „list“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eec94"/>
                </a:solidFill>
                <a:latin typeface="Times New Roman"/>
              </a:rPr>
              <a:t>       </a:t>
            </a:r>
            <a:r>
              <a:rPr b="0" i="1" lang="cs-CZ" sz="3200" spc="-1" strike="noStrike">
                <a:solidFill>
                  <a:srgbClr val="feec94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feec94"/>
                </a:solidFill>
                <a:latin typeface="Times New Roman"/>
              </a:rPr>
              <a:t> „oslíka“ </a:t>
            </a:r>
            <a:r>
              <a:rPr b="0" i="1" lang="cs-CZ" sz="3200" spc="-1" strike="noStrike">
                <a:solidFill>
                  <a:srgbClr val="feec94"/>
                </a:solidFill>
                <a:latin typeface="Times New Roman"/>
              </a:rPr>
              <a:t> byl zdůrazňován odstín</a:t>
            </a:r>
            <a:r>
              <a:rPr b="1" i="1" lang="cs-CZ" sz="3200" spc="-1" strike="noStrike">
                <a:solidFill>
                  <a:srgbClr val="feec94"/>
                </a:solidFill>
                <a:latin typeface="Times New Roman"/>
              </a:rPr>
              <a:t> „do šeda“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4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Co člověk vnímá a jak to vnímá je dáno jeho základním zacílením. Klíčovou roli zde hraj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očekávání,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ve kterém lze určit čtyři funkce: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fixaci b/ organizaci/ selektivitu </a:t>
            </a:r>
            <a:br>
              <a:rPr sz="2800"/>
            </a:b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d/ akcentaci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8820000" cy="5013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fixace očekává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- list je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odle pamět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popisován jako zelený, oslík jako šed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organizace očekává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- preference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kontu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u obou výstřižk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selektivita očekává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- z míry možných očekávání se uplatnilo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jen jedno vedoucí k závěru o možných barvá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4/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akcentace očekávání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- výsledkem je, že  dominoval 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určitý způsob vnímá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EXPERIMENT 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McClelland a Atkinson, 1948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DESIGN VÝZKUMU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 rámci přijímacího řízení na námořní školu – kurs pro námořníky na ponorce. Jako součást testů  prověřována i 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schopnost zvládnout  alimentární deprivac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Vytvořili </a:t>
            </a: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tři skupiny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- jedna </a:t>
            </a: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hladověla 16 hodin, druhá 4 a třetí hodinu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. V průběhu hladovění museli probandi </a:t>
            </a:r>
            <a:r>
              <a:rPr b="0" i="1" lang="cs-CZ" sz="3200" spc="-1" strike="noStrike">
                <a:solidFill>
                  <a:srgbClr val="feec94"/>
                </a:solidFill>
                <a:latin typeface="Times New Roman"/>
              </a:rPr>
              <a:t>identifikovat na plátně objekty, které jim byly údajně promítány.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Dostávali   takové instrukce jako: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i="1" lang="cs-CZ" sz="3200" spc="-1" strike="noStrike">
                <a:solidFill>
                  <a:srgbClr val="ffff00"/>
                </a:solidFill>
                <a:latin typeface="Times New Roman"/>
              </a:rPr>
              <a:t>na plátně jsou tři objekty, popište je“.</a:t>
            </a: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S narůstající dobou hladovění stoupal i počet „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viděných  objektů, které souvisely s potravou“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Věříme tomu, co vidíme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Je tomu tak proto, že rozvíjíme stále stejné percepční dovednosti, které nás vedou k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shodě  na „objektivní realitě“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dikální skeptici trvají na tom, že </a:t>
            </a: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není jasné zda máme nejmenší důvod předpokládat, že druzí mají cokoliv, co můžeme považovat z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olečnou zkušenost</a:t>
            </a: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izuální zkušenost může být dána čímsi, co si jiní nedokáží představ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 fontScale="97000"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EXPERIMENT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agby, 1957)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 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Dvanáct partnerských amerických párů a 12 mexických párů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Vyjma  jediného žádný nikdy neopustil zemi, kde dlouhodob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žily i jejich rodiny. Každé dvojici promítnuto deset párů diapozitivů, které zobrazovaly 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jednu aktivitu typickou pro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eec94"/>
                </a:solidFill>
                <a:latin typeface="Times New Roman"/>
              </a:rPr>
              <a:t>A/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(severo)</a:t>
            </a:r>
            <a:r>
              <a:rPr b="0" i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americkou kulturu (např. baseball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B/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  pro mexickou kulturu ( býčí zápasy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Po 60s  expozici každé dvojice obrázků byli respondenti dotázáni co viděli.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Dominance jednotlivých očí byla eliminována randomizací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Při experimentu byly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použity speciální /prizmatické/ brýle, které umožňují vysílat na každé oko jiný obraz. U většiny lidí je to tak, že v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případě komunikace dvou obrazů vidí pouze jeden nebo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občas pak jakýsi mix obojího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. To ovšem až po té co vidí jeden z obrázků samostatně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rojevila s jednoznačně preference obrázků z vlastní kultu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EXPERIMEN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(Toch, Schulte, 1961)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r>
              <a:rPr b="0" i="1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Položili si otázku, </a:t>
            </a:r>
            <a:r>
              <a:rPr b="1" i="1" lang="cs-CZ" sz="3200" spc="-1" strike="noStrike">
                <a:solidFill>
                  <a:srgbClr val="feec94"/>
                </a:solidFill>
                <a:latin typeface="Times New Roman"/>
              </a:rPr>
              <a:t>zda ti, kteří se dnes a denně setkávají s násilím</a:t>
            </a: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pracovníci kriminální policie -  </a:t>
            </a:r>
            <a:r>
              <a:rPr b="1" i="1" lang="cs-CZ" sz="3200" spc="-1" strike="noStrike">
                <a:solidFill>
                  <a:srgbClr val="feec94"/>
                </a:solidFill>
                <a:latin typeface="Times New Roman"/>
              </a:rPr>
              <a:t>budou při jeho vnímání citlivější, respektive zda jej budou vidět i v situacích, kde jej ostatní nevid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ásledně  je srovnali se studenty prvního ročníku psychologie. Oběma skupinám byl promítnut film kombinující násilné, agresivní i  neutrální scén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Policisté viděli – popisovali „viděli“  dvakrát tolik násilných scé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EXPERIMENT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Lucas, 1945) 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Vybraní jedinci byli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hypnózou uvedeni do dobré nálady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a bylo jim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promítnuto šest obrázků, které měli popsat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. Pak dostali v hypnóze příkaz na tyto obrázky zapomenout a byli uvedeni do depresivní nálady. Následně  jim byli promítnuty tytéž obrázky a měli je znovu popsa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Popisy stejných obrázků v odlišných psychických situacích byly výrazně odlišné, a to v závislosti na náladě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EXPERIMENT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Meadowcraft a Zillmann,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1987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okázali, že výběr televizního žánru koreluje s fází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menstruačního cyklu (v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premenstruační fázi volily ženy z nabídky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tatisticky významně častěji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rama a naopak nejméně často komedie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0" y="10008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700" spc="-1" strike="noStrike">
                <a:solidFill>
                  <a:srgbClr val="feec94"/>
                </a:solidFill>
                <a:latin typeface="Times New Roman"/>
              </a:rPr>
              <a:t>Politická karikatura proti předsudkům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Jahoda–Cooper, 1947</a:t>
            </a:r>
            <a:r>
              <a:rPr b="0" lang="cs-CZ" sz="2400" spc="-1" strike="noStrike">
                <a:solidFill>
                  <a:srgbClr val="feec94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Analýza efektivity karikatur zaměřených proti předsudkům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ako hlavní hrdina karikatur vystupoval Mr. Biggott, který s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yskytoval v situacích, kdy se předsudky jevily jako směšné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orek čítal 160 bílých nežidovských dělníků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ě třetiny z respondentů sadu karikatur (kampaň) vůbec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nepochopilo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Někteří dokonce tvrdili, že cílem bylo legitimovat předsudek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Chápali smysl karikatur tak, že de facto ujišťoval ostatní, aby si klidně drželi své předsudky podle logiky </a:t>
            </a:r>
            <a:r>
              <a:rPr b="0" i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„jiní je mají také“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jlépe rozuměli karikaturám ti, kteří předsudeční nebyli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jhůře naopak ti nejpředsudečnějš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ffff00"/>
                </a:solidFill>
                <a:latin typeface="Times New Roman"/>
              </a:rPr>
              <a:t>JAKO KLÍČOVÝ DÚVOD NEÚSPĚŠNOSTI KAMPANĚ BYL IDENTIFIKOVÁN </a:t>
            </a:r>
            <a:r>
              <a:rPr b="0" lang="cs-CZ" sz="2300" spc="-1" strike="noStrike">
                <a:solidFill>
                  <a:srgbClr val="ffffff"/>
                </a:solidFill>
                <a:latin typeface="Times New Roman"/>
              </a:rPr>
              <a:t>STRACH Z NESOUHLASU REFERENČNÍ SOCIÁLNÍ SKUPINY</a:t>
            </a:r>
            <a:r>
              <a:rPr b="0" lang="cs-CZ" sz="2300" spc="-1" strike="noStrike">
                <a:solidFill>
                  <a:srgbClr val="ffff00"/>
                </a:solidFill>
                <a:latin typeface="Times New Roman"/>
              </a:rPr>
              <a:t>. PŘESNĚJI </a:t>
            </a:r>
            <a:r>
              <a:rPr b="1" lang="cs-CZ" sz="2300" spc="-1" strike="noStrike">
                <a:solidFill>
                  <a:srgbClr val="ffff00"/>
                </a:solidFill>
                <a:latin typeface="Times New Roman"/>
              </a:rPr>
              <a:t>OČEKÁVÁNÍ </a:t>
            </a:r>
            <a:r>
              <a:rPr b="0" lang="cs-CZ" sz="2300" spc="-1" strike="noStrike">
                <a:solidFill>
                  <a:srgbClr val="ffff00"/>
                </a:solidFill>
                <a:latin typeface="Times New Roman"/>
              </a:rPr>
              <a:t> NESOUHLASU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14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Zesměšňování předsudků není efektivní. Satirické karikatury jso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ercipovány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na základě vlastních postojů. Výsledkem pak je, ž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IDÉ S PŘEDSUDKEM VNÍMAJÍ V KARIKATURÁCH SVÉ VLASTNÍ POSTOJE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2465280"/>
            <a:ext cx="9144000" cy="4392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ÁVĚRY JEDNOTLIVÝCH STUDIÍ NAZNAČUJÍ, ŽE 1/5 - 1/3 RESPONDENTŮ JE IMUNNÍ VŮČI UVEDENÝM SELEKTIVNÍM MECHANISMŮM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becným závěrem pak je, ž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omerční charakter masové komunikace si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vynucuje produkci jen těch postojů a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hodnot, proti nimž obecně není námitek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asově komunikační prostředky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íce posilují  status quo než způsobují postojovou změn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TEORIE PERCEPČNÍHO SCHEMATU (DORIS GRABER, 1988)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6480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percepční  sché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sestává z jistého organizovaného vědění, které 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týká   konkrétní/h situace/í a individuí. Toto vědě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j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abstrakcí jistých původních zkušeností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. Jde 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jakýsi předem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připravený skelet-matrice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, do kter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jsou vkládány nové informa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Graberová říká, že lidé jsou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kognitivní lenoši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(„skrblíci“)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/cognitive misers/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sou mentálně pohodlní, a to i pro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to, že mají omezené schopnosti zpracovávat komplexní informace a rychle se uchylují k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vytváření simplifikovaných mentálních modelů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394920" cy="34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Graberová analyzovala percepční zpracování hlavních zpráv v denících a v TV. Objevila různé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strategie jak se lidé vyrovnávají s novými mediálními informacemi. </a:t>
            </a:r>
            <a:br>
              <a:rPr sz="2800"/>
            </a:b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ákladní mechanismus označuje jako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PŘIPODOBNĚ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(matching). Nová zpravodajská informace je přizpůsobena  schématu vytvořenému na základě předcházejících zpráv (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ten Zeman to je celej Klaus“ apod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). 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ento mechanimus funguje jednak jako: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3357360"/>
            <a:ext cx="9144000" cy="35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ouběh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(interference)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istých událostí na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ákladě aktuální věcné podobnost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příměří v Libanonu nebude mít dlouhého trvání neb v S. Irsku to taky dlouho nefungoval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/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vícenásobná integra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 několika schématy či dimenzemi těchto schémat /zpráva o vstupu d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U j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 vztahována k tématu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ezaměstnanost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 našeho potenciálního ohrožení z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Německa, resp. sudetských Němců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římé spojování zpráv s danými schématy je výrazně ovlivněno mechanismem, který Graberová označuje jako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„cueing“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(dát narážku, podnět k jednání). Tento mechanismus spouštějí média prostřednictvím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itulků, hedlajnů, grafiky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apod. 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apříklad řazení zpráv realizované tímto způsobem vede k tomu, že po zprávě o našem připravovaném vstupu do EU následuje úvaha o tom, že Němci vykupují pozemky v Čechách (témata jako přemalování šipek na silnici, velikosti včelařských rámečků, nezaměstnanost apod.)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4723920"/>
            <a:ext cx="9144000" cy="2133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eec94"/>
                </a:solidFill>
                <a:uFillTx/>
                <a:latin typeface="Times New Roman"/>
              </a:rPr>
              <a:t>SHRNUTÍ STUD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DÉ MAJÍ SKLON PŘI KONZUMACI MEDIÁLNÍ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DĚLENÍ UKLÁDAT V PAMĚTI ZÁVĚRY VYPLÝVAJÍC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Z DŮKAZŮ, ALE NE DŮKAZY SAMOTN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d termí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lektivní percep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můžeme zahrnout percepční mechanismy, které jistým způsobem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ovlivňují, posouvají či zkreslují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původní informac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to mechanismy, ale </a:t>
            </a: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nefungují uniformě u každého individu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0" y="476280"/>
            <a:ext cx="914400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eec94"/>
                </a:solidFill>
                <a:latin typeface="Times New Roman"/>
              </a:rPr>
              <a:t>IV.1.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SELEKTIVITA</a:t>
            </a:r>
            <a:r>
              <a:rPr b="1" lang="en-US" sz="2600" spc="-1" strike="noStrike">
                <a:solidFill>
                  <a:srgbClr val="feec94"/>
                </a:solidFill>
                <a:latin typeface="Times New Roman"/>
              </a:rPr>
              <a:t> JAKO JEDEN Z KLÍČOVÝCH PERCEPČNÍCH MECHANISMÚ</a:t>
            </a:r>
            <a:br>
              <a:rPr sz="2600"/>
            </a:br>
            <a:br>
              <a:rPr sz="2800"/>
            </a:br>
            <a:endParaRPr b="1" lang="en-US" sz="26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Existují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ři základní teorie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vysvětlující percepční mechanismus, respektive selektivitu při vnímání.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teorie učen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terá vychází z představy,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že jsme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racionálními živočich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teří svá rozhodnutí čin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n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základě nejlepších informac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které jsou k dosaže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/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 teorie konzistenc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resp. teorie kognitivní disonance),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terá vychází z toho, že jsm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racionalizující a ne racionální živočichové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proto reagujeme většinou na sdělení tak, že se při jeho přijímáni nebo nepřijímán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nažíme vždy ospravedlnit a ochránit naše již existující mínění, postoje a chová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funkcionální teori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ředpokládá, že přijímáme nové postoje v situaci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kdy naplňují nějakou naši potřebu, respektive, že udržujeme své postoje do té doby dokud jsou pro nás užitečné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TYTO TEORIE SE NEVYLUČUJÍ, ALE JSOU TŘEMI RŮZNÝMI ZPŮSOBY VYSVĚTLENÍ REAKCÍ V NAŠEM PŘÍPADĚ MEDIÁLNÍHO PUBLIKA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/Selektivní expozice, B/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lektivní pozornost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, 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C/ Selektivní percepce, D/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lektivní retence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/ Některé informace, které jsou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jednoznačně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nepřijatelné nepřipustí individuum hned na počátk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/ V případě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ixu přijatelných a nepřijatelných sdělení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věnuje pozornost pouze přijatelný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/ Pokud projde informace dále nastupuj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selektivní percepce při vlastním dekódování sděle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/ Pokud ani v tomto případě není selektivní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formace zastavena nastupuj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mechanismus selektivního vybaven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A/SELEKTIVNÍ EXPOZICE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- je tendence individua vystavit se takové komunikaci, která je v souladu s jeho postoji. Tedy více či méně vědomě unikat sdělením s nimiž nesouhlasí  a naopak.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otikuřáckou kampaň nejvíce sledují nekuřáci.</a:t>
            </a:r>
            <a:br>
              <a:rPr sz="2800"/>
            </a:br>
            <a:br>
              <a:rPr sz="2800"/>
            </a:br>
            <a:r>
              <a:rPr b="1" lang="cs-CZ" sz="2800" spc="-1" strike="noStrike" u="sng">
                <a:solidFill>
                  <a:srgbClr val="ffff00"/>
                </a:solidFill>
                <a:uFillTx/>
                <a:latin typeface="Times New Roman"/>
              </a:rPr>
              <a:t>TEORIE KOGNITIVNÍ DISONANCE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jem selektivní expozice  je jednou z hlavních derivací Festingerovy teorie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kognitivní disonance.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tav kognitivní disonance nastává tehdy, když je jedinec nucen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astávat současně dva či více názorů, postojů či mínění, které jsou ve vzájemné opozici.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Teorie kognitivní disonance tvrdí, že: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tav disonance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lačí individuum k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rychlé změně</a:t>
            </a:r>
            <a:r>
              <a:rPr b="0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aby se zbavilo tohoto nepříjemného pocitu. Individuum můž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řestat kouřit nebo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aopak vytěsnit důvěryhodnost informac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 tom, že kouření vede k rakovině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kud to není možné musí hledat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oplňující ospravedlně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pro původní postoj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př. přesvědčit se, ž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isk plynoucí z kouře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je pro něho mnohem důležitější než potenciální nebezpečí z rakovin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yřešit takovou situaci duševní nepohody znamená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měnit vlastní  postoj tak, že jej konformizujeme s veřejným chováním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tzn., že musíme najít materiál  pro racionalizaci nechtěného postoje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844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Když se individuum ocitne v situaci, kdy je nucen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ednat veřejně, tak, že je to v rozporu s jeho vnitřními postoji a představami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, zakouší v této situaci stav </a:t>
            </a:r>
            <a:br>
              <a:rPr sz="2800"/>
            </a:b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disonance jak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sychické nepohody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Teorie kognitivní disonance vychází z toho, že individua se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/ pokoušejí zbavit disonantních pocitů, B/ mají tendenci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ktivně se vyhýbat  takovým informacím, které produkují disonanci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Tomu slouží mechanismus 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SELEKTIVNÍ EXPOZICE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2204640"/>
            <a:ext cx="91440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Hypotéza selektivní expozice má dvě komponenty. Předpokládá, ž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/  se budem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ktivně vyhýbat či budeme méně vnímaví k informacím,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jež jsou v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opozici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vůči našim postojům, míněním, chová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budeme vyhledávat takové informace, které podporují naše postoje, mínění a chová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okud by tato hypotéza  platila, pak by to znamenalo, ž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akákoliv persvaze,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jakékoliv mediální působení se setkává s již přijatými a schválenými postoji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Účinkem by pak mohlo být pouz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sílení stávajících postojů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(J. Klapper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Současný výzkum se soustřeďuje na analýzu podmínek, 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kdy budou opozitní informace vyhledávány či preferovány před informacemi, které potvrzují námi držené postoje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: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/ pokud půjde o význačnou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novou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informaci jejíž vysoká hodnota je předpokládán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(očekávání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Dále hraje roli zábavnost informace a osobní relevance pro publik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/ pokud je informace vnímána jako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užitečná pro řešení problém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/ pokud si je člověk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jistý ve svých postojíc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 neobává se jejich zpochybně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/ lidé se nevyhýbají nepříjemným informacím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kud s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acházejí v situaci,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ve skupině, kde je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otevřenost vysoce hodnocenou kvalito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/ naopak vyhýbají se takovým informacím, které j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ednoznačně podporují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v jejich pozici, a to pokud se v tét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pozici necítí jist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5T07:23:55Z</dcterms:created>
  <dc:creator>JV</dc:creator>
  <dc:description/>
  <dc:language>en-US</dc:language>
  <cp:lastModifiedBy>JV</cp:lastModifiedBy>
  <dcterms:modified xsi:type="dcterms:W3CDTF">2010-10-21T08:34:02Z</dcterms:modified>
  <cp:revision>11</cp:revision>
  <dc:subject/>
  <dc:title>III.3. REKLAMY JAKO GESTALT</dc:title>
</cp:coreProperties>
</file>