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DC39-86B6-4CAD-B527-F605F43F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EB9E-BAAA-4B14-B0E2-E5516C82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7A83-E41D-4BD9-B03F-659C7E4F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53D-1C9B-4144-A596-CEB4BDF2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A702-834B-4FB1-82C2-D9C29237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2C55-9DBE-49C0-860F-A15F4097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C874-552A-429C-883F-715E7913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5B32-CB3E-41C0-AEBA-E0DE7054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97E7-494E-44E5-8D76-69561546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A7FD-1E23-468D-86EB-619F8403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3E3A-FA86-43A2-BC24-40B25038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A57D-D68C-4AEC-96DA-56106084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4211-EC38-4FCD-8762-5DA428C5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01DB-231A-4A7F-ACF8-8B7F6455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FBAC-BDEF-4381-A4CE-CBE601CF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5D02-EE52-4D31-BA9E-9B7A6A98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2120-B228-49B4-B406-EC8D2963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553-CFC6-4949-9BD5-4B1C93F5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927-24C1-41EA-A2C3-CD331C2B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796-0F41-402C-BB1E-6E5D0B8D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A1BA-9502-4500-945C-2FB9B95F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92C-C60C-454D-BED4-E5BDED73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30B-2073-4F85-986E-0234FAD7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2F0-B4B5-4809-8323-5652992E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04D3-E43E-4A1C-A86D-C6D468FFB8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1029-504A-4C60-96B8-FE3D22096A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II. Úkol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zvolte libovolné mediální sdělení (nejlépe reklamní povahy) a pokuste se identifikovat v jeho rámci použité konstrukční principy vycházející ze základních percepčních zákonů tvarové (gestalt) psycholog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oto pojetí výrazně podtrhu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ivní roli příjem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který v rámci percepčního procesu přináší cosi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lastní informa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odobnost se sémiotickým přístupem je zřetelná v důrazu na aktivitu a individuálnost zpracování. Samotní sémiotici se ovš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zabývají vlastními podmínkami či příčinami za nichž k aktivní a de facto vždy individuální percepci docház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 to z pohledu vlastního psychického aparátu či ustrojení člověka. Sémiotici zůstávají většinou pouze u popisu mechanismu jak jsou jednotlivě zpracovávány jednotlivé znaky z pohledu jejich významové výstavby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941360"/>
            <a:ext cx="9144000" cy="19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cesu percepce dochází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strumentaci řady bitů informací, které jsou v tomto smyslu defacto rekonstruován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dyž cosi pozorujeme zapojujeme i svou minulou zkušenost (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rozdíl od fungování fotoaparátu, kamery apod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Tento vztah ke zkušenosti dobře dokládají případy lidí, kteří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získali opětovně zrak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Jsou bombardováni množstvím stimulů, které neznají a které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sou schopni interpretovat jen za pomoci různých smyslových zkušeností, nejčastěji  dotykové.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ýznam zkušenosti dokládá skutečnost, že například vnímání dvou/třídimenzionální informace je  pro od narození slepých jedinců nemožné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platí například i pro lidi, kteří nikdy neviděli fotografii a musí se jí učit číst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. KAZUISTIKA (Gregory, 1986)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řípad pacienta, který byl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lepý od dětství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 získal zrak po transplantaci rohovky v 52lete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jeho obraz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postrádal koherenci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-  vše splývá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stává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strach z chůz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, kterou jako slepý běžně zvládal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odel jeho vlastního bytu byl dotykový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vět byl dotykový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ajednou s novou vizuální zkušeností byl pro něho prostor extrémně konfúzní,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nedokázal posuzovat velikost a perspektiv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eho původní život, kdy neviděl  byl dán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linearitou a sekvenčností</a:t>
            </a:r>
            <a:r>
              <a:rPr b="0" i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aková percepční mapa ovšem neposkytuj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ostatečné informace o pohybu v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simultánním prostoru  a hloub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zvyklý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ekvenční a materiální svět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nebyl schopen vnímat dvoudimenzionální fotografie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iděl jen barevné skvr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kládal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ozmazané skvrny za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tváře jen díky tomu, že znal hlas daných osob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tato vizuální nezralost jej vedla k tomu, ž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nevnímal klasické optické iluz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například týkající záměny figury a pozadí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(Neckarova kostka apod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bez zralé vizuální zkušenosti skutečně viděl to, co mohl na poprvé pocítit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apříklad některé věci, které považoval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na základě hmatové zkušenosti za hezké a měl je rád byly najednou vizuálně odporné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ebyl schopen deficit ve vizuálním učení vykompenzovat či odstranit. Výsledkem byla skutečnost, ž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s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ociálně s tímto novým světem nevyrovnal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stupně u něho narůstá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epresivita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Umírá po dvou letech od tranplant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pad popisuje situaci člověka, který je plně schopný vnímat svět skrze zvuk a dotyk, ale jeho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mysl pro cel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yl na nulové úrovni.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rozvinutý vizuální kortex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ak vedl k tomu, ž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mohl vidět, ale n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nímat-percipovat ve vizuálním mód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Jde o důkaz význam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izuálního učení a paměti při vizuální percepci.</a:t>
            </a:r>
            <a:br>
              <a:rPr sz="2800"/>
            </a:b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o co naše oči registrují není obrazem reality. Spíše se dá říci, že náš mozek/ky kombinují informace zprostředkované očima s dalšími smysly a syntetizuje je s naší minulou zkušeností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akový obraz nám pak pomáhá s orientací v sociálním světě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. J. Gibso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zlišu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mezi obrazem na sítn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izuální pol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ntální aktivito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á vytváří ná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izuální svět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 A/ „Vizuál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le“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větla na sítni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atímc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 výsledkem dopa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 B/ „Vizuální svět“ j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interpretací vzorců světla jako reality.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izuální svět je interpretací reality ne realitou samotnou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obraz formovaný v mozku prostřednictvím integrace multisenzorických informaci a kulturní zkuše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o jde spíše o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ntální mapu, ne o teritorium v jeho úpl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de defacto o distinkci mezi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percepc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realitou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, o propast, kterou nelze nikdy uzavřít. To, co označujeme jako realitu je výsledkem procesu, který počíná světelnou refrakcí a končí komplexní dynamikou psyché.</a:t>
            </a: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ávě proto, že  věci vnímáme konzistent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věříme tomu, co vidíme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Nakonec tudíž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vidíme více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než realitu. Vidíme to co očekávám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např. některá výtvarná díla - Magri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 případě televize vnímáme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chybně okolo třiceti procent obsahu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 který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ztotožňujeme s teritoriem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 s mapo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nalogie mez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kem a fotoaprátem je nesprávná,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elikož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ítnicový obraz je toliko nejelementárnějším stádiem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v komplexním procesu „vidění“. Oko je pouze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iologickým nástrojem pro shromažďování informac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dostupným z vnějšího prostředí. Obraz, který nám oči zprostředkovávají nepracuje na rozdíl od fotoaparátu na základě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mechanismu zachycování obrazů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ale jde o komplexní proces zachycující existenci změny, formy a rysů, ve kterém jsou selektivně připravována data pro interpretaci v mozk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Současná vizuální teorie předpokládá, že vizuální paměť u vidících jedinců existuje jak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da reprezentativních tvarů, které obsahují invariantní, stálé, neměnné vlastnosti objektů v jejich různých užitích či situacích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Tyto neměnné vzorce u slepých od narození chybí. Tím jak vizuální zkušenost narůstá stávají se tyto vzorce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chématy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podle, kterých rozlišuje základní tvary a umožňují mezi nimi rozlišovat (viz díle percepční témata (Doris Graber)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3284640"/>
            <a:ext cx="91440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braz na sítni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frontován s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kušenostním schematem drženým v tzv. dlouhodobé pamě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Paměťová reprezentace tak výrazně ovlivňuje povahu percipovaného objekt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tínové divadl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pracující se základními charakteristikami např. zvířat je typickým příkladem existence takových sché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á se ovšem, ž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aměť nedrží tvary jednoznačně ve stejné podobě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Paměť je v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ermanentní proměně, a to pod vlivem nové zkušenost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de o otevřený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ystém vzájemného ovlivňování vizuální paměťové zkušenosti a nové vizuální zkuše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např.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traumatické zkušenosti jsou ukládány do odlišných částí moz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dyž si lidé vědomě vzpomenou na traumatický zážitek dochází k překrvení amygdaly a dochází k aktivizaci vizuálního kortex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ýsledkem mohou být intenzivní vizuál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lashback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vzpomínkové záblesk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zuje se tak de facto p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ychoanalytická teorie vytěsně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I.1.TEORIE  PERCEPCE: GESTALTISTICKÉ KOŘENY, HOLISTICKÁ PERCEPČNÍ ŠKOLA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ames Gibson (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The Ecological Approach to Visual Perception, 1979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důrazňuje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že obraz, který vidíme není dán hlavním stimulem, světlem, respektive jeho obsahem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l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jde primárně o diference mezi jednotlivými světelnými skvrnami. Vidíme na prvním místě rozdíly mezi nimi mezi těmito skvrnami, ale ne je samotné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ibson se přitom opírá 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stalt teorii a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důrazňuje, že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ce má holistickou-celostní povahu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APITOLA II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ERCEPCE V MASOVÉ  KOMUNIKACI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dnou z nejproblematičtějších vlastností komunikačních  modelů v první etapě výzkumu masových médií - tedy v etapě silných účinků, teorie injekční stříkačky, letící střely, (koncepcí které tvrdí, že média mají přímé a silné účinky) 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schopnost modelů silných účinků vyrovnat se záludnostmi percepčního mechanismu.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odely pracují  s představou sdělení jako šípu zasahujícího jeden cíl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pomíjejí ovšem právě vliv percepčního mechanismu jednotlivých příjemců, který zásadním způsobem ovlivňuje interpretaci sděl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GESTALT PSYCHOLOGIE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ce teoretiků tzv. gestalt (tvarové) psychologie se zaměřila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ynamickou percepční organizaci vnější zkušenosti do smysluplných celků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kladatelé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ax Wertheim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0-1943),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Wolfgang Köhl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7-1967) 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urt Koffk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6-1941) považují z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líčový organizující percepční princip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jednotu smyslů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á vzniká velmi časně. Jsou defacto první, kteř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upozornili na roli princip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jednoty-celos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v rámci procesu vnímán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ajímají 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echanismy kombinace částí do více méně smysluplných celků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ycházejí přitom z předpokladu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celek je více než pouhý součet částí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ZOMORFICKÁ TEORIE PERCEPCE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Max Wertheimer došel na základě percepčních experimentů k tomu, že klíčový je v percepci</a:t>
            </a:r>
            <a:r>
              <a:rPr b="1" lang="cs-CZ" sz="3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vztah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tedy cosi odlišného než co je obsaženo v jednotlivých oddělených vjemech. 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Nejde tedy o jednotlivá podráždění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Podle tohoto pojetí se zdá že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principy percepce leží mezi jevy, elementy a ne v nich samotných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Například př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transpozici melodie jsou užité noty jiné, ale melodie je stále rozpoznatelná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Melodie je tak funkcí vztahu mezi jednotlivými částmi notace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Podobně uvažují dnešní neurofyziologové, když předpokládají, že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neexistuje centrální dirigent, ale spíše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forma demokratické symfonie mezi jednotlivými částmi mozku.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‚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IGURA a POZAD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´figure' a 'ground')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elá teorie vychází z předpokladu existence univerzálních charakteristik lidské percep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bychom byli schopni identifikovat vizuální obraz musím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děl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minantní tvar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'figuru' s jejími hraničními konturami)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„pozadí- ground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“ toho co aktuálně odsouváme do pozad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008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princip ilustruje ambivalentní zobrazení dánského psychologa Edgara Rubina.</a:t>
            </a:r>
            <a:br>
              <a:rPr sz="2800"/>
            </a:b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ozhodující je to, co  v daném případě akcentujeme – bílá váz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černé siluet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Pokud akcentujeme siluety jde o figuru a zbytek odsouváme do pozadí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5370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Percepce či obraz organizován prostřednictvím dvou mechanismů: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koheze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izolac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nie umístěné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blízko seb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odobné barv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tvary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endují k formování jednotek jako ohraničených celků, jež jsou izolovány od ustupujícího poza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estalt psychologové vytvořili několik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univerzálních princip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někdy se hovoří 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konech percepční organizace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 hlavní můžeme považovat následující (terminologie se někdy částečně proměňuje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Zákony percepční organizace podle gestalt teorie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/ princip jednoduchosti, podobnosti (similarit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2/ princip blízkosti (proximity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3/ princip dobrého/hladkého průběhu (good continuatio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4/ princip uzavření (closur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5/ princip preference menšího tvaru (smallness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6/ princip ohraničení (surroundedness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7/ princip symetrie (symmetry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1/ / princip jednoduchosti, podobnosti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ruktura vyobrazených předmětů (tečky a čtverečky) uspořádané vertikálně a horizontálně tzn. že princip blízkosti není adekvátní. Vidíme ale střídání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loupců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 koleček a čtverečků. Je tomu tak proto, že máme tendenci asociovat podobné rysy. V případě nerozlišených objektů vidíme řádky i sloupce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292720" y="3646440"/>
            <a:ext cx="3095640" cy="2519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85680" y="3645000"/>
            <a:ext cx="3225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2/ Princip blízkosti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 percepčním procesu se sousední body nemusí dotýkat, aby byly logicky spojovány jako části většího významového, smysluplného vzorce.</a:t>
            </a:r>
            <a:br>
              <a:rPr sz="2400"/>
            </a:br>
            <a:r>
              <a:rPr b="1" i="1" lang="en-US" sz="2400" spc="-1" strike="noStrike">
                <a:solidFill>
                  <a:srgbClr val="feec94"/>
                </a:solidFill>
                <a:latin typeface="Times New Roman"/>
              </a:rPr>
              <a:t>Jeden  čtverec složený z teček v sérii sloupců. Charakteristiky, které jsou k sobě fyzicky blíž jsou snadněji asociovány.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64320" y="2276640"/>
            <a:ext cx="2479680" cy="2592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74800" y="2276640"/>
            <a:ext cx="2833560" cy="2592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246400" y="4995720"/>
            <a:ext cx="51339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rincip dobrého/hladkého průběhu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ákon hladkého průběhu vnímání předpokládá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kompletování již dříve vytvořených linií, ať už formálních nebo zkušenostních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okud vnímáme jakýkoliv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ambivalentní stimul -  vnímáme jej jako odraz toho co očekáváme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Tento princip říká, že kontury vycházející z plynulého průběhu preferujeme před změnou směru. Vidíme zde linie a-b a c-d, ale ne a-d,  c-b, a-c a d-b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7610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569080" cy="4581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upná modifikace tváře muže do postavy ženy </a:t>
            </a:r>
            <a:br>
              <a:rPr sz="28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slední kresba nahoře a první dole je ukázkou ambivalence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co platí pro ilustraci platí obecně i pro percepci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vnímáme to co je, ale to co chceme vidět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RO STUDIUM PÚSOBENÍ MASOVÝCH MEDIÁLNÍCH OBSAHÚ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JSOU DÚLEŽITÉ NÁSLEDUJÍCÍ OTÁZKY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Jaké mechanismy ovlivňují vnímání masových  méd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Jak je vnímána jejich realita na základě existujícího vědění - držených postojů, schémat, stereotyp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Jak může konzumace masových médií ovlivnit vnitřní prostředí jedince tj. jak může ovlivnit míra konzumace médií postoje, stereotypy a schémata. Tento proces zapadá do kategori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percepce sociální rea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kud je to tak, že percepční vzorce vytvářejí základy pro abstraktní myšlení a argumentování, pak je možné vidět v tomto základním principu nejen kořeny hladkého průběhu percepce, ale též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stereotypizování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stalt ovšem zdůrazňuje spíš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istenci vnitřních percepčních principů,  než že by mluvil o učení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5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obně je tom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dyž se díváme na oblohu, mraky nebo hvězdy tendujeme k využití vzorců, které byly vytvořeny dříve, jelikož poskytují stabilitu a vytvářejí význ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4/ Princip uzavření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ferujeme uzavřené tvary před otevřenými. Vidíme tři přerušené obdélníky. Princip uzavření přebíjí princip blízkosti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35164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5/ Princip preference menšího tvaru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nší oblasti máme tendenci vidět jako figury proti většímu pozadí.(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Vidíme  kříž spíše než bílé pozadí)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527280" cy="2808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39960" y="2276640"/>
            <a:ext cx="3127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6/ Princip symetrie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tevřené, nedokončené figury např. série teček jsou vnímány jako jeden trojúhelník, kruh nebo čtverec, když dosadíme chybějící linie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či tečky. Jde o nevědomý proces, ve kterém oko a mozek vytváří nejlepší nejsymetričtější formy. Uvedený princip znali už před gestaltisty pointilisté a impresionisté, kteří užívali vzorce světla na plátně (Cézan, Manet, Monet, Renoir)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43560" y="3647520"/>
            <a:ext cx="2350080" cy="24444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268360" y="3213000"/>
            <a:ext cx="1151280" cy="36450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9640" y="3213000"/>
            <a:ext cx="1439640" cy="36450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6858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3213000"/>
            <a:ext cx="0" cy="3456000"/>
          </a:xfrm>
          <a:prstGeom prst="line">
            <a:avLst/>
          </a:prstGeom>
          <a:ln w="572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3213000"/>
            <a:ext cx="367200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6597720"/>
            <a:ext cx="410544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284640"/>
            <a:ext cx="216000" cy="331308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7/ Princip ohraničení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blasti, které vidíme obklopené dalšími máme tendenci vnímat jako  figury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(davají dané znaky nějaký význam, lze je přečíst?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5280" y="3070080"/>
            <a:ext cx="8353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PRAGNANTZ PRINCIP</a:t>
            </a:r>
            <a:br>
              <a:rPr sz="24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šechny uvedené principy percepční organizace slouží nadřazenému principu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agnänz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ý říká, že dáváme přednost nejjednodušším a nejstabilnějších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interpretac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br>
              <a:rPr sz="24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ERCEPČNÍ ZKRESLENÍ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zhledem k tomu, že </a:t>
            </a: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ěříme tomu, co vidí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máme tak rádi optické iluze. Typickou ilustrací percepční iluze, které podléháme je existence </a:t>
            </a: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lepé skvrn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j. místo, kde se již nervové receptory nedotýkají sítnice. V této oblasti již nedisponuje sítnicovými receptory a proto neexistuje cesta jak předávat vizuální informace. Uvedená oblast musí být vyplněna percepčně. Této absence, jakési díry ve vidění si nejsme vědomi. Přesto vidíme celistvé obrazy. </a:t>
            </a:r>
            <a:br>
              <a:rPr sz="2800"/>
            </a:b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Tento model doplňování se odehrává obecně v celém procesu percepc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rvní data, které mozek vnímá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jsou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hraniční kontur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o umožňuje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lišovat jeden objekt od druhého a de facto nám tak pomáhá nenarážet do věcí okol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Následuje naplňování č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ování tohoto prázdného prostor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a to i chybějících detailů, a to za užití tzv. zprůměrňování přijímaných senzorických dat, například bare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oto percepční doplňování je paralelní s kognitivním zpracováním např. v rovině stereotyp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Obrazy formované vědomě i nevědomě vytvářejí percepční hranice a v jejich rámci pak více méně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utomaticky dosazujeme a zprůměrňujeme obsah vymezený těmito hranicemi.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o co doplňujeme tak defacto reálně neexistu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kud nechceme podlehnout tomuto stereotypnímu a automatickému myšlení musíme jej podrobovat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ustálým kritickým zkoumání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ro abstraktní myšlení a percepci hraje klíčovou roli schopnost skládat jednotlivé části do cel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Při vnímání věcí v našem okolí činíme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extrémně komplexní výkon derivování významů z odlišných  a oddělených elementů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Formování unifikovaného celku - tj. obrazu věcí odráž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listickou logiku, jež má své základy v evoluci percep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ato holistická schopnost organizovat věci do celků nám pomáhá např. oddělit telefonní přístroj od stolu, na kterém stoj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ěkdy se t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nepoved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ambivalence významů vede ke spojení jevů, které spolu nesouvisí. Příkladem je otázk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řešení ambivalentních významů, které mohou být interpretovány různými způsoby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Uvedený mechanismus ilustruje Rubinova iluze  „dvě tváře z profilu“, které se alternativně transformují do vázy, a to v závislosti na tom co vidíme jako figuru a co jako pozadí. 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Váza nebo tvář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Jde o ilustraci 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vztahu figury a pozadí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, které se alternativně prosazují jako figury.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Když jsou síly izolování a soudržnosti v rovnováze vzniká ambivalenc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Váza/ tvář model je ambivalentní protože variuje mezi dvěma interpretacemi, které nelze jednoznačně priorizovat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59280" y="3573360"/>
            <a:ext cx="3600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MÁ MATKA A MÁ TCHYNĚ. Poprvé publikována 1915. Jde 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ternativní portrét mladé ženy, která se proměňuje ve starou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Nos staré ženy je současně spodní čelistí mladé ženy.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Ať už vidíme jako první mladou nebo starou ženu svou roli zde hraje skutečnost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očekávání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064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/ 1 PERCEPCE A POHYB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hyb je pro naši percepci zásadní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dobně jako barv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registrován bezprostředně a automaticky percepčním systémem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zuální systém  byl vyvinut s tím cílem, aby nás varoval před nebezpečím. Proto reagujeme na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hyb jako na signál, který je potenciálně pozitivní nebo negativní změnou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álost je pak to, co se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děje“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Změny ve vizuálním poli vyžadují naši pozornost kvůli pohybu. Díky pohybu jsme lépe schopni porozumět struktuře objektu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hyb odhaluje třídimenzionální formu a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odděluje figuru od pozad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to zvířata při ohrožení tzv.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zmrznou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ž je de facto kamufláž pro přežití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k se pohnou odhalují své charakteristiky - tvar, velikost, směř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1/  Mullerova-Lyerova iluze OBR.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2/ Ďáblovy proměnlivé vidle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3/ Neckerova kostka 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56898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estaltisté byli první, kdo upozornili v rámci mechanismu percepce n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vědomé a automatické procesy, které organizují podráždění podle zkuše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ůrazňují přitom, že procesy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komprese a redukc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vizuální informac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ormují percepční elementy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do jejich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ejjednodušší a nejefektivnější podo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dyž sledujeme film nejsou tzv.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receptory krátkých záblesků schopny rozlišit mezi zdánlivým a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álným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pohybem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1/V prvním případě jde o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dojem pohybu ze dvou skutečně existujících stimulů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2/ V druhém o identifikaci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reálného pohybu, tak jak se normálně odehrává v přírodě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brázky v rychlém sledu na plátně ústí do </a:t>
            </a:r>
            <a:r>
              <a:rPr b="1" lang="en-US" sz="2600" spc="-1" strike="noStrike" u="sng">
                <a:solidFill>
                  <a:srgbClr val="feec94"/>
                </a:solidFill>
                <a:uFillTx/>
                <a:latin typeface="Times New Roman"/>
              </a:rPr>
              <a:t>iluze kontinuálního pohybu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ochází k tomu, že </a:t>
            </a:r>
            <a:r>
              <a:rPr b="1" lang="en-US" sz="2600" spc="-1" strike="noStrike" u="sng">
                <a:solidFill>
                  <a:srgbClr val="feec94"/>
                </a:solidFill>
                <a:uFillTx/>
                <a:latin typeface="Times New Roman"/>
              </a:rPr>
              <a:t>zdánlivý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ohyb a rychlé sekvence jsou čteny jako další stimuly s podobnými časovými a prostorovými charakteristikami. Pohyby na filmovém plátně identifikujeme podobně jako pohyby reálné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nes je rychlost pohybu jednotlivých políček standardizovaná. U prvních filmů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kolísala rychlost mezi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16 až 24 obrázky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za sekundu, takže při nižší rychlosti bylo vidět jejich běh, míhání. Jd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e facto o idiomatické vnímání filmu zmizel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nto fakt měl klíčový vliv pro roli médií jako zábavy. Ač považujeme daný film za plytký, stále jej pozorujeme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i sledujeme částečně i proto, že se obrázky pohybuj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kční film je v tomto smyslu dobrou ilustrac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odnocení umělecké úrovně pořadu je tak vlastně až sekundární zkušeností. Dialogy i akce jsou často příliš rychlé na to, aby byly analyzovány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víc těsně nastřihané události, akce působí na naši percepci a vyvolávají dojem kauzálního vztahu místo vědomí pouhé chronologie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de o jakousi ztrátu percepční logiky, která vysvětluje proč akční filmy navzdory absenci pevněji a logicky vystavěné zápletky jsou vnímány jako příběh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ávě pohyb obrázků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fram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je zdrojem speciálních efekt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Například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ilmování miniaturních modelů zvýšenou rychl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jejich následná projekce ve standardní rychlosti vyvolává dojem jejich „reálné“ očekávatelné velikost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Užívání pojm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EPC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se liší podle vědeckého pole či užité metodologie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3743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A/vjem, percepční pole, percepční plynul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kognitivní psycholog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ociální percepce, selektivní percepc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sociální psycholog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ercipovaná realita, percepce sociální real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komunikační věd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cepc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- je  proce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řijímán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pracován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informací prostřednictvím smyslů. Není to ovšem pouze pasivní mechanický proces (jako kamera nebo magnetofon) přijímání informací, ale spíš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ynamický proces zpracování informac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a v jistém smyslu produkování těchto sdělení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TO NEJJEDNODUŠŠÍ VYMEZENÍ ZDÚRAZŇU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ATEGORIZAČNÍ FUNK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ERCEPČNÍHO MECHANISMU, KTERÁ ALE SLOUŽÍ FUNKCI OBECNĚJŠÍ –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DAPTAĆNÍ,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(percepční ostražito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ercepce je komplexní proces, při kterém lidé (a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(b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z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(c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pret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senzorickou stimulaci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ysluplného a koherentního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obrazu světa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V tomto procesu tedy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nemůžeme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 hovořit o jednoznačné korespondenci mezi vnější realitou a jejím zpracováním individuem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Staré mechanistické koncepce naopak předpokládaly, že všichn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vnímají jevy stejně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resp., že  v případě vnímání  jednoho konkrétního objektu je tento vnímán  totožně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Jde o posun od pozitivistického ke  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A/ kogntivistickému a B/ konstruktivistickému 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přístup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7:36:08Z</dcterms:created>
  <dc:creator>JV</dc:creator>
  <dc:description/>
  <dc:language>en-US</dc:language>
  <cp:lastModifiedBy>JV</cp:lastModifiedBy>
  <dcterms:modified xsi:type="dcterms:W3CDTF">2010-11-12T07:51:51Z</dcterms:modified>
  <cp:revision>6</cp:revision>
  <dc:subject/>
  <dc:title>KAPITOLA II. PERCEPCE V MASOVÉ  KOMUNIKACI</dc:title>
</cp:coreProperties>
</file>