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2223-F9A2-4894-BE25-C2F8A932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F8A9-0717-48AB-9D18-D69117FE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9CB7-9E72-4FE8-8057-F2F1322B5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5372-EB87-4F19-ABCA-539D990D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F448-10CB-44F4-AF44-D99D99F7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89E0-9024-49EB-A404-9F6E0E57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CD51-DF16-429F-913B-52DBD5BB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3EF4-11DC-4E5C-86F0-00FB8843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D42F-6B30-4C45-8745-2D37E5DD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D4D4-4109-4D1B-B1D2-22706705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3C7C-0DDA-4103-A5EB-837BB418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B2F1-67C6-47C0-AFCA-F0157111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9F57-4876-4236-AC79-C18897C5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9CAD-3673-4BF1-907B-049F7940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A873-31C3-400D-B9A6-30106A7F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2524-6E66-42A1-B1D1-1ADA3FA8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53B2-7053-4434-8297-AC42C95F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C4EA-BBFA-4839-A6AD-59F7EE73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0E5A-FD63-429A-AD51-0178D23B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4CD2-C7CF-4E0E-8EAA-4F2D2519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F1E-CF18-46FC-AC3F-060699A1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CF21-ADF1-42F2-A759-78ADC53C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2729-8212-4E73-89E4-1323638B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FFC1-D6C5-4057-9778-4F0E6F51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D28B-F8AE-4B83-BE9F-49E7A80CE0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24D7-2905-4F21-878A-D0A88C8B4C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V. KAPITOLA: SOCIÁLNÍ PERCEPCE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orie sociální percep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klade na první místo v procesu vnímání sociální zkušenost jedince a obecně sociální faktory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rozdíl od neurofyziologie, která se soustřeďuje především na stav receptorů individua a na vlastnosti vnímaných objektů).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997360"/>
            <a:ext cx="9144000" cy="386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V důsledku existence sociálních faktorů, sociální zkušenosti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vidíme „věci o sobě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le máme tendenci vnímat to, co konven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ašim potřebám a očekává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Percepce a interpretace skutečnosti je určována aktuálními motivy, respektive zkušeností a formuje se v průběhu sociálního vývoje jedi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B/ SELEKTIVNÍ POZORNOST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takový proces, při kterém věnuje jedinec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zornost jen těm částem sdělení, které jsou v souladu s jeh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íněním a snaží se vyhnout protichůdným sdělením. Jde o situace, kdy jedinci nejsou schopni dopředu posoudit, zda budou percipovaná sdělení v souladu s jejich  postoj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 rozdíl o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jde o parciální proces, při které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dochází k hlubšímu zpracován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vyhodnocení informací. Vymazávání pozornosti při sledování násilných scén na TV  obrazov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164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PERPCEP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psychický proces, při kterém jedinec „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ypíná“ vědomou pozorno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kud je vystaven situaci, kdy dostává sdělení, která odporují jeho postojům a naopak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zapín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 pozornost v opačném případě. Nejpodstatnější charakteristikou tohoto psychického procesu je skutečnost, že v rámci této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nepozornosti“ ale aktivně/nevědomě přepracovává sdělení k „obrazu svému“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G. Allport - Postmann L.: The Basic Psychology of Rumor,194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Studie orientovaná na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éma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šíření pomluv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Pokusili se ilustrovat jak se průběhu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sociálního sdílení a šíření informace proměnilo verbální sdělení tak, aby odpovídalo existujícímu povědomí a postojům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 byl předveden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obrázek ostré hádky mez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černým a bílým mužem, na kterém drží běloch v ruce břitv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a ohrožuje Afroameričana.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Probandi měli tento obráz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opsat další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, kteří jej měli popsat další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t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 průběhu následných postupujících komunikačních kontaktů se b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řitva postupně přesunula z ruky bělocha do ruky  Afroameričana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teriál, který neodpovídá percepčním zkušenostem individua musí být přepracován  tak, aby odpovídal jeho osobním potřebám a zájmům.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 co bylo vnější stává se vnitřním, co bylo objektivním  stává se subjektiv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38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RETEN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 tendence individua znovu si vybavit pouze ty informace, které jsou v souladu s jeho potřebami, postoji a dalšími psychologickými charakteristikami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de  o to udržet v paměti v aktuálním a vyvolatelném stavu ty informace, jež posilují názory individua a vytěsnit ty, jež jsou mu nepříjemné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JONES, KOHLER, 1958)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ě skupin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stoupenci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egregace afroameričan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b/ její odpůrc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Dostaly za úkol naučit se výrok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, které byl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jednak ostř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rotičernošsk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 a jednak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ti apartheidu, pro rasovou rov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ásledně byla testována schopnost jak si jednotliví členové obou skupin byli schopni vybavit jednotlivé výrok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„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Segregacionisté“ jednoznačně lépe vybavovali ty výroky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které konvenovaly s jejich protičernoškými postoj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KULTURNÍ OČEKÁVÁNÍ</a:t>
            </a: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cepci formuje předchozí zkušenost a ovlivňuje ji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ciální očekáv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motivace a potřeby, nálady a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141200"/>
            <a:ext cx="9144000" cy="57164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vě skupiny dětí mezi 7-9 le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z nejnižších soc. vrstev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z nejvyšších soc. vrste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staly za úkol nakreslit mince (od dvoucentu až po půldolar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razně větší rozměr připsaly jednotlivým mincí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ti z nejnižších vrstev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Jde o příklad přecenění sociálního faktu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robandi dostali v temné místnosti dva výstřižky  ze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stejného materiálu a stejné barvy (zelené):                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list  jabloně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oslíka“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Oba výstřižky nasvíceny červeným kašírovacím světlem, které překrylo původní barv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spondenti byli dotázáni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A/ „Zda jsou oba výstřižky stejně  barevné?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B/„O  jakou intenzitu barvy jde?“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Jako  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zelenější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byl vnímán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list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oslíka“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byl zdůrazňován odstín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do šeda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4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o člověk vnímá a jak to vnímá je dáno jeho základním zacílením. Klíčovou roli zde hra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čekávání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e kterém lze určit čtyři funkce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fixaci b/ organizaci/ selektivitu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/ akcentac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501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fix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list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dle pamě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pisován jako zelený, oslík jako šed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organiz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preferenc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ntu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 obou výstřiž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selektivita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z míry možných očekávání se uplatnil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n jedno vedoucí k závěru o možných barvá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4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kcentace očekává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výsledkem je, že  dominoval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rčitý způsob vním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cClelland a Atkinson, 194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ESIGN VÝZKUMU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 rámci přijímacího řízení na námořní školu – kurs pro námořníky na ponorce. Jako součást testů  prověřována i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schopnost zvládnout  alimentární depriva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Vytvořili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tři skupiny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- jedna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hladověla 16 hodin, druhá 4 a třetí hodinu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. V průběhu hladovění museli probandi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identifikovat na plátně objekty, které jim byly údajně promítány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Dostávali   takové instrukce jako: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na plátně jsou tři objekty, popište je“.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 narůstající dobou hladovění stoupal i počet „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viděných  objektů, které souvisely s potravou“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ěříme tomu, co vidíme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tomu tak proto, že rozvíjíme stále stejné percepční dovednosti, které nás vedou k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hodě  na „objektivní realitě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kální skeptici trvají na tom, ž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ní jasné zda máme nejmenší důvod předpokládat, že druzí mají cokoliv, co můžeme považovat z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olečnou zkušenost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zuální zkušenost může být dána čímsi, co si jiní nedokáží představ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agby, 1957)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anáct partnerských amerických párů a 12 mexických pár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jma  jediného žádný nikdy neopustil zemi, kde dlouhodob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žily i jejich rodiny. Každé dvojici promítnuto deset párů diapozitivů, které zobrazovaly 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jednu aktivitu typickou pr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(severo)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americkou kulturu (např. basebal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pro mexickou kulturu ( býčí zápas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 60s  expozici každé dvojice obrázků byli respondenti dotázáni co viděli.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minance jednotlivých očí byla eliminována randomizac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i experimentu byly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užity speciální /prizmatické/ brýle, které umožňují vysílat na každé oko jiný obraz. U většiny lidí je to tak, že v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řípadě komunikace dvou obrazů vidí pouze jeden nebo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občas pak jakýsi mix obojího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To ovšem až po té co vidí jeden z obrázků samostatně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jevila s jednoznačně preference obrázků z vlastní kultu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Toch, Schulte, 1961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oložili si otázku,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zda ti, kteří se dnes a denně setkávají s násilím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pracovníci kriminální policie - 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budou při jeho vnímání citlivější, respektive zda jej budou vidět i v situacích, kde jej ostatní nevid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sledně  je srovnali se studenty prvního ročníku psychologie. Oběma skupinám byl promítnut film kombinující násilné, agresivní i  neutrální scén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olicisté viděli – popisovali „viděli“  dvakrát tolik násilných scé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Lucas, 1945)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braní jedinci byl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hypnózou uvedeni do dobré nálad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a bylo jim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mítnuto šest obrázků, které měli popsat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. Pak dostali v hypnóze příkaz na tyto obrázky zapomenout a byli uvedeni do depresivní nálady. Následně  jim byli promítnuty tytéž obrázky a měli je znovu pops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opisy stejných obrázků v odlišných psychických situacích byly výrazně odlišné, a to v závislosti na náladě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eadowcraft a Zillmann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9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kázali, že výběr televizního žánru koreluje s fáz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nstruačního cyklu (v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emenstruační fázi volily ženy z nabídky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y významně častěj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rama a naopak nejméně často komedi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0008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litická karikatura proti předsudkům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ahoda–Cooper, 1947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Analýza efektivity karikatur zaměřených proti předsudkům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o hlavní hrdina karikatur vystupoval Mr. Biggott, který s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kytoval v situacích, kdy se předsudky jevily jako směšné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orek čítal 160 bílých nežidovských dělník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ě třetiny z respondentů sadu karikatur (kampaň) vůbec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pochopilo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ěkteří dokonce tvrdili, že cílem bylo legitimovat předsudek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hápali smysl karikatur tak, že de facto ujišťoval ostatní, aby si klidně drželi své předsudky podle logiky </a:t>
            </a:r>
            <a:r>
              <a:rPr b="0" i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jiní je mají také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lépe rozuměli karikaturám ti, kteří předsudeční nebyl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hůře naopak ti nejpředsudečn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JAKO KLÍČOVÝ DÚVOD NEÚSPĚŠNOSTI KAMPANĚ BYL IDENTIFIKOVÁN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STRACH Z NESOUHLASU REFERENČNÍ SOCIÁLNÍ SKUPINY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. PŘESNĚJI </a:t>
            </a:r>
            <a:r>
              <a:rPr b="1" lang="cs-CZ" sz="2300" spc="-1" strike="noStrike">
                <a:solidFill>
                  <a:srgbClr val="ffff00"/>
                </a:solidFill>
                <a:latin typeface="Times New Roman"/>
              </a:rPr>
              <a:t>OČEKÁVÁNÍ 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 NESOUHLASU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esměšňování předsudků není efektivní. Satirické karikatury jso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ipován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na základě vlastních postojů. Výsledkem pak je, ž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DÉ S PŘEDSUDKEM VNÍMAJÍ V KARIKATURÁCH SVÉ VLASTNÍ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2465280"/>
            <a:ext cx="9144000" cy="439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VĚRY JEDNOTLIVÝCH STUDIÍ NAZNAČUJÍ, ŽE 1/5 - 1/3 RESPONDENTŮ JE IMUNNÍ VŮČI UVEDENÝM SELEKTIVNÍM MECHANISMŮ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ecným závěrem pak j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omerční charakter masové komunikace si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vynucuje produkci jen těch postojů a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hodnot, proti nimž obecně není námitek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asově komunikační prostředk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íce posilují  status quo než způsobují postojovou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PERCEPČNÍHO SCHEMATU (DORIS GRABER, 1988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6480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cepční  sché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estává z jistého organizovaného vědění, které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ýká   konkrétní/h situace/í a individuí. Toto věd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abstrakcí jistých původních zkušenost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Jde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akýsi přede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řipravený skelet-matri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do kter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sou vkládány nové inform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raberová říká, že lidé jso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ognitivní lenoš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„skrblíci“)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cognitive misers/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mentálně pohodlní, a to i pr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, že mají omezené schopnosti zpracovávat komplexní informace a rychle se uchylují 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ytváření simplifikovaných mentálních model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4920" cy="34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raberová analyzovala percepční zpracování hlavních zpráv v denících a v TV. Objevila různé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rategie jak se lidé vyrovnávají s novými mediálními informacemi.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mechanismus označuje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ŘIPODOB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matching). Nová zpravodajská informace je přizpůsobena  schématu vytvořenému na základě předcházejících zpráv 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en Zeman to je celej Klaus“ apod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)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nto mechanimus funguje jednak jako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ouběh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(interference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stých událostí n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kladě aktuální věcné podob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říměří v Libanonu nebude mít dlouhého trvání neb v S. Irsku to taky dlouho nefungoval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vícenásobná integr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 několika schématy či dimenzemi těchto schémat /zpráva o vstupu d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 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vztahována k témat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zaměstna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ašeho potenciálního ohrožení z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ěmecka, resp. sudetských Němc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ímé spojování zpráv s danými schématy je výrazně ovlivněno mechanismem, který Graberová označuje jak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cueing“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dát narážku, podnět k jednání). Tento mechanismus spouštějí média prostřednictví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tulků, hedlajnů, grafiky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pod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příklad řazení zpráv realizované tímto způsobem vede k tomu, že po zprávě o našem připravovaném vstupu do EU následuje úvaha o tom, že Němci vykupují pozemky v Čechách (témata jako přemalování šipek na silnici, velikosti včelařských rámečků, nezaměstnanost apod.)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SHRNUTÍ STU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DÉ MAJÍ SKLON PŘI KONZUMACI MEDIÁLNÍ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DĚLENÍ UKLÁDAT V PAMĚTI ZÁVĚRY VYPLÝVAJÍC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Z DŮKAZŮ, ALE NE DŮKAZY SAMOTN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d termí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ůžeme zahrnout percepční mechanismy, které jistým způsobe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vlivňují, posouvají či zkresluj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ůvodní inform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to mechanismy, al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fungují uniformě u každého individ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IV.1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LEKTIVITA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 JAKO JEDEN Z KLÍČOVÝCH PERCEPČNÍCH MECHANISMÚ</a:t>
            </a:r>
            <a:br>
              <a:rPr sz="2600"/>
            </a:br>
            <a:br>
              <a:rPr sz="2800"/>
            </a:b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Existuj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ři základní teori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vysvětlující percepční mechanismus, respektive selektivitu při vnímání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uč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představy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že jsm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álními živočich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ří svá rozhodnutí či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ě nejlepších informac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které jsou k dosaž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teorie konzisten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resp. teorie kognitivní disonance)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toho, že js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alizující a ne racionální živočichov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roto reagujeme většinou na sdělení tak, že se při jeho přijímáni nebo nepřijím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nažíme vždy ospravedlnit a ochránit naše již existující mínění, postoje a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funkcionální teori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ředpokládá, že přijímáme nové postoje v situac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dy naplňují nějakou naši potřebu, respektive, že udržujeme své postoje do té doby dokud jsou pro nás užitečn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TYTO TEORIE SE NEVYLUČUJÍ, ALE JSOU TŘEMI RŮZNÝMI ZPŮSOBY VYSVĚTLENÍ REAKCÍ V NAŠEM PŘÍPADĚ MEDIÁLNÍHO PUBLIK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Selektivní expozice, B/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pozorn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Selektivní percepce, D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reten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Některé informace, které jsou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dnoznačně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přijatelné nepřipustí individuum hned na počát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V případě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xu přijatelných a nepřijatelných sdělen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ěnuje pozornost pouze přijatelný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 Pokud projde informace dále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elektivní percepce při vlastním dekódování sdě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/ Pokud ani v tomto případě není selektivn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ormace zastavena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echanismus selektivního vybav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A/SELEKTIVNÍ EXPOZI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- je tendence individua vystavit se takové komunikaci, která je v souladu s jeho postoji. Tedy více či méně vědomě unikat sdělením s nimiž nesouhlasí  a naopak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ikuřáckou kampaň nejvíce sledují nekuřáci.</a:t>
            </a: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KOGNITIVNÍ DISONANCE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jem selektivní expozice  je jednou z hlavních derivací Festingerovy teori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gnitivní disonance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v kognitivní disonance nastává tehdy, když je jedinec nucen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astávat současně dva či více názorů, postojů či mínění, které jsou ve vzájemné opozici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eorie kognitivní disonance tvrdí, že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v disonanc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lačí individuum k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rychlé změně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by se zbavilo tohoto nepříjemného pocitu. Individuum mů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stat kouřit neb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opak vytěsnit důvěryhodnost inform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tom, že kouření vede k rakovin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d to není možné musí hleda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plňující ospravedl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ro původní postoj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. přesvědčit s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isk plynoucí z kouř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pro něho mnohem důležitější než potenciální nebezpečí z rakovin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řešit takovou situaci duševní nepohody znamen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t vlastní  postoj tak, že jej konformizujeme s veřejným chování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zn., že musíme najít materiál  pro racionalizaci nechtěného postoj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ž se individuum ocitne v situaci, kdy je nuce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dnat veřejně, tak, že je to v rozporu s jeho vnitřními postoji a představami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, zakouší v této situaci stav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disonance jak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sychické nepohody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kognitivní disonance vychází z toho, že individua s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 pokoušejí zbavit disonantních pocitů, B/ mají tendenci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ktivně se vyhýbat  takovým informacím, které produkují disonanci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mu slouží mechanismus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ELEKTIVNÍ EXPOZICE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ypotéza selektivní expozice má dvě komponenty. Předpokládá,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 se bude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ktivně vyhýbat či budeme méně vnímaví k informacím,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jež jsou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z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ůči našim postojům, míněním,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udeme vyhledávat takové informace, které podporují naše postoje, mínění a ch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kud by tato hypotéza  platila, pak by to znamenalo, ž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akákoliv persvaze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ékoliv mediální působení se setkává s již přijatými a schválenými postoj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em by pak mohlo být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ílení stávajících postoj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J. Klappe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učasný výzkum se soustřeďuje na analýzu podmínek,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 budou opozitní informace vyhledávány či preferovány před informacemi, které potvrzují námi držené postoj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pokud půjde o význačnou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ovou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informaci jejíž vysoká hodnota je předpokládán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očekávání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Dále hraje roli zábavnost informace a osobní relevance pro publik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pokud je informace vnímána jak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užitečná pro řešení problém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pokud si je člově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istý ve svých postojí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eobává se jejich zpochyb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lidé se nevyhýbají nepříjemným informací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kud 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cházejí v situaci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e skupině, kde j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tevřenost vysoce hodnocenou kvalit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 naopak vyhýbají se takovým informacím, které 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dnoznačně podporuj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v jejich pozici, a to pokud se v té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zici necítí ji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7:23:55Z</dcterms:created>
  <dc:creator>JV</dc:creator>
  <dc:description/>
  <dc:language>en-US</dc:language>
  <cp:lastModifiedBy>JV</cp:lastModifiedBy>
  <dcterms:modified xsi:type="dcterms:W3CDTF">2010-10-21T08:33:38Z</dcterms:modified>
  <cp:revision>11</cp:revision>
  <dc:subject/>
  <dc:title>III.3. REKLAMY JAKO GESTALT</dc:title>
</cp:coreProperties>
</file>