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7A5296-AC85-4B7C-A103-4F01A1B238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69B26-2098-4B3F-95A8-790D7F8CF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705C29-4F5A-4A87-B058-58C84967B5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648274-3373-4EF4-841C-9617B588F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623CAC-2F78-42F9-8FE1-178239B0F2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D57592-7DE7-4E62-97A6-20B3DFFF56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498BD7-0B60-410D-BB25-8B039DB165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0894C4-0BB8-421B-BD00-68F58E8974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19FE2C-9CF1-4E91-94BF-C9BF6B90F1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35EBDA-1BA4-4184-8D29-E9A64FE0AD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9F3811-0514-4715-A673-CA41E28B32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E9743-BFCA-4F58-938F-4CEAE346E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6DC64-0F69-46C7-BD4B-2269F84F8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D6DD8-5BE0-4600-B091-9C2F8C548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CBDF8C-F68F-4A1F-9734-A446E6E9A5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F51F63-2F22-4FFD-8BDD-B43F01AC44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33118E-C175-4668-BE70-08BDD523CF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0AA19-BAB4-4C1C-807D-0ACD6832C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4CB41-1458-4A54-8A84-D7D8C6CDC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4916C-4535-4577-A41E-97CCEE025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6391C-C3EC-4F41-96B7-52F40547C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41E91-031F-4CAC-AAE0-7FCA544D0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F2BDA-533D-41D1-A294-3F3E7E1A4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3CDCE-7E84-435E-9503-D1B683E5AE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D2B6C-7D7E-4DBA-88BC-A13CCCE5F62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9FEC6-D676-4056-AE2C-8B941F8F494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zcr.cz/Odbornik/Banner.aspx?id=200"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knihkupectvi-papyrus.cz/ImageHandler.ashx?size=2&amp;img=aHR0cDovL3d3dy5zYWdpdC5jei9vYmFsa3kvOTg1JTJEM0QlMkVnaWY="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hyperlink" Target="http://www.knihkupectvi-papyrus.cz/ImageHandler.ashx?size=2&amp;img=aHR0cDovL3d3dy5zYWdpdC5jei9vYmFsa3kvOTk5JTJEM0QlMkVnaWY=" TargetMode="External"/><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hyperlink" Target="http://portal.gov.cz/app/zakony/zakon?q=148/2012" TargetMode="External"/><Relationship Id="rId2" Type="http://schemas.openxmlformats.org/officeDocument/2006/relationships/hyperlink" Target="http://portal.gov.cz/app/zakony/zakon?q=240/2012" TargetMode="External"/><Relationship Id="rId3" Type="http://schemas.openxmlformats.org/officeDocument/2006/relationships/hyperlink" Target="http://portal.gov.cz/app/zakony/zakon?q=296/2012" TargetMode="External"/><Relationship Id="rId4"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hyperlink" Target="http://portal.gov.cz/app/zakony/zakon?q=189/2009" TargetMode="External"/><Relationship Id="rId2" Type="http://schemas.openxmlformats.org/officeDocument/2006/relationships/hyperlink" Target="http://portal.gov.cz/app/zakony/zakon?q=31/2010" TargetMode="External"/><Relationship Id="rId3" Type="http://schemas.openxmlformats.org/officeDocument/2006/relationships/hyperlink" Target="http://portal.gov.cz/app/zakony/zakon?q=55/2011" TargetMode="External"/><Relationship Id="rId4"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hyperlink" Target="http://portal.gov.cz/app/zakony/zakon?q=423/2004" TargetMode="External"/><Relationship Id="rId2" Type="http://schemas.openxmlformats.org/officeDocument/2006/relationships/hyperlink" Target="http://portal.gov.cz/app/zakony/zakon?q=39/2005" TargetMode="External"/><Relationship Id="rId3" Type="http://schemas.openxmlformats.org/officeDocument/2006/relationships/hyperlink" Target="http://portal.gov.cz/app/zakony/zakon?q=275/2007" TargetMode="External"/><Relationship Id="rId4"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475920"/>
            <a:ext cx="7846920" cy="25923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Právní předpisy ve zdravotnictví</a:t>
            </a:r>
            <a:endParaRPr b="0" lang="en-US" sz="5400" spc="-1" strike="noStrike">
              <a:solidFill>
                <a:srgbClr val="ffffcc"/>
              </a:solidFill>
              <a:latin typeface="Tahoma"/>
            </a:endParaRPr>
          </a:p>
        </p:txBody>
      </p:sp>
      <p:pic>
        <p:nvPicPr>
          <p:cNvPr id="89" name="" descr="Ošetřovatelství a nelékařská povolání">
            <a:hlinkClick r:id="rId1"/>
          </p:cNvPr>
          <p:cNvPicPr/>
          <p:nvPr/>
        </p:nvPicPr>
        <p:blipFill>
          <a:blip r:embed="rId2"/>
          <a:stretch/>
        </p:blipFill>
        <p:spPr>
          <a:xfrm>
            <a:off x="2987640" y="3429000"/>
            <a:ext cx="2808360" cy="208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ělba moci ve státě</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výkonná –  prezident, vlád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zákonodárná -parlamen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soudní – Ústavní soud, sou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ezident</a:t>
            </a:r>
            <a:r>
              <a:rPr b="0" lang="en-US" sz="3200" spc="-1" strike="noStrike">
                <a:solidFill>
                  <a:srgbClr val="ffffff"/>
                </a:solidFill>
                <a:latin typeface="Arial"/>
              </a:rPr>
              <a:t> je hlavou státu</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n v přímých volbách</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bní období 5 le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k 40 l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Vlád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rcholný orgán výkonné  moc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dseda, místopředsedové, ministř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a Poslanecké sněmovně</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c zákonodárná</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Parlament</a:t>
            </a:r>
            <a:r>
              <a:rPr b="0" lang="en-US" sz="3200" spc="-1" strike="noStrike">
                <a:solidFill>
                  <a:srgbClr val="ffffff"/>
                </a:solidFill>
                <a:latin typeface="Tahoma"/>
              </a:rPr>
              <a:t> – dvě komory – Poslanecká sněmovna a Sená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slanecká sněmovna</a:t>
            </a:r>
            <a:r>
              <a:rPr b="0" lang="en-US" sz="3200" spc="-1" strike="noStrike">
                <a:solidFill>
                  <a:srgbClr val="ffffff"/>
                </a:solidFill>
                <a:latin typeface="Tahoma"/>
              </a:rPr>
              <a:t> – 200 poslanců, voleni na dobu čtyř le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nát</a:t>
            </a:r>
            <a:r>
              <a:rPr b="0" lang="en-US" sz="3200" spc="-1" strike="noStrike">
                <a:solidFill>
                  <a:srgbClr val="ffffff"/>
                </a:solidFill>
                <a:latin typeface="Tahoma"/>
              </a:rPr>
              <a:t> – 81 senátorů, voleni na dobu šesti let</a:t>
            </a:r>
            <a:endParaRPr b="0" lang="en-US" sz="3200" spc="-1" strike="noStrike">
              <a:solidFill>
                <a:srgbClr val="ffffff"/>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soudní</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Ústavní soud-</a:t>
            </a:r>
            <a:r>
              <a:rPr b="0" lang="en-US" sz="2800" spc="-1" strike="noStrike">
                <a:solidFill>
                  <a:srgbClr val="ffffff"/>
                </a:solidFill>
                <a:latin typeface="Arial"/>
              </a:rPr>
              <a:t> ochrana ústavnost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soudců</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le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oudy</a:t>
            </a:r>
            <a:r>
              <a:rPr b="0" lang="en-US" sz="2800" spc="-1" strike="noStrike">
                <a:solidFill>
                  <a:srgbClr val="ffffff"/>
                </a:solidFill>
                <a:latin typeface="Arial"/>
              </a:rPr>
              <a:t> – Nejvyšší  soud, Nejvyšší správní soud, vrchní, krajské a okresní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ávislé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dc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em stanoveným způsobem poskytují ochranu právům</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n soudy rozhodují o vině a trestu za trestné čin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odvětví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ahové uspořádání právních předpisů (záleží na jejich obsahu, nikoliv na právní síle), tz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bor obsahově příbuzných právních předpisů (např. právo občanské, rodinné, obchodní, trestní, finanční, správn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ávo soukromé a právo veřejné</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soukrom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zásada - „každý může činit, co není zákonem zakázáno“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vnost účastník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smlouva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občanské, rodinné, obchodní, pracovní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veřejn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ásada - „nikdo nesmí být nucen činit, co zákon neukládá“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dřízenost (státu, státních orgánů) a podřízenost (ostatních subjekt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úřední rozhodnutí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správní, trestní, finanční, živnostenské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 účinnost právních předpisů</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 č. 309/1999 Sb., o Sbírce zákonů a Sbírce mezinárodních smluv, v platném zně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končen legislativní proces, tj. když byl přijat a schválen způsobem a orgánem k tomu určeným a byl řádně vyhlášen, publikován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stává dnem jeho vyhlášení ve Sbírce zákonů, tím se stal součástí právního řádu (v záhlaví příslušné částky Sb. uveden jako den rozeslání této částky)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tnost právního předpisu je podmínkou jeho účinnost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Účin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vinnost se předpisem řídit, dodržovat jej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ho adresátům z něho vyplývají práva a povinnosti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Časový moment počátku účinnosti:</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rmín stanoven přímo v právním předpisu - různě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dnem po vyhlášení, není-li stanovena účinnost pozdějš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 časovým odstupem vůči jeho platnosti (možnost seznámit se s ním a připravit se na jeho používá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ýjimečně - dnem vyhlášení (tj. současně s platností)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kace právních předpis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ve Sbírce zákonů (Sb.) – vydává Ministerstvo vnitr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a zákonů je členěna n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zákon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mezinárodních smluv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 </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normy</a:t>
            </a:r>
            <a:r>
              <a:rPr b="0" lang="en-US" sz="3200" spc="-1" strike="noStrike">
                <a:solidFill>
                  <a:srgbClr val="ffffff"/>
                </a:solidFill>
                <a:latin typeface="Tahoma"/>
              </a:rPr>
              <a:t> jsou: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všeobecně závazná pravidla chování,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vořena a vydávána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slušnými státními orgány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depsaným postupem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předepsané písemné formě,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ejichž dodržování je vynutitelné státní moc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rPr>
              <a:t>Úmluva o lidských právech a biomedicíně</a:t>
            </a:r>
            <a:endParaRPr b="0" lang="en-US" sz="40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Úmluva o lidských právech a biomedicíně byla otevřena k podpisu dne 4. dubna 1997 ve španělském Oviedu, 1. prosince 1999 vstoupila v 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Česká republika ji podepsala 24. června 1998. Vláda ČR uložila Ministerstvu zdravotnictví usnesením č. 403 ze dne 10. června 1998 předložit Úmluvu Parlamentu České republiky k vyslovení souhlasu.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oces ratifikace byl dokončen podpisem prezidenta. Ratifikačni listiny byly 22. června 2001 uloženy u generálního tajemníka Rady Evropy, smlouva vstoupila v platnost 1. října 200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čel a předmět</a:t>
            </a:r>
            <a:br>
              <a:rPr sz="4000"/>
            </a:br>
            <a:r>
              <a:rPr b="0" lang="en-US" sz="4000" spc="-1" strike="noStrike">
                <a:solidFill>
                  <a:srgbClr val="ffffcc"/>
                </a:solidFill>
                <a:latin typeface="Arial"/>
              </a:rPr>
              <a:t> čl.1</a:t>
            </a:r>
            <a:endParaRPr b="0" lang="en-US" sz="40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luvní strany budou chránit důstojnost a svébytnost všech lidských bytostí a každému bez rozdílu zaručí úctu k integritě jeho bytosti a ostatní práva a základní svobody při aplikaci biologie a medicín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á smluvní strana přijme do svého právního řádu opatření nezbytná pro zajištění účinnosti ustanovení této Úmlu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adřazenost lidské bytosti</a:t>
            </a:r>
            <a:br>
              <a:rPr sz="4000"/>
            </a:br>
            <a:r>
              <a:rPr b="0" lang="en-US" sz="4000" spc="-1" strike="noStrike">
                <a:solidFill>
                  <a:srgbClr val="ffffcc"/>
                </a:solidFill>
                <a:latin typeface="Arial"/>
              </a:rPr>
              <a:t>čl. 2</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jmy a blaho lidské bytosti budou nadřazeny zájmům společnosti nebo vě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ovná dostupnost zdravotní péče</a:t>
            </a:r>
            <a:br>
              <a:rPr sz="4000"/>
            </a:br>
            <a:r>
              <a:rPr b="0" lang="en-US" sz="4000" spc="-1" strike="noStrike">
                <a:solidFill>
                  <a:srgbClr val="ffffcc"/>
                </a:solidFill>
                <a:latin typeface="Arial"/>
              </a:rPr>
              <a:t>čl.3</a:t>
            </a:r>
            <a:endParaRPr b="0" lang="en-US" sz="40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majíce na zřeteli zdravotní potřeby a dostupné zdroje, učiní odpovídající opatření, aby v rámci své jurisdikce zajistily rovnou dostupnost zdravotní péče patřičné kval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ofesní standardy</a:t>
            </a:r>
            <a:br>
              <a:rPr sz="4000"/>
            </a:br>
            <a:r>
              <a:rPr b="0" lang="en-US" sz="4000" spc="-1" strike="noStrike">
                <a:solidFill>
                  <a:srgbClr val="ffffcc"/>
                </a:solidFill>
                <a:latin typeface="Arial"/>
              </a:rPr>
              <a:t>čl.4</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fesní standardy</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v zákrok v oblasti péče o zdraví, včetně vědeckého výzkumu, je nutno provádět v souladu s příslušnými profesními povinnostmi a standar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pravidlo</a:t>
            </a:r>
            <a:br>
              <a:rPr sz="4000"/>
            </a:br>
            <a:r>
              <a:rPr b="0" lang="en-US" sz="4000" spc="-1" strike="noStrike">
                <a:solidFill>
                  <a:srgbClr val="ffffcc"/>
                </a:solidFill>
                <a:latin typeface="Arial"/>
              </a:rPr>
              <a:t>čl. 5</a:t>
            </a:r>
            <a:endParaRPr b="0" lang="en-US" sz="40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 zákrok v oblasti péče o zdraví je možno provést pouze za podmínky, že k němu dotčená osoba poskytla svobodný a informovaný souhla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o osoba musí být předem řádně informována o účelu a povaze zákroku, jakož i o jeho důsledcích a rizicích.</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tčená osoba může kdykoli svobodně svůj souhlas odvol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le článků 17 a 20 uvedených níže může být proveden zákrok na osobě, která není schopna dát souhlas, pouze pokud je to k jejímu přímému prospěchu.</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tliže nezletilá osoba není podle zákona způsobilá k udělení souhlasu se zákrokem, nemůže být zákrok proveden bez svolení jejího zákonného zástupce, úřední osoby či jiné osoby nebo orgánu, které jsou k tomuto zmocněny zákonem. Názor nezletilé osoby bude zohledněn jako faktor, jehož závaznost narůstá úměrně s věkem a stupněm vyspělost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kud podle platného práva dospělá osoba není schopna dát souhlas se zákrokem z důvodu duševního postižení, nemoci nebo z podobných důvodů, lze zákrok provést pouze se souhlasem jejího zákonného zástupce nebo příslušného orgánu nebo osoby či instituce pověřených ze zákona. Dle možnosti se dotčená osoba zúčastní udělení zástupného souhlasu.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ný zástupce, příslušný orgán, osoba, nebo instituce pověřené ze zákona podle výše uvedených odstavců 2 a 3, obdrží na základě stejných podmínek informace uvedené v článku 5.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stupný souhlas podle výše uvedených odstavců 2 a 3 lze kdykoliv odvolat, je-li to v nejlepším zájmu dotčené osob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s duševní poruchou</a:t>
            </a:r>
            <a:br>
              <a:rPr sz="4000"/>
            </a:br>
            <a:r>
              <a:rPr b="0" lang="en-US" sz="4000" spc="-1" strike="noStrike">
                <a:solidFill>
                  <a:srgbClr val="ffffcc"/>
                </a:solidFill>
                <a:latin typeface="Arial"/>
              </a:rPr>
              <a:t>čl. 7</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 souladu s podmínkami stanovenými v zákonu na ochranu těchto osob včetně právní úpravy pro dohled, kontrolu a odvolání, může být osoba s vážnou duševní poruchou podrobena zákroku bez svého souhlasu, je-li zákrok zaměřen na léčbu její duševní poruchy, pouze v případě, že by bez takovéto léčby se vší pravděpodobností došlo k závažnému poškození jejího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tav nouze vyžadující neodkladná řešení čl. 8</a:t>
            </a:r>
            <a:endParaRPr b="0" lang="en-US" sz="40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v situacích nouze nelze získat příslušný souhlas, jakýkoliv nutný lékařský zákrok lze provést okamžitě, pokud je nezbytný pro prospěch zdraví dotyčné osob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ávní řád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erarchická soustava všech právních norem státu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řídicím hlediskem je forma právní normy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zn., který státní orgán ji vydal a v jaké podobě) a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 toho plynoucí právní síla - vyjadřuje vztah právní normy k jiným právním normám a její postavení v celé soustavě právních norem (není směrodatný obsah, ale pouze forma a právní síla právní norm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Dříve vyslovená přání čl.9</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e brán zřetel na dříve vyslovená přání pacienta ohledně lékařského zákroku, pokud pacient v době zákroku není ve stavu, kdy může vyjádřit své př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soukromí a právo na informace čl. 10</a:t>
            </a:r>
            <a:endParaRPr b="0" lang="en-US" sz="40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má právo na ochranu soukromí ve vztahu k informacím o svém zdrav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je oprávněn znát veškeré informace shromažďované o jeho zdravotním stavu. Nicméně přání každého nebýt takto informován je nutno respektov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kud je to v zájmu pacienta, může ve výjimečných případech zákon omezit uplatnění práv podle odstavce 2.</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ákaz diskriminace čl. 11</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ákoliv forma diskriminace osoby z důvodu jejího genetického dědictví je zakázá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rediktivní genetická vyšetření čl. 12</a:t>
            </a:r>
            <a:br>
              <a:rPr sz="4000"/>
            </a:br>
            <a:endParaRPr b="0" lang="en-US" sz="40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šetření, která předpovídají geneticky podmíněné nemoci, nebo která slouží k určení nositele genu způsobujícího nemoc, nebo k odhalení genetické predispozice nebo náchylnosti k nemoci, lze provést pouze pro zdravotní účely nebo pro vědecký výzkum spojený se zdravotními účely a v návaznosti na odpovídající genetické poradenst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rPr>
              <a:t>Zásahy do lidského genomu čl. 13</a:t>
            </a:r>
            <a:br>
              <a:rPr sz="4000"/>
            </a:br>
            <a:endParaRPr b="0" lang="en-US" sz="40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Zásah, směřující ke změně lidského genomu, lze provádět pouze pro preventivní, diagnostické nebo léčebné účely, a to pouze tehdy, pokud není jeho cílem jakákoliv změna genomu některého z potomk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volby pohlaví</a:t>
            </a:r>
            <a:br>
              <a:rPr sz="4000"/>
            </a:br>
            <a:r>
              <a:rPr b="1" lang="en-US" sz="4000" spc="-1" strike="noStrike">
                <a:solidFill>
                  <a:srgbClr val="ffffcc"/>
                </a:solidFill>
                <a:latin typeface="Arial"/>
              </a:rPr>
              <a:t>čl. 14</a:t>
            </a:r>
            <a:endParaRPr b="0" lang="en-US" sz="40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užití postupů lékařsky asistované reprodukce nebude dovoleno za účelem volby budoucího pohlaví dítěte, ledaže tak lze předejít vážné dědičné nemoci vázané na pohl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5</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decký výzkum v oblasti biologie a medicíny bude prováděn svobodně při respektování ustanovení této Úmluvy a v souladu s dalšími právními předpisy, které slouží ochraně lidské bytos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zapojených do vědeckého výzkumu čl. 16</a:t>
            </a:r>
            <a:endParaRPr b="0" lang="en-US" sz="40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ědecký výzkum na člověku lze provádět pouze tehdy, pokud jsou splněny všechny následující podmínky: </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k výzkumu na člověku neexistuje žádná alternativa srovnatelného účink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rPr>
              <a:t>rizika výzkumu</a:t>
            </a:r>
            <a:r>
              <a:rPr b="0" lang="cs-CZ" sz="1800" spc="-1" strike="noStrike">
                <a:solidFill>
                  <a:srgbClr val="ffffff"/>
                </a:solidFill>
                <a:latin typeface="Arial"/>
              </a:rPr>
              <a:t>, kterým by mohla být vystavena dotyčná osoba, nejsou neúměrně vysoká vzhledem k možnému prospěchu z výzkum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ýzkumný projekt byl schválen příslušným orgánem po nezávislém posouzení jeho vědeckého přínosu včetně zhodnocení významu cíle výzkumu a multidisciplinárního posouzení jeho etické přijatelnosti,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osoby zapojené do výzkumu byly informovány o svých právech a zárukách, které zákon stanoví na jejich ochran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nezbytný souhlas podle článku 5 byl dán výslovně</a:t>
            </a:r>
            <a:r>
              <a:rPr b="0" lang="cs-CZ" sz="1800" spc="-1" strike="noStrike" u="sng">
                <a:solidFill>
                  <a:srgbClr val="ffffff"/>
                </a:solidFill>
                <a:uFillTx/>
                <a:latin typeface="Arial"/>
              </a:rPr>
              <a:t>, konkrétně</a:t>
            </a:r>
            <a:r>
              <a:rPr b="0" lang="cs-CZ" sz="1800" spc="-1" strike="noStrike">
                <a:solidFill>
                  <a:srgbClr val="ffffff"/>
                </a:solidFill>
                <a:latin typeface="Arial"/>
              </a:rPr>
              <a:t>, a je zdokumentován. Takový souhlas lze kdykoliv svobodně odvolat.</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 osoby neschopné dát souhlas lze výzkum provádět pouze při splnění všech následujících podmínek:</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sou splněny podmínky stanovené v článku 16,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sledky výzkumu mohou přinést skutečný a přímý prospěch pro zdraví dotyčné osoby;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zkum srovnatelného účinku nelze provádět na žádných jednotlivcích schopných dát souhlas;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zbytná potvrzení souhlasu podle článku 6 byla dána konkrétně a písemně a zúčastněná osoba s tím neprojevuje nesouhlas.</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kud výzkum </a:t>
            </a:r>
            <a:r>
              <a:rPr b="1" lang="en-US" sz="2000" spc="-1" strike="noStrike">
                <a:solidFill>
                  <a:srgbClr val="ffffff"/>
                </a:solidFill>
                <a:latin typeface="Arial"/>
              </a:rPr>
              <a:t>nemůže</a:t>
            </a:r>
            <a:r>
              <a:rPr b="0" lang="en-US" sz="2000" spc="-1" strike="noStrike">
                <a:solidFill>
                  <a:srgbClr val="ffffff"/>
                </a:solidFill>
                <a:latin typeface="Arial"/>
              </a:rPr>
              <a:t> představovat </a:t>
            </a:r>
            <a:r>
              <a:rPr b="0" lang="en-US" sz="2000" spc="-1" strike="noStrike" u="sng">
                <a:solidFill>
                  <a:srgbClr val="ffffff"/>
                </a:solidFill>
                <a:uFillTx/>
                <a:latin typeface="Arial"/>
              </a:rPr>
              <a:t>přímý prospěch pro zdraví</a:t>
            </a:r>
            <a:r>
              <a:rPr b="0" lang="en-US" sz="2000" spc="-1" strike="noStrike">
                <a:solidFill>
                  <a:srgbClr val="ffffff"/>
                </a:solidFill>
                <a:latin typeface="Arial"/>
              </a:rPr>
              <a:t> dotčené osoby, lze takový výzkum povolit </a:t>
            </a:r>
            <a:r>
              <a:rPr b="1" lang="en-US" sz="2000" spc="-1" strike="noStrike">
                <a:solidFill>
                  <a:srgbClr val="ffffff"/>
                </a:solidFill>
                <a:latin typeface="Arial"/>
              </a:rPr>
              <a:t>výjimečně</a:t>
            </a:r>
            <a:r>
              <a:rPr b="0" lang="en-US" sz="2000" spc="-1" strike="noStrike">
                <a:solidFill>
                  <a:srgbClr val="ffffff"/>
                </a:solidFill>
                <a:latin typeface="Arial"/>
              </a:rPr>
              <a:t>, při splnění podmínek, stanovených zákonem na ochranu takové osoby, a při splnění následujících podmínek:</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ílem tohoto výzkumu je cestou podstatného zlepšení vědeckého poznání zdravotního stavu, nemoci či poruchy dotyčného získat výsledky, které mohou přinést prospěch dotyčné osobě nebo jiným osobám ve stejné věkové kategorii, nebo postiženým stejnou nemocí nebo poruchou, nebo osobám ve stejném zdravotním stavu;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nto výzkum představuje pouze </a:t>
            </a:r>
            <a:r>
              <a:rPr b="0" lang="en-US" sz="2000" spc="-1" strike="noStrike" u="sng">
                <a:solidFill>
                  <a:srgbClr val="ffffff"/>
                </a:solidFill>
                <a:uFillTx/>
                <a:latin typeface="Arial"/>
              </a:rPr>
              <a:t>minimální riziko a minimální zátěž pro dotčeného jednotlivce.</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sadně platí, ž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norma nižšího stupně právní síly nesmí být obsahově v rozporu s právní normou vyššího stupně právní síly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měnit či zrušit právní normu je možno jen jinou právní normou stejného nebo vyššího stupně právní síl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Výzkum na embryích in vitro</a:t>
            </a:r>
            <a:br>
              <a:rPr sz="4000"/>
            </a:br>
            <a:r>
              <a:rPr b="1" lang="en-US" sz="4000" spc="-1" strike="noStrike">
                <a:solidFill>
                  <a:srgbClr val="ffffcc"/>
                </a:solidFill>
                <a:latin typeface="Arial"/>
              </a:rPr>
              <a:t>čl. 18 </a:t>
            </a:r>
            <a:endParaRPr b="0" lang="en-US" sz="4000" spc="-1" strike="noStrike">
              <a:solidFill>
                <a:srgbClr val="ffffcc"/>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zákon umožňuje provádět výzkum na embryích in vitro, musí být zákonem zajištěna odpovídající ochrana embry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tváření lidských embryí pro výzkumné účely je zakázán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9</a:t>
            </a:r>
            <a:endParaRPr b="0" lang="en-US" sz="4400" spc="-1" strike="noStrike">
              <a:solidFill>
                <a:srgbClr val="ffffcc"/>
              </a:solidFill>
              <a:latin typeface="Tahoma"/>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ěr orgánů nebo tkání od žijící osoby pro účely transplantace lze provádět výhradně v zájmu léčebného přínosu pro příjemce, a pouze pokud není k dispozici žádný vhodný orgán nebo tkáň ze zemřelé osoby nebo jiná alternativní léčebná metoda srovnatelného účinku.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bytný souhlas dle článku 5 musí být vyjádřen výslovně a konkrétně buď písemnou formou nebo před příslušným úředním orgáne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neschopných dát souhlas s odebráním orgánu </a:t>
            </a:r>
            <a:endParaRPr b="0" lang="en-US" sz="4000" spc="-1" strike="noStrike">
              <a:solidFill>
                <a:srgbClr val="ffffcc"/>
              </a:solidFill>
              <a:latin typeface="Tahoma"/>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dběr orgánu či tkáně </a:t>
            </a:r>
            <a:r>
              <a:rPr b="0" lang="en-US" sz="2000" spc="-1" strike="noStrike" u="sng">
                <a:solidFill>
                  <a:srgbClr val="ffffff"/>
                </a:solidFill>
                <a:uFillTx/>
                <a:latin typeface="Arial"/>
              </a:rPr>
              <a:t>nelze provést</a:t>
            </a:r>
            <a:r>
              <a:rPr b="0" lang="en-US" sz="2000" spc="-1" strike="noStrike">
                <a:solidFill>
                  <a:srgbClr val="ffffff"/>
                </a:solidFill>
                <a:latin typeface="Arial"/>
              </a:rPr>
              <a:t> u osoby, která není schopna dát souhlas podle článku 5.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i splnění ochranných podmínek, stanovených zákonem na ochranu těchto osob, lze výjimečně povolit odběr obnovitelné tkáně od osoby, která není sama schopna dát souhlas, pokud jsou splněny následující podmínky: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ní k dispozici žádný kompatibilní dárce, který je schopný dát souhlas,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íjemcem je bratr nebo sestra dár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rování musí představovat možnost záchrany života příjem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hlas byl dán konkrétně a písemně, v souladu se zákonem a se souhlasem příslušného orgánu,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važovaný dárce s tím neprojevuje nesouhlas.</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finančního prospěchu</a:t>
            </a:r>
            <a:br>
              <a:rPr sz="4000"/>
            </a:br>
            <a:r>
              <a:rPr b="1" lang="en-US" sz="4000" spc="-1" strike="noStrike">
                <a:solidFill>
                  <a:srgbClr val="ffffcc"/>
                </a:solidFill>
                <a:latin typeface="Arial"/>
              </a:rPr>
              <a:t> čl. 21</a:t>
            </a:r>
            <a:endParaRPr b="0" lang="en-US" sz="40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dské tělo a jeho části nesmí být jako takové zdrojem finančního prospěc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akládání s odebranou částí lidského těla</a:t>
            </a:r>
            <a:endParaRPr b="0" lang="en-US" sz="4000" spc="-1" strike="noStrike">
              <a:solidFill>
                <a:srgbClr val="ffffcc"/>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li v průběhu zákroku odebrána jakákoliv část lidského těla, může se uchovat a použít pro účely jiné než ty, pro něž byla odebrána, pouze pokud byly splněny náležitosti v souvislosti s poučením a souhlas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orušení práv nebo zásad</a:t>
            </a:r>
            <a:br>
              <a:rPr sz="4000"/>
            </a:br>
            <a:endParaRPr b="0" lang="en-US" sz="40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zajistí bez zbytečného prodlení odpovídající právní ochranu tak, aby předešly nebo zamezily porušování práv a zásad stanovených touto Úmluv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áhrada za způsobenou újmu</a:t>
            </a:r>
            <a:br>
              <a:rPr sz="4000"/>
            </a:br>
            <a:endParaRPr b="0" lang="en-US" sz="40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soba, která utrpěla újmu způsobenou zákrokem, má nárok na spravedlivou náhradu škody za podmínek a postupů stanovených zákon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mluva o právech dítěte v ČR pod č.104/1991 Sb.</a:t>
            </a:r>
            <a:endParaRPr b="0" lang="en-US" sz="40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ravuje poskytování zdravotních služeb nezletilým pacientů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o dotčené osoby vyjádřit se k problematice, která se dítěte týká, pokud je dítě na takové rozumové úrovni, že je schopno tvořit si samo náz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stava České republiky</a:t>
            </a:r>
            <a:endParaRPr b="0" lang="en-US" sz="40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ždý občan může činit, co není zákonem zakázáno, a nikdo nesmí být nucen činit, co zákon neukládá (čl.2 odst. 4)</a:t>
            </a:r>
            <a:endParaRPr b="0" lang="en-US" sz="3200" spc="-1" strike="noStrike">
              <a:solidFill>
                <a:srgbClr val="ffffff"/>
              </a:solidFill>
              <a:latin typeface="Tahoma"/>
            </a:endParaRPr>
          </a:p>
        </p:txBody>
      </p:sp>
      <p:pic>
        <p:nvPicPr>
          <p:cNvPr id="184" name="" descr="ÚZ č.1005 Ústava, Listina základních práv a svobod"/>
          <p:cNvPicPr/>
          <p:nvPr/>
        </p:nvPicPr>
        <p:blipFill>
          <a:blip r:embed="rId1"/>
          <a:stretch/>
        </p:blipFill>
        <p:spPr>
          <a:xfrm>
            <a:off x="6877080" y="2997360"/>
            <a:ext cx="1942920" cy="295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 </a:t>
            </a:r>
            <a:r>
              <a:rPr b="0" lang="en-US" sz="4000" spc="-1" strike="noStrike">
                <a:solidFill>
                  <a:srgbClr val="ffffcc"/>
                </a:solidFill>
                <a:latin typeface="Arial"/>
              </a:rPr>
              <a:t>Listina základních práv a svobod</a:t>
            </a:r>
            <a:endParaRPr b="0" lang="en-US" sz="4000" spc="-1" strike="noStrike">
              <a:solidFill>
                <a:srgbClr val="ffffcc"/>
              </a:solidFill>
              <a:latin typeface="Tahoma"/>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6 – každý má právo na ochranu života. Lidský život je hoden ochrany již před narozením</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7 – nedotknutelnost osoby a jejího soukromí</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8 – osobní svoboda je zaručena,</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10 – právo na ochranu osobních údaj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31 – každý má právo na ochranu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t>
            </a:r>
            <a:r>
              <a:rPr b="0" lang="cs-CZ" sz="3200" spc="-1" strike="noStrike">
                <a:solidFill>
                  <a:srgbClr val="ffffff"/>
                </a:solidFill>
                <a:latin typeface="Tahoma"/>
              </a:rPr>
              <a:t>Povinnosti mohou být ukládány toliko na základě zákona a v jeho mezích a jen při zachování základních práv a svobo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iz čl. 4 odst. 1 Listiny základních práv a svobod – Usn. předsednictva ČNR č. 2/1993 Sb.)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zákoník zákon č. 89/2012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při poskytování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a zásah do práva na ochranu osobnost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za škodu a rozsah případné náhrady šk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pic>
        <p:nvPicPr>
          <p:cNvPr id="190" name="Rectangle 6" descr="ÚZ č.900 Nový občanský zákoník, podle stavu k 1.1.2014"/>
          <p:cNvPicPr/>
          <p:nvPr/>
        </p:nvPicPr>
        <p:blipFill>
          <a:blip r:embed="rId1"/>
          <a:stretch/>
        </p:blipFill>
        <p:spPr>
          <a:xfrm>
            <a:off x="3276720" y="1557360"/>
            <a:ext cx="1857240" cy="2857320"/>
          </a:xfrm>
          <a:prstGeom prst="rect">
            <a:avLst/>
          </a:prstGeom>
          <a:ln w="0">
            <a:noFill/>
          </a:ln>
        </p:spPr>
      </p:pic>
      <p:pic>
        <p:nvPicPr>
          <p:cNvPr id="191" name="" descr="ÚZ č. 985 - Zákoník práce po rekodifikaci 2014">
            <a:hlinkClick r:id="rId2"/>
          </p:cNvPr>
          <p:cNvPicPr/>
          <p:nvPr/>
        </p:nvPicPr>
        <p:blipFill>
          <a:blip r:embed="rId3"/>
          <a:stretch/>
        </p:blipFill>
        <p:spPr>
          <a:xfrm>
            <a:off x="7164360" y="3284640"/>
            <a:ext cx="952560" cy="1562040"/>
          </a:xfrm>
          <a:prstGeom prst="rect">
            <a:avLst/>
          </a:prstGeom>
          <a:ln w="0">
            <a:noFill/>
          </a:ln>
        </p:spPr>
      </p:pic>
      <p:pic>
        <p:nvPicPr>
          <p:cNvPr id="192" name="" descr="ÚZ 1006 / Trestní předpisy"/>
          <p:cNvPicPr/>
          <p:nvPr/>
        </p:nvPicPr>
        <p:blipFill>
          <a:blip r:embed="rId4"/>
          <a:stretch/>
        </p:blipFill>
        <p:spPr>
          <a:xfrm>
            <a:off x="6300720" y="1557360"/>
            <a:ext cx="933480" cy="1562040"/>
          </a:xfrm>
          <a:prstGeom prst="rect">
            <a:avLst/>
          </a:prstGeom>
          <a:ln w="0">
            <a:noFill/>
          </a:ln>
        </p:spPr>
      </p:pic>
      <p:pic>
        <p:nvPicPr>
          <p:cNvPr id="193" name="" descr=""/>
          <p:cNvPicPr/>
          <p:nvPr/>
        </p:nvPicPr>
        <p:blipFill>
          <a:blip r:embed="rId5"/>
          <a:stretch/>
        </p:blipFill>
        <p:spPr>
          <a:xfrm>
            <a:off x="684360" y="1413000"/>
            <a:ext cx="1446120" cy="2149200"/>
          </a:xfrm>
          <a:prstGeom prst="rect">
            <a:avLst/>
          </a:prstGeom>
          <a:ln w="0">
            <a:noFill/>
          </a:ln>
        </p:spPr>
      </p:pic>
      <p:pic>
        <p:nvPicPr>
          <p:cNvPr id="194" name="" descr="ÚZ č. 999 - Občanský soudní řád, zvláštní řízení soudní, rozhodčí řízení, soudní poplatky,">
            <a:hlinkClick r:id="rId6"/>
          </p:cNvPr>
          <p:cNvPicPr/>
          <p:nvPr/>
        </p:nvPicPr>
        <p:blipFill>
          <a:blip r:embed="rId7"/>
          <a:stretch/>
        </p:blipFill>
        <p:spPr>
          <a:xfrm>
            <a:off x="5508720" y="4581360"/>
            <a:ext cx="952560" cy="1562400"/>
          </a:xfrm>
          <a:prstGeom prst="rect">
            <a:avLst/>
          </a:prstGeom>
          <a:ln w="0">
            <a:noFill/>
          </a:ln>
        </p:spPr>
      </p:pic>
      <p:pic>
        <p:nvPicPr>
          <p:cNvPr id="195" name="" descr="ÚZ 996 / Rodinné právo, Ochrana dětí a rodiny, Registrované partnerství"/>
          <p:cNvPicPr/>
          <p:nvPr/>
        </p:nvPicPr>
        <p:blipFill>
          <a:blip r:embed="rId8"/>
          <a:stretch/>
        </p:blipFill>
        <p:spPr>
          <a:xfrm>
            <a:off x="1908000" y="3716280"/>
            <a:ext cx="952560" cy="1571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bčanský zákoník</a:t>
            </a: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ždé ustanovení soukromého práva lze vykládat jenom ve shodě s Listinou základních práv a svobod a ústavním pořádkem vůbec, se zásadami, na nichž spočívá tento zákon, jakož i s trvalým zřetelem k hodnotám, které se tím chrání. Rozejde-li se výklad jednotlivého ustanovení pouze podle jeho slov s tímto příkazem, musí mu ustoupi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onnému ustanovení nelze přikládat jiný význam, než jaký plyne z vlastního smyslu slov v jejich vzájemné souvislosti a z jasného úmyslu zákonodárce; nikdo se však nesmí dovolávat slov právního předpisu proti jeho smyslu.</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ýklad a použití právního předpisu nesmí být v rozporu s dobrými mravy a nesmí vést ke krutosti nebo bezohlednosti urážející obyčejné lidské cítěn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ukromé právo</a:t>
            </a:r>
            <a:endParaRPr b="0" lang="en-US" sz="4400" spc="-1" strike="noStrike">
              <a:solidFill>
                <a:srgbClr val="ffffcc"/>
              </a:solidFill>
              <a:latin typeface="Tahoma"/>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kromé právo chrání důstojnost a svobodu člověka i jeho přirozené právo brát se o vlastní štěstí a štěstí jeho rodiny nebo lidí jemu blízkých takovým způsobem, jenž nepůsobí bezdůvodně újmu druhým.</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ukromé právo spočívá zejména na zásadách, ž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každý má právo na ochranu svého života a zdraví, jakož i svobody, cti, důstojnosti a soukromí,</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rodina, rodičovství a manželství požívají zvláštní zákonné ochra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nikdo nesmí pro nedostatek věku, rozumu nebo pro závislost svého postavení utrpět nedůvodnou újmu; nikdo však také nesmí bezdůvodně těžit z vlastní neschopnosti k újmě druhých,</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daný slib zavazuje a smlouvy mají být splně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 vlastnické právo je chráněno zákonem a jen zákon může stanovit, jak vlastnické právo vzniká a zaniká, a</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nikomu nelze odepřít, co mu po právu náleží.</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ásada spravedlnosti a práv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ávní osobnost</a:t>
            </a:r>
            <a:endParaRPr b="0" lang="en-US" sz="4400" spc="-1" strike="noStrike">
              <a:solidFill>
                <a:srgbClr val="ffffcc"/>
              </a:solidFill>
              <a:latin typeface="Tahoma"/>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Arial"/>
              </a:rPr>
              <a:t>Právní osobnost je způsobilost mít v mezích právního řádu práva a povinnosti.</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véprávnost</a:t>
            </a:r>
            <a:endParaRPr b="0" lang="en-US" sz="4400" spc="-1" strike="noStrike">
              <a:solidFill>
                <a:srgbClr val="ffffcc"/>
              </a:solidFill>
              <a:latin typeface="Tahoma"/>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véprávnost je způsobilost nabývat pro sebe vlastním právním jednáním práva a zavazovat se k povinnostem (právně jedn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Osoba je </a:t>
            </a:r>
            <a:r>
              <a:rPr b="1" lang="pl-PL" sz="2000" spc="-1" strike="noStrike">
                <a:solidFill>
                  <a:srgbClr val="ffffff"/>
                </a:solidFill>
                <a:latin typeface="Arial"/>
              </a:rPr>
              <a:t>fyzická,</a:t>
            </a:r>
            <a:r>
              <a:rPr b="0" lang="pl-PL" sz="2000" spc="-1" strike="noStrike">
                <a:solidFill>
                  <a:srgbClr val="ffffff"/>
                </a:solidFill>
                <a:latin typeface="Arial"/>
              </a:rPr>
              <a:t> nebo právnická.</a:t>
            </a:r>
            <a:endParaRPr b="0" lang="en-US" sz="20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Arial"/>
              </a:rPr>
              <a:t>Člověk má právní osobnost od narození až do smrti.</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Každý člověk odpovídá za své jednání, je-li s to posoudit je a ovládnout. Kdo se vlastní vinou přivede do stavu, v němž by jinak za své jednání odpovědný nebyl, odpovídá za jednání v tomto stavu učiněná.</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aždý člověk má vrozená, již samotným rozumem a citem poznatelná přirozená práva, a tudíž se považuje za osobu. Zákon stanoví jen meze uplatňování přirozených práv člověka a způsob jejich ochran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ávnická osoba</a:t>
            </a:r>
            <a:r>
              <a:rPr b="0" lang="en-US" sz="2800" spc="-1" strike="noStrike">
                <a:solidFill>
                  <a:srgbClr val="ffffff"/>
                </a:solidFill>
                <a:latin typeface="Arial"/>
              </a:rPr>
              <a:t> je organizovaný útvar, o kterém zákon stanoví, že má právní osobnost, nebo jehož právní osobnost zákon uzná.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á osoba může bez zřetele na předmět své činnosti mít práva a povinnosti, které se slučují s její právní povahou.</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é osoby veřejného práva podléhají zákonům, podle nichž byly zřízeny</a:t>
            </a:r>
            <a:endParaRPr b="0" lang="en-US" sz="28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át se v oblasti soukromého práva považuje za právnickou osobu</a:t>
            </a:r>
            <a:r>
              <a:rPr b="0" lang="en-US" sz="2400" spc="-1" strike="noStrike">
                <a:solidFill>
                  <a:srgbClr val="ffffff"/>
                </a:solidFill>
                <a:latin typeface="Arial"/>
              </a:rPr>
              <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 blízká</a:t>
            </a:r>
            <a:endParaRPr b="0" lang="en-US" sz="4400" spc="-1" strike="noStrike">
              <a:solidFill>
                <a:srgbClr val="ffffcc"/>
              </a:solidFill>
              <a:latin typeface="Tahoma"/>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Osoba blízká je příbuzný v řadě přímé, sourozenec a manžel nebo partner podle jiného zákona upravujícího registrované partnerství (dále jen "partner");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iné osoby v poměru rodinném nebo obdobném se pokládají za osoby sobě navzájem blízké, pokud by újmu, kterou utrpěla jedna z nich, druhá důvodně pociťovala jako újmu vlastn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Má se za to, že osobami blízkými jsou i osoby sešvagřené nebo osoby, které spolu trvale žijí.</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letilost</a:t>
            </a: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ně svéprávným se člověk stává zletilostí. Zletilosti se nabývá dovršením osmnáctého roku věk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ed nabytím zletilosti se plné svéprávnosti nabývá přiznáním svéprávnosti, nebo uzavřením manželství. Svéprávnost nabytá uzavřením manželství se neztrácí ani zánikem manželství, ani prohlášením manželství za neplatn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hy obecně závazných právních předpisů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Ústava a Ústavní 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zinárodní smlouv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ná opatř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říz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yhlášk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ecně závazné vyhlášky orgánů územní samospráv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rPr>
              <a:t>Nezletilý</a:t>
            </a:r>
            <a:endParaRPr b="0" lang="en-US" sz="4400" spc="-1" strike="noStrike">
              <a:solidFill>
                <a:srgbClr val="ffffcc"/>
              </a:solidFill>
              <a:latin typeface="Tahoma"/>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á se za to, že každý nezletilý, který nenabyl plné svéprávnosti, je způsobilý k právním jednáním co do povahy přiměřeným rozumové a volní vyspělosti nezletilých jeho vě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vislá práce nezletilých mladších než patnáct let nebo nezletilých, kteří neukončili povinnou školní docházku, </a:t>
            </a:r>
            <a:r>
              <a:rPr b="1" lang="en-US" sz="3200" spc="-1" strike="noStrike">
                <a:solidFill>
                  <a:srgbClr val="ffffff"/>
                </a:solidFill>
                <a:latin typeface="Arial"/>
              </a:rPr>
              <a:t>je zakázána.</a:t>
            </a:r>
            <a:r>
              <a:rPr b="0" lang="en-US" sz="3200" spc="-1" strike="noStrike">
                <a:solidFill>
                  <a:srgbClr val="ffffff"/>
                </a:solidFill>
                <a:latin typeface="Arial"/>
              </a:rPr>
              <a:t>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o nezletilí mohou vykonávat </a:t>
            </a:r>
            <a:r>
              <a:rPr b="0" lang="en-US" sz="3200" spc="-1" strike="noStrike" u="sng">
                <a:solidFill>
                  <a:srgbClr val="ffffff"/>
                </a:solidFill>
                <a:uFillTx/>
                <a:latin typeface="Arial"/>
              </a:rPr>
              <a:t>jen </a:t>
            </a:r>
            <a:r>
              <a:rPr b="0" lang="en-US" sz="3200" spc="-1" strike="noStrike">
                <a:solidFill>
                  <a:srgbClr val="ffffff"/>
                </a:solidFill>
                <a:latin typeface="Arial"/>
              </a:rPr>
              <a:t>uměleckou, kulturní, reklamní nebo sportovní činnost za podmínek stanovených jiným právním předpise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zletilý, který dovršil patnáct let a ukončil povinnou školní docházku, </a:t>
            </a:r>
            <a:r>
              <a:rPr b="0" lang="en-US" sz="2800" spc="-1" strike="noStrike" u="sng">
                <a:solidFill>
                  <a:srgbClr val="ffffff"/>
                </a:solidFill>
                <a:uFillTx/>
                <a:latin typeface="Arial"/>
              </a:rPr>
              <a:t>se může</a:t>
            </a:r>
            <a:r>
              <a:rPr b="0" lang="en-US" sz="2800" spc="-1" strike="noStrike">
                <a:solidFill>
                  <a:srgbClr val="ffffff"/>
                </a:solidFill>
                <a:latin typeface="Arial"/>
              </a:rPr>
              <a:t> zavázat k výkonu závislé prá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avrhne-li nezletilý, který není plně svéprávný, aby mu soud přiznal svéprávnost, soud návrhu vyhoví, pokud nezletilý </a:t>
            </a:r>
            <a:r>
              <a:rPr b="0" lang="en-US" sz="2800" spc="-1" strike="noStrike" u="sng">
                <a:solidFill>
                  <a:srgbClr val="ffffff"/>
                </a:solidFill>
                <a:uFillTx/>
                <a:latin typeface="Arial"/>
              </a:rPr>
              <a:t>dosáhl věku šestnácti let</a:t>
            </a:r>
            <a:r>
              <a:rPr b="0" lang="en-US" sz="2800" spc="-1" strike="noStrike">
                <a:solidFill>
                  <a:srgbClr val="ffffff"/>
                </a:solidFill>
                <a:latin typeface="Arial"/>
              </a:rPr>
              <a:t>, pokud je osvědčena jeho </a:t>
            </a:r>
            <a:r>
              <a:rPr b="0" lang="en-US" sz="2800" spc="-1" strike="noStrike" u="sng">
                <a:solidFill>
                  <a:srgbClr val="ffffff"/>
                </a:solidFill>
                <a:uFillTx/>
                <a:latin typeface="Arial"/>
              </a:rPr>
              <a:t>schopnost sám se živit</a:t>
            </a:r>
            <a:r>
              <a:rPr b="0" lang="en-US" sz="2800" spc="-1" strike="noStrike">
                <a:solidFill>
                  <a:srgbClr val="ffffff"/>
                </a:solidFill>
                <a:latin typeface="Arial"/>
              </a:rPr>
              <a:t> </a:t>
            </a:r>
            <a:r>
              <a:rPr b="0" lang="en-US" sz="2800" spc="-1" strike="noStrike" u="sng">
                <a:solidFill>
                  <a:srgbClr val="ffffff"/>
                </a:solidFill>
                <a:uFillTx/>
                <a:latin typeface="Arial"/>
              </a:rPr>
              <a:t>a obstarat si své záležitosti</a:t>
            </a:r>
            <a:r>
              <a:rPr b="0" lang="en-US" sz="2800" spc="-1" strike="noStrike">
                <a:solidFill>
                  <a:srgbClr val="ffffff"/>
                </a:solidFill>
                <a:latin typeface="Arial"/>
              </a:rPr>
              <a:t> a pokud s návrhem </a:t>
            </a:r>
            <a:r>
              <a:rPr b="0" lang="en-US" sz="2800" spc="-1" strike="noStrike" u="sng">
                <a:solidFill>
                  <a:srgbClr val="ffffff"/>
                </a:solidFill>
                <a:uFillTx/>
                <a:latin typeface="Arial"/>
              </a:rPr>
              <a:t>souhlasí zákonný zástupce nezletilého</a:t>
            </a:r>
            <a:r>
              <a:rPr b="0" lang="en-US" sz="2800" spc="-1" strike="noStrike">
                <a:solidFill>
                  <a:srgbClr val="ffffff"/>
                </a:solidFill>
                <a:latin typeface="Arial"/>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mezení svéprávnosti</a:t>
            </a:r>
            <a:endParaRPr b="0" lang="en-US" sz="4400" spc="-1" strike="noStrike">
              <a:solidFill>
                <a:srgbClr val="ffffcc"/>
              </a:solidFill>
              <a:latin typeface="Tahoma"/>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omezení svéprávnosti lze přistoupit </a:t>
            </a:r>
            <a:r>
              <a:rPr b="0" lang="en-US" sz="2800" spc="-1" strike="noStrike" u="sng">
                <a:solidFill>
                  <a:srgbClr val="ffffff"/>
                </a:solidFill>
                <a:uFillTx/>
                <a:latin typeface="Arial"/>
              </a:rPr>
              <a:t>jen</a:t>
            </a:r>
            <a:r>
              <a:rPr b="0" lang="en-US" sz="2800" spc="-1" strike="noStrike">
                <a:solidFill>
                  <a:srgbClr val="ffffff"/>
                </a:solidFill>
                <a:latin typeface="Arial"/>
              </a:rPr>
              <a:t> v zájmu člověka, musí být důkladně vzaty v úvahu rozsah i stupeň neschopnosti člověka postarat se o vlastní záležitosti.</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mezit svéprávnost člověka lze jen tehdy, hrozila-li by mu jinak závažná újma a nepostačí-li vzhledem k jeho zájmům mírnější a méně omezující opatření.</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ezit svéprávnost člověka může jen sou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soudní řád zákon č. 99/1963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up v soudním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atika řízení o přípustnosti držení osoby v ústavu zdravotní péče (§191a až 191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í zákoník zákon č. 40/2009 Sb.</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znamovací povinnos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vinnost překazit trestný čin</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dpovědnost za ublížení na zdrav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Usmrcen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poskytnutí pomoc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oprávněné nakládání s osobními údaj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proti těhotenství žen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související s neoprávněným nakládáním s lidskými orgány a tkáněmi, lidským embryem a genome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mezení a zbavení osobní svobod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škození cizích práv a vystavování nepravdivých lékařských zpráv a posudků</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řád zákon č. 141/1961 Sb.</a:t>
            </a:r>
            <a:endParaRPr b="0" lang="en-US" sz="3200" spc="-1" strike="noStrike">
              <a:solidFill>
                <a:srgbClr val="ffffff"/>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dmínky, za který lze bez souhlasu pacienta sdělovat údaje orgánům činným v trestním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vidla trestního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ý čin</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stíh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ád zákon č. 500/2004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účastníků správního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ízení (krajský úřad x poskytovatel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kce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ík práce zákon č. 262/2006 Sb.</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zaměstnavatelů a zaměstnanc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ovní podmínk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zpečnost prác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élka pracovních smě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sčasová práce ve zdravotnictví, aj.</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aměstnanec</a:t>
            </a:r>
            <a:br>
              <a:rPr sz="4000"/>
            </a:br>
            <a:endParaRPr b="0" lang="en-US" sz="4000" spc="-1" strike="noStrike">
              <a:solidFill>
                <a:srgbClr val="ffffcc"/>
              </a:solidFill>
              <a:latin typeface="Tahoma"/>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ncem je fyzická osoba, která se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parlament (dvoukomorový: Poslanecká sněmovna a Senát)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ávrhy zákonů se podávají Poslanecké sněmovně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ákonodárná iniciativa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né opatření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á právní sílu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senát v případě rozpuštění poslanecké sněmovny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 věcech, které nesnesou odkladu a vyžadovaly by jinak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etí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nátu může navrhnout pouze vlád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aměstnavatel</a:t>
            </a: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vatelem je osoba, pro kterou se fyzická osoba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vislá práce</a:t>
            </a: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 práce, která je vykonávána ve vztahu nadřízenosti zaměstnavatele a podřízenosti zaměstnance, jménem zaměstnavatele, podle pokynů zaměstnavatele a zaměstnanec ji pro zaměstnavatele vykonává </a:t>
            </a:r>
            <a:r>
              <a:rPr b="0" lang="en-US" sz="2400" spc="-1" strike="noStrike" u="sng">
                <a:solidFill>
                  <a:srgbClr val="ffffff"/>
                </a:solidFill>
                <a:uFillTx/>
                <a:latin typeface="Tahoma"/>
              </a:rPr>
              <a:t>osobně.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musí být</a:t>
            </a:r>
            <a:r>
              <a:rPr b="0" lang="en-US" sz="2400" spc="-1" strike="noStrike">
                <a:solidFill>
                  <a:srgbClr val="ffffff"/>
                </a:solidFill>
                <a:latin typeface="Tahoma"/>
              </a:rPr>
              <a:t> vykonávána za mzdu, plat nebo odměnu za práci, na náklady a odpovědnost zaměstnavatele, </a:t>
            </a:r>
            <a:r>
              <a:rPr b="0" lang="en-US" sz="2400" spc="-1" strike="noStrike" u="sng">
                <a:solidFill>
                  <a:srgbClr val="ffffff"/>
                </a:solidFill>
                <a:uFillTx/>
                <a:latin typeface="Tahoma"/>
              </a:rPr>
              <a:t>v pracovní době na pracovišti</a:t>
            </a:r>
            <a:r>
              <a:rPr b="0" lang="en-US" sz="2400" spc="-1" strike="noStrike">
                <a:solidFill>
                  <a:srgbClr val="ffffff"/>
                </a:solidFill>
                <a:latin typeface="Tahoma"/>
              </a:rPr>
              <a:t> zaměstnavatele, popřípadě na jiném dohodnutém místě.</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ůže být vykonávána výlučně v základním pracovněprávním vztahu</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ákladními pracovněprávními vztahy</a:t>
            </a:r>
            <a:endParaRPr b="0" lang="en-US" sz="4000" spc="-1" strike="noStrike">
              <a:solidFill>
                <a:srgbClr val="ffffcc"/>
              </a:solidFill>
              <a:latin typeface="Tahoma"/>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ovní poměr </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vztahy založené dohodami o pracích konaných mimo pracovní pomě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anovená týdenní pracovní doba</a:t>
            </a:r>
            <a:br>
              <a:rPr sz="4000"/>
            </a:br>
            <a:endParaRPr b="0" lang="en-US" sz="4000" spc="-1" strike="noStrike">
              <a:solidFill>
                <a:srgbClr val="ffffcc"/>
              </a:solidFill>
              <a:latin typeface="Tahoma"/>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élka stanovené týdenní pracovní doby činí </a:t>
            </a:r>
            <a:r>
              <a:rPr b="0" lang="en-US" sz="2400" spc="-1" strike="noStrike" u="sng">
                <a:solidFill>
                  <a:srgbClr val="ffffff"/>
                </a:solidFill>
                <a:uFillTx/>
                <a:latin typeface="Tahoma"/>
              </a:rPr>
              <a:t>40 hodin</a:t>
            </a:r>
            <a:r>
              <a:rPr b="0" lang="en-US" sz="2400" spc="-1" strike="noStrike">
                <a:solidFill>
                  <a:srgbClr val="ffffff"/>
                </a:solidFill>
                <a:latin typeface="Tahoma"/>
              </a:rPr>
              <a:t>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élka stanovené týdenní pracovní doby činí u zaměstnanců</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racujících v podzemí při těžbě uhlí, rud a nerudných surovin, v důlní výstavbě a na báňských pracovištích geologického průzkumu </a:t>
            </a:r>
            <a:r>
              <a:rPr b="0" lang="en-US" sz="2400" spc="-1" strike="noStrike" u="sng">
                <a:solidFill>
                  <a:srgbClr val="ffffff"/>
                </a:solidFill>
                <a:uFillTx/>
                <a:latin typeface="Tahoma"/>
              </a:rPr>
              <a:t>37,5 hodiny týdně</a:t>
            </a:r>
            <a:r>
              <a:rPr b="0" lang="en-US" sz="2400" spc="-1" strike="noStrike">
                <a:solidFill>
                  <a:srgbClr val="ffffff"/>
                </a:solidFill>
                <a:latin typeface="Tahoma"/>
              </a:rPr>
              <a:t>,</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s třísměnným a nepřetržitým pracovním režimem </a:t>
            </a:r>
            <a:r>
              <a:rPr b="0" lang="en-US" sz="2400" spc="-1" strike="noStrike" u="sng">
                <a:solidFill>
                  <a:srgbClr val="ffffff"/>
                </a:solidFill>
                <a:uFillTx/>
                <a:latin typeface="Tahoma"/>
              </a:rPr>
              <a:t>37,5 hodiny týdně,</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s dvousměnným pracovním režimem </a:t>
            </a:r>
            <a:r>
              <a:rPr b="0" lang="en-US" sz="2400" spc="-1" strike="noStrike" u="sng">
                <a:solidFill>
                  <a:srgbClr val="ffffff"/>
                </a:solidFill>
                <a:uFillTx/>
                <a:latin typeface="Tahoma"/>
              </a:rPr>
              <a:t>38,75 hodiny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znalcích a tlumočnících zákon č. 36/1967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avení znalců a výkon znalecké činnosti v České republi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sociálně – právní  ochraně dětí zákon č. 359/1999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činnost poskytovatelů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alizační povinnost</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 č. 372/2011 Sb., o zdravotních službách</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vá terminologie</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dravotní služb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zdrav. pracovník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pacient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í vztahy poskytovatelů zdravotních služeb a pacientů, aj.</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46" name="" descr="ÚZ 961 Zdravotní služby"/>
          <p:cNvPicPr/>
          <p:nvPr/>
        </p:nvPicPr>
        <p:blipFill>
          <a:blip r:embed="rId1"/>
          <a:stretch/>
        </p:blipFill>
        <p:spPr>
          <a:xfrm>
            <a:off x="7020000" y="2349360"/>
            <a:ext cx="1224000" cy="16192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ákon č. 373/2011 Sb., o specifických zdravotních službách</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vláštní druhy zdravotních služeb, např. sterilizace, asistovaná reprodukce, kastrace, odběry krve za účelem léčby nebo výroby transfuzních přípravků, genetická vyšetření, ověřování v klinické praxi dosud nezavedených metod, pracovnělékařské služby, posudkovou péči, ochranné léčení.</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ákon</a:t>
            </a:r>
            <a:r>
              <a:rPr b="0" lang="en-US" sz="2000" spc="-1" strike="noStrike">
                <a:solidFill>
                  <a:srgbClr val="ffffff"/>
                </a:solidFill>
                <a:latin typeface="Arial"/>
              </a:rPr>
              <a:t> č. 374/2011 Sb.,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řízení vlády </a:t>
            </a:r>
            <a:r>
              <a:rPr b="0" lang="en-US" sz="2000" spc="-1" strike="noStrike" u="sng">
                <a:solidFill>
                  <a:srgbClr val="ffcc66"/>
                </a:solidFill>
                <a:uFillTx/>
                <a:latin typeface="Arial"/>
                <a:hlinkClick r:id="rId1"/>
              </a:rPr>
              <a:t>č. 148/2012 Sb.</a:t>
            </a:r>
            <a:r>
              <a:rPr b="0" lang="en-US" sz="2000" spc="-1" strike="noStrike" u="sng">
                <a:solidFill>
                  <a:srgbClr val="ffffff"/>
                </a:solidFill>
                <a:uFillTx/>
                <a:latin typeface="Arial"/>
              </a:rPr>
              <a:t>, </a:t>
            </a:r>
            <a:r>
              <a:rPr b="0" lang="en-US" sz="2000" spc="-1" strike="noStrike">
                <a:solidFill>
                  <a:srgbClr val="ffffff"/>
                </a:solidFill>
                <a:latin typeface="Arial"/>
              </a:rPr>
              <a:t>o stanovení výše úhrady nákladů na připravenost poskytovatele zdravotnické záchranné služby na řešení mimořádných událostí a krizových situací ze státního rozpočtu</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2"/>
              </a:rPr>
              <a:t>č. 240/2012 Sb.</a:t>
            </a:r>
            <a:r>
              <a:rPr b="0" lang="en-US" sz="2000" spc="-1" strike="noStrike" u="sng">
                <a:solidFill>
                  <a:srgbClr val="ffffff"/>
                </a:solidFill>
                <a:uFillTx/>
                <a:latin typeface="Arial"/>
              </a:rPr>
              <a:t>,</a:t>
            </a:r>
            <a:r>
              <a:rPr b="0" lang="en-US" sz="2000" spc="-1" strike="noStrike">
                <a:solidFill>
                  <a:srgbClr val="ffffff"/>
                </a:solidFill>
                <a:latin typeface="Arial"/>
              </a:rPr>
              <a:t>kterou se provádí zákon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3"/>
              </a:rPr>
              <a:t>č.296/2012 Sb.</a:t>
            </a:r>
            <a:r>
              <a:rPr b="0" lang="en-US" sz="2000" spc="-1" strike="noStrike" u="sng">
                <a:solidFill>
                  <a:srgbClr val="ffffff"/>
                </a:solidFill>
                <a:uFillTx/>
                <a:latin typeface="Arial"/>
              </a:rPr>
              <a:t>,</a:t>
            </a:r>
            <a:r>
              <a:rPr b="0" lang="en-US" sz="2000" spc="-1" strike="noStrike">
                <a:solidFill>
                  <a:srgbClr val="ffffff"/>
                </a:solidFill>
                <a:latin typeface="Arial"/>
              </a:rPr>
              <a:t> o požadavcích na vybavení poskytovatele zdravotnické dopravní služby, poskytovatele zdravotnické záchranné služby a poskytovatele přepravy pacientů neodkladné péče dopravními prostředky a o požadavcích na tyto dopravní prostředk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58/2000 Sb., o ochraně veřejného zdra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123/2003 Sb., o zdravotnických prostředcí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8/2007 Sb., o léčive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85/2002 Sb., transplantační záko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96/2008 Sb., o lidských tkáních a buňká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66/1986 Sb., o umělém přerušení těhotenst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9/2005 Sb., o ochraně před návykovými látkam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Mezinárodní smlou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atifikace (souhlas Parlamentu, vyhlášení ve Sb.)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učást právního řádu - na roveň zákonu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tanoví-li mezinárodní smlouva něco jiného než zákon, použije se mezinárodní smlouva (viz čl.10 Ústavy ČR)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Nařízení vlád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á vláda k provedení zákona a v jeho mezích, a to: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a základě zmocnění v zákoně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z vlastní iniciati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hlášk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ají jednotlivé ústřední orgány k provedení příslušných ustanovení zákona na základě zmocnění v něm uvedeném.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becně závazné vyhlášky orgánů územní samosprá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5/1986 Sb., kterou se provádí zákon o umělém přerušení těhotenství</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2/2012 Sb., o požadavcích na minimální technické a věcné vybavení zdravotnických zařízení a kontaktních pracovišť domác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9/2012 Sb., o požadavcích na minimální personální zabezpečení zdravotních služeb</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8/2012 Sb, o zdravotnické dokumentac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39/2012 Sb., o dispenzární péč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0/2012 Sb., o preventivních prohlídkách</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2/2012 Sb., o hodnocení kvality a bezpečí lůžkové zdravotn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4/2012 Sb., o posouzení nemoci z povolání</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101/2012 Sb., o podrobnostech obsahu traumatologického plánu poskytovatele jednodenní a lůžkové péče</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116/2012 Sb., o předávání údajů do Národního zdravotnického informačního systému</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410/2012 Sb., o stanovení pravidel při lékařském ozáření</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296/2012 Sb., o požadavcích na vybavení zdravotnické dopravní služby</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297/2012 Sb., o Listu prohlídce zemřelého</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79/2013 Sb., o pracovnělékařských službách a druzích posudkové péč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5/2004 Sb., o podmínkách získávání a uznávání odborné způsobilosti a specializované způsobilosti k výkonu zdravotnického povolání lékaře, zubního lékaře a farmaceut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6/2004 Sb., </a:t>
            </a:r>
            <a:r>
              <a:rPr b="0" lang="en-US" sz="2400" spc="-1" strike="noStrike">
                <a:solidFill>
                  <a:srgbClr val="ffffff"/>
                </a:solidFill>
                <a:latin typeface="Arial"/>
              </a:rPr>
              <a:t>o podmínkách získávání a uznávání způsobilosti k výkonu nelékařských zdravotnických povolání a k výkonu činností souvisejících s poskytováním zdravotní péče a o změně některých souvisejících zákonů (zákon o nelékařských zdravotnických povoláních).</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řízení vlády č. 184/2009 Sb., o stanovení výše úhrad za atestační  a další zkoušky</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5/2009 Sb., o oborech specializačního vzdělávání lékařů, zubních lékařů, farmaceutů a oborech certifikovaných kurzů</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6/2009 Sb.,o stanovení postupu při vyhlášení výběrového řízení na rezidenční místo, průběhu výběrového řízení na rezidenční místo a základních kritérií k výběru rezident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7/2009 Sb., o minimálních požadavcích na studijní programy všeobecného lékařství, zubního lékařství, farmacie a na všeobecné praktické lékařství</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8/2009  Sb., o atestační zkoušce, aprobační zkoušce a závěrečné zkoušce certifikovaného kurzu</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275/2012 Sb., o zdravotní způsobilosti zdravotnického pracovníka i jiného odborného pracovníka ve zdravotnictví</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1"/>
              </a:rPr>
              <a:t>č. 189/2009 Sb.</a:t>
            </a:r>
            <a:r>
              <a:rPr b="0" lang="en-US" sz="1800" spc="-1" strike="noStrike" u="sng">
                <a:solidFill>
                  <a:srgbClr val="ffffff"/>
                </a:solidFill>
                <a:uFillTx/>
                <a:latin typeface="Tahoma"/>
              </a:rPr>
              <a:t>,</a:t>
            </a:r>
            <a:r>
              <a:rPr b="0" lang="en-US" sz="1800" spc="-1" strike="noStrike">
                <a:solidFill>
                  <a:srgbClr val="ffffff"/>
                </a:solidFill>
                <a:latin typeface="Tahoma"/>
              </a:rPr>
              <a:t>o atestační zkoušce, zkoušce k vydání osvědčení k výkonu zdravotnického povolání bez odborného dohledu, závěrečné zkoušce akreditovaných kvalifikačních kurzů a aprobační zkoušce a o postupu při ověření znalosti českého jazyka (vyhláška o zkouškách podle zákona o nelékařských zdravotnických povoláních)</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ařízení vlády </a:t>
            </a:r>
            <a:r>
              <a:rPr b="0" lang="en-US" sz="1800" spc="-1" strike="noStrike" u="sng">
                <a:solidFill>
                  <a:srgbClr val="ffcc66"/>
                </a:solidFill>
                <a:uFillTx/>
                <a:latin typeface="Tahoma"/>
                <a:hlinkClick r:id="rId2"/>
              </a:rPr>
              <a:t>č. 31/2010 Sb.</a:t>
            </a:r>
            <a:r>
              <a:rPr b="0" lang="en-US" sz="1800" spc="-1" strike="noStrike" u="sng">
                <a:solidFill>
                  <a:srgbClr val="ffffff"/>
                </a:solidFill>
                <a:uFillTx/>
                <a:latin typeface="Tahoma"/>
              </a:rPr>
              <a:t>, </a:t>
            </a:r>
            <a:r>
              <a:rPr b="0" lang="en-US" sz="1800" spc="-1" strike="noStrike">
                <a:solidFill>
                  <a:srgbClr val="ffffff"/>
                </a:solidFill>
                <a:latin typeface="Tahoma"/>
              </a:rPr>
              <a:t>o oborech specializačního vzdělávání a označení odbornosti zdravotnických pracovníků se specializovanou způsobilostí</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3"/>
              </a:rPr>
              <a:t>č. 55/2011 Sb.</a:t>
            </a:r>
            <a:r>
              <a:rPr b="0" lang="en-US" sz="1800" spc="-1" strike="noStrike" u="sng">
                <a:solidFill>
                  <a:srgbClr val="ffffff"/>
                </a:solidFill>
                <a:uFillTx/>
                <a:latin typeface="Tahoma"/>
              </a:rPr>
              <a:t>, </a:t>
            </a:r>
            <a:r>
              <a:rPr b="0" lang="en-US" sz="1800" spc="-1" strike="noStrike">
                <a:solidFill>
                  <a:srgbClr val="ffffff"/>
                </a:solidFill>
                <a:latin typeface="Tahoma"/>
              </a:rPr>
              <a:t>o činnostech zdravotnických pracovníků a jiných odborných pracovník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a:t>
            </a:r>
            <a:r>
              <a:rPr b="0" lang="en-US" sz="1600" spc="-1" strike="noStrike">
                <a:solidFill>
                  <a:srgbClr val="ffffff"/>
                </a:solidFill>
                <a:latin typeface="Tahoma"/>
              </a:rPr>
              <a:t>, </a:t>
            </a:r>
            <a:r>
              <a:rPr b="0" lang="en-US" sz="1600" spc="-1" strike="noStrike" u="sng">
                <a:solidFill>
                  <a:srgbClr val="ffcc66"/>
                </a:solidFill>
                <a:uFillTx/>
                <a:latin typeface="Tahoma"/>
                <a:hlinkClick r:id="rId1"/>
              </a:rPr>
              <a:t>č. 423/2004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kreditní systém pro vydání osvědčení k výkonu zdravotnického povolání bez přímého vedení nebo odborného dohledu zdravotnických pracovníků</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 </a:t>
            </a:r>
            <a:r>
              <a:rPr b="0" lang="en-US" sz="1600" spc="-1" strike="noStrike" u="sng">
                <a:solidFill>
                  <a:srgbClr val="ffcc66"/>
                </a:solidFill>
                <a:uFillTx/>
                <a:latin typeface="Tahoma"/>
                <a:hlinkClick r:id="rId2"/>
              </a:rPr>
              <a:t>č. 39/2005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minimální požadavky na studijní programy k  získání odborné způsobilosti k výkonu nelékařského zdravotnického povolání</a:t>
            </a:r>
            <a:endParaRPr b="0" lang="en-US" sz="16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dělení MZ ČR </a:t>
            </a:r>
            <a:r>
              <a:rPr b="0" lang="en-US" sz="2000" spc="-1" strike="noStrike" u="sng">
                <a:solidFill>
                  <a:srgbClr val="ffcc66"/>
                </a:solidFill>
                <a:uFillTx/>
                <a:latin typeface="Tahoma"/>
                <a:hlinkClick r:id="rId3"/>
              </a:rPr>
              <a:t>č. 275/2007 Sb.</a:t>
            </a:r>
            <a:r>
              <a:rPr b="0" lang="en-US" sz="2000" spc="-1" strike="noStrike" u="sng">
                <a:solidFill>
                  <a:srgbClr val="ffffff"/>
                </a:solidFill>
                <a:uFillTx/>
                <a:latin typeface="Tahoma"/>
              </a:rPr>
              <a:t>, </a:t>
            </a:r>
            <a:r>
              <a:rPr b="0" lang="en-US" sz="2000" spc="-1" strike="noStrike">
                <a:solidFill>
                  <a:srgbClr val="ffffff"/>
                </a:solidFill>
                <a:latin typeface="Tahoma"/>
              </a:rPr>
              <a:t>o vyhlášení dokladů osvědčujících nabytá práva o dosažené kvalifikaci lékaře, zubního lékaře, farmaceuta, všeobecné sestry a porodní asistentky, udělovaných na území členských států Evropské unie 1) a seznamu diplomů, osvědčení a jiných dokladů o dosažené kvalifikaci lékařů, zubních lékařů, farmaceutů, všeobecných sester a porodních asistentek, udělovaných na území členských států Evropské unie a institucí a orgánů, které je vydávaj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48/1997 Sb., o veřejném zdravotním pojištění, upravující právní vztahy zdravotních pojištění, pojištěnců a poskytovatelů zdravotních služeb</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551/1991 Sb., o Všeobecné zdravotní pojišťovně České republik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280/1992 Sb., o rezortních, oborových, podnikových a dalších zdravotních pojišťov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18/2006 Sb., o rámcových smlouv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134/1998 Sb. o seznamu zdravotních výkonů s bodovými hodnotami</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475/2012 Sb., o stanovení hodnoty bodu, výše úhrad zdravotní péče hrazené z veřejného zdravotního pojištění a regulačních omezeních objemu posk\tované zdravotní péče za rok 2013</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y č. 376/2011 Sb., kterou provádějí některá ustanovení zákona o veřejném zdravotním pojištění</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4/2007., o seznamu referenčních skupi léčivých přípravků</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8/1997 Sb., kterou se stanoví indikační seznam pro lázeňskou péči o dospělé, děti a dorost</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9/1997 Sb., kterou se stanoví indikační seznam zdravotní péče v odborných dětských léčeb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5/2007 Sb., o stanovení seznamu léčivých přípravků určených k podpůrné nebo doplňkové léč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3/2007 Sb., o úhradách léčiv a potravin pro zvláštní lékařské účel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Nařízení vlády č. 307/2012 Sb., o místní a časové dostupnosti hrazených služeb</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ávní a stavovské předpisy</a:t>
            </a:r>
            <a:endParaRPr b="0" lang="en-US" sz="4400" spc="-1" strike="noStrike">
              <a:solidFill>
                <a:srgbClr val="ffffcc"/>
              </a:solidFill>
              <a:latin typeface="Tahoma"/>
            </a:endParaRPr>
          </a:p>
        </p:txBody>
      </p:sp>
      <p:sp>
        <p:nvSpPr>
          <p:cNvPr id="2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č. 220/1991 Sb., o České lékařské komoře, České stomatologické komoře a České lékárnické komoř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vovský předpis – organizační řád, disciplinární řád, volební řád, jednací řád, etický kodex, licenční řá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ĚKUJI ZA POZORNOST</a:t>
            </a:r>
            <a:endParaRPr b="0" lang="en-US" sz="4400" spc="-1" strike="noStrike">
              <a:solidFill>
                <a:srgbClr val="ffffcc"/>
              </a:solidFill>
              <a:latin typeface="Tahoma"/>
            </a:endParaRPr>
          </a:p>
        </p:txBody>
      </p:sp>
      <p:sp>
        <p:nvSpPr>
          <p:cNvPr id="272" name="PlaceHolder 2"/>
          <p:cNvSpPr>
            <a:spLocks noGrp="1"/>
          </p:cNvSpPr>
          <p:nvPr>
            <p:ph/>
          </p:nvPr>
        </p:nvSpPr>
        <p:spPr>
          <a:xfrm>
            <a:off x="1301760" y="2079360"/>
            <a:ext cx="4782960" cy="3220920"/>
          </a:xfrm>
          <a:prstGeom prst="rect">
            <a:avLst/>
          </a:prstGeom>
          <a:noFill/>
          <a:ln w="0">
            <a:noFill/>
          </a:ln>
        </p:spPr>
        <p:txBody>
          <a:bodyPr anchor="t">
            <a:normAutofit/>
          </a:bodyPr>
          <a:p>
            <a:pPr marL="272880" indent="-272880">
              <a:lnSpc>
                <a:spcPct val="10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Arial"/>
              </a:rPr>
              <a:t>Jana Konečná</a:t>
            </a:r>
            <a:endParaRPr b="0" lang="en-US" sz="2600" spc="-1" strike="noStrike">
              <a:solidFill>
                <a:srgbClr val="ffffff"/>
              </a:solidFill>
              <a:latin typeface="Tahoma"/>
            </a:endParaRPr>
          </a:p>
          <a:p>
            <a:pPr marL="272880" indent="-272880">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ahoma"/>
              </a:rPr>
              <a:t>E-mail: </a:t>
            </a:r>
            <a:r>
              <a:rPr b="1" lang="cs-CZ" sz="2600" spc="-1" strike="noStrike">
                <a:solidFill>
                  <a:srgbClr val="ffffff"/>
                </a:solidFill>
                <a:latin typeface="Arial"/>
              </a:rPr>
              <a:t>167221@mail.muni.cz</a:t>
            </a:r>
            <a:endParaRPr b="0" lang="en-US" sz="2600" spc="-1" strike="noStrike">
              <a:solidFill>
                <a:srgbClr val="ffffff"/>
              </a:solidFill>
              <a:latin typeface="Tahom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EU: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řízení – přímá aplikace v členských zemích EU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ěrnice – nejsou přímo aplikovatelné,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rávní řády členských států je nutno s nimi harmonizov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5:44:38Z</dcterms:modified>
  <cp:revision>70</cp:revision>
  <dc:subject/>
  <dc:title>Snímek 1</dc:title>
</cp:coreProperties>
</file>