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686-2967-4873-9FF0-6C415ED5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A98-F267-4E2E-A149-3EFC3733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FAE-40E3-44F3-896A-97F18327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6D7-9EF5-49ED-8723-0239A1CC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2BD-26F4-4357-8C9B-2D3F30B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108-F529-4E8A-AF07-7CEAE53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D56-B50F-437F-8AE7-9AA838D7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221-7E9C-4B44-A547-967607DB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8B1-D11F-477C-9E60-CD9C7AB4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0B4B-F1F2-43FB-B224-9A3F9D4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9EE-CD95-4B76-AF61-7E0B57F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343-753F-4804-8194-516502F2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C901-89B2-45E6-B443-578944071B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idskaprava.cz/student/uvod-do-lidskych-prav/hry-a-kvizy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lidskaprava.cz/student/uvod-do-lidskych-prav/hry-a-kvizy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adpis 1" descr=""/>
          <p:cNvPicPr/>
          <p:nvPr/>
        </p:nvPicPr>
        <p:blipFill>
          <a:blip r:embed="rId1"/>
          <a:stretch/>
        </p:blipFill>
        <p:spPr>
          <a:xfrm>
            <a:off x="1523880" y="1122480"/>
            <a:ext cx="9144000" cy="238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e699"/>
                </a:solidFill>
                <a:latin typeface="Calibri"/>
              </a:rPr>
              <a:t>9.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e699"/>
                </a:solidFill>
                <a:latin typeface="Calibri Light"/>
              </a:rPr>
              <a:t>Promysli odpovědi na otázky …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Kde se lidská práva vzal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Čím se lidská práva liší od ostatních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Jak ovlivňují každého z nás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Proč jsou tak významná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2f2f2"/>
                </a:solidFill>
                <a:latin typeface="Calibri"/>
              </a:rPr>
              <a:t>A jaký je vztah mezi právy, požadavky a potřebami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svobodní a sobě rovn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život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Nediskriminuj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avedlivé zacházení před nestrannými soud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otroctví – minulost a současno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Zákaz muč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sociální zabezpečení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máme stejné právo použít zák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pl-PL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Všichni jsme pod ochranou záko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nespravedlivého zadržován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esumpce neviny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ohyb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azyl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tátní příslušnos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želství a rodina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ý majetek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myšle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oboda projevu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a shromažďov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demokracii </a:t>
                      </a: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ká prá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soukrom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na hru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Obydlí a výživa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Právo na vzdělání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 a autorská práv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Svobodný a spravedlivý svět </a:t>
                      </a:r>
                      <a:r>
                        <a:rPr b="1" lang="cs-CZ" sz="1700" spc="-1" strike="noStrike">
                          <a:solidFill>
                            <a:srgbClr val="7f7f7f"/>
                          </a:solidFill>
                          <a:latin typeface="Calibri"/>
                        </a:rPr>
                        <a:t>	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  <p:sp>
        <p:nvSpPr>
          <p:cNvPr id="46" name="TextovéPole 4"/>
          <p:cNvSpPr/>
          <p:nvPr/>
        </p:nvSpPr>
        <p:spPr>
          <a:xfrm>
            <a:off x="1060560" y="3206880"/>
            <a:ext cx="100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Z následující nabídky práv vyber 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3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 a napiš</a:t>
            </a:r>
            <a:r>
              <a:rPr b="1" lang="cs-CZ" sz="2400" spc="-1" strike="noStrike">
                <a:solidFill>
                  <a:srgbClr val="ffe699"/>
                </a:solidFill>
                <a:latin typeface="Calibri"/>
              </a:rPr>
              <a:t> jakým způsobem každé z těchto práv ovlivňuje jejich každodenní život</a:t>
            </a:r>
            <a:r>
              <a:rPr b="1" lang="cs-CZ" sz="2400" spc="-1" strike="noStrike">
                <a:solidFill>
                  <a:srgbClr val="f2f2f2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38080" y="361800"/>
            <a:ext cx="10515600" cy="613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2f2f2"/>
                </a:solidFill>
                <a:latin typeface="Calibri"/>
              </a:rPr>
              <a:t>Uvědomění </a:t>
            </a: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– volné psaní, čas 2 minuty, každý jeden pojem (po řadách, dvojicích, los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Ve dvojicích si vzájemně přečtěte, co jste napsali, doplňte, zakroužkujte společná slo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2f2f2"/>
                </a:solidFill>
                <a:latin typeface="Calibri"/>
              </a:rPr>
              <a:t>Na tabuli dáme 4 velké papíry s názvy. Děti doplňují hesla ze svých textů (třídění informací), můžu připsat pojmy ze své tabul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e699"/>
                </a:solidFill>
                <a:latin typeface="Calibri"/>
              </a:rPr>
              <a:t>Do seši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e699"/>
                </a:solidFill>
                <a:latin typeface="Calibri"/>
              </a:rPr>
              <a:t>Dodržování lidských práv prolíná všemi činnostmi lidského konání, má vliv na fungování státu, má rovněž vliv na bezpečnost v regionu, státu i kontinen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1219212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  <a:gridCol w="3048120"/>
              </a:tblGrid>
              <a:tr h="12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PRÁVNÍ ST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DEMOKRA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MÍR V EVROP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2cc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5760">
                      <a:solidFill>
                        <a:srgbClr val="a5a5a5"/>
                      </a:solidFill>
                    </a:lnT>
                    <a:lnB w="12240">
                      <a:solidFill>
                        <a:srgbClr val="a5a5a5"/>
                      </a:solidFill>
                    </a:lnB>
                    <a:solidFill>
                      <a:srgbClr val="404040"/>
                    </a:solidFill>
                  </a:tcPr>
                </a:tc>
              </a:tr>
              <a:tr h="559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zákon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d, poh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ralita názor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l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ké str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pravi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hrana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in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ehká rov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e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os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ržování lidských prá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buds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át a záko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ládní organiz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a5a5a5"/>
                      </a:solidFill>
                    </a:lnL>
                    <a:lnR w="5760">
                      <a:solidFill>
                        <a:srgbClr val="a5a5a5"/>
                      </a:solidFill>
                    </a:lnR>
                    <a:lnT w="12240">
                      <a:solidFill>
                        <a:srgbClr val="a5a5a5"/>
                      </a:solidFill>
                    </a:lnT>
                    <a:lnB w="5760">
                      <a:solidFill>
                        <a:srgbClr val="a5a5a5"/>
                      </a:solidFill>
                    </a:lnB>
                    <a:solidFill>
                      <a:srgbClr val="f2f2f2">
                        <a:alpha val="9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kupina 4"/>
          <p:cNvGrpSpPr/>
          <p:nvPr/>
        </p:nvGrpSpPr>
        <p:grpSpPr>
          <a:xfrm>
            <a:off x="2489040" y="2212920"/>
            <a:ext cx="7213680" cy="2432160"/>
            <a:chOff x="2489040" y="2212920"/>
            <a:chExt cx="7213680" cy="2432160"/>
          </a:xfrm>
        </p:grpSpPr>
        <p:pic>
          <p:nvPicPr>
            <p:cNvPr id="51" name="Picture 2" descr="LidskÃ¡ prÃ¡va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489040" y="2641320"/>
              <a:ext cx="2019960" cy="1575000"/>
            </a:xfrm>
            <a:prstGeom prst="rect">
              <a:avLst/>
            </a:prstGeom>
            <a:ln cap="sq" w="444600">
              <a:solidFill>
                <a:srgbClr val="000000"/>
              </a:solidFill>
              <a:miter/>
            </a:ln>
            <a:effectLst>
              <a:outerShdw dist="190409" dir="2700000" blurRad="0" rotWithShape="0">
                <a:srgbClr val="000000">
                  <a:alpha val="40000"/>
                </a:srgbClr>
              </a:outerShdw>
            </a:effectLst>
          </p:spPr>
        </p:pic>
        <p:sp>
          <p:nvSpPr>
            <p:cNvPr id="52" name="Pětiúhelník 3">
              <a:hlinkClick r:id="rId3"/>
            </p:cNvPr>
            <p:cNvSpPr/>
            <p:nvPr/>
          </p:nvSpPr>
          <p:spPr>
            <a:xfrm>
              <a:off x="4893480" y="2212920"/>
              <a:ext cx="4809240" cy="2432160"/>
            </a:xfrm>
            <a:custGeom>
              <a:avLst/>
              <a:gdLst>
                <a:gd name="textAreaLeft" fmla="*/ 0 w 4809240"/>
                <a:gd name="textAreaRight" fmla="*/ 4809240 w 48092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36" y="0"/>
                  </a:lnTo>
                  <a:lnTo>
                    <a:pt x="21600" y="10800"/>
                  </a:lnTo>
                  <a:lnTo>
                    <a:pt x="161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Calibri"/>
                </a:rPr>
                <a:t>KVÍZY NA TÉMATA O LIDSKÝCH PRÁVE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2T13:34:14Z</dcterms:created>
  <dc:creator>Josef Strouhal</dc:creator>
  <dc:description/>
  <dc:language>en-US</dc:language>
  <cp:lastModifiedBy>Josef Strouhal</cp:lastModifiedBy>
  <dcterms:modified xsi:type="dcterms:W3CDTF">2019-03-12T14:54:49Z</dcterms:modified>
  <cp:revision>6</cp:revision>
  <dc:subject/>
  <dc:title>Cvičení lidská práva</dc:title>
</cp:coreProperties>
</file>