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F581D-0424-410D-8D22-B3CAD6681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1B6F-77F6-4258-9ABE-D40D1143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4C89C-A2A7-4FD1-9512-71115268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E5F61-CBF0-4977-9584-6A9AE8ABE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9FC970-EC18-440B-9640-B86C4EA2A5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56D98-5355-4D13-9065-1BEA3FF66C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B02A1-2008-4309-B9A4-E99D4A240DD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505A5-A023-48A2-B5DE-3639A67384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38BF3-271B-4591-80F3-E86693C526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1A7274-1ACB-4CA0-8815-64B51A22CF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25046-FD3A-4D8B-AB3B-0715BBDD1C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FF2D-4247-4D01-8213-4A29E13C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5D9F3-93C4-496D-A334-CBC18E22C7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46E81-EA5A-4BC7-9660-D0E65638C3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F140B-5D03-4EF6-9B99-DA4B579304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EA9D3-C6C0-48C3-9654-26DBDCEBBF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AF902D-C838-4A98-BEED-817CF1EE1F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384DE-CDCD-400F-A7D8-42B6622FE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29DB3-7821-4484-B53E-089DBD052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D869-A158-4BB8-AF13-DB8072E95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98B9-8C8A-4B88-B581-BD178DA0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004E-CA8B-4C8A-AC4F-F77CAD2A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B03B-5CAD-42FD-AF87-38F418A2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6865-178E-4B53-81F4-575EF868E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1F87-571E-4432-814C-7770D9806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62D9-5D64-4416-938B-8C4E841EEC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dinace.cz/clanek/detske-infekcni-nemoc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ůst a vývoj dítěte - charakteristika - mladší školní věk - nejčastější patologie, výživa u dětí – specifika u mladšího školního věku. Poruchy výživ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468360" y="333360"/>
            <a:ext cx="8028000" cy="6012000"/>
          </a:xfrm>
          <a:prstGeom prst="rect">
            <a:avLst/>
          </a:prstGeom>
          <a:ln w="0">
            <a:noFill/>
          </a:ln>
        </p:spPr>
      </p:pic>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ocházka dětí do školy vede k řadě změn. Tyto změny se promítají i do stravovacích návyků.. Děti po probuzení obvykle nemají hlad a snídani nevyžaduji.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Většina dětí ani nesnídá ani nesvačí a do školy přichází asi 25 % dětí bez svačiny. Školní výuka a s ní související povinnosti vedou ke zvýšené psychické zátěži dítěte, mohou se objevovat i stresové okamžiky.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Nedostatečný příjem potravy navozuje poruchy pozornosti, zvyšuje únavu dítěte, potřeby úniku. Obdobně působí nedostatečný příjem tekutin. Během noci dítě nepije, nastává určitá koncentrace vnitřního prostředí. Chybění tekutin při snídani tento stav ještě zhoršuje a dítě může mít problémy ve škole ne proto, že se špatně připravilo do učebního procesu, ale proto, že organismus není v optimální formě. Školní děti by proto měly mít dostatek prostoru pro ranní příjem potravy i tekutin a měly by být vybaveny z domova svačino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ojekt „mléko pro školní děti“ má proto svůj velký význam. Dítě tak může dostávat kvalitní potravinu a současně tekutinu.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běd dítě dostává buď ve školních jídelnách, nebo někdy až opožděně, po návratu do domácího prostředí. </a:t>
            </a:r>
            <a:endParaRPr b="0" lang="en-US" sz="2200" spc="-1" strike="noStrike">
              <a:solidFill>
                <a:srgbClr val="ffffff"/>
              </a:solidFill>
              <a:latin typeface="Tahoma"/>
            </a:endParaRPr>
          </a:p>
          <a:p>
            <a:pPr marL="318960" indent="-31896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Určité nebezpečí vyplývá ze zjednodušenosti výběru potravy.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timální rozložení stravy </a:t>
            </a:r>
            <a:r>
              <a:rPr b="0" lang="cs-CZ" sz="2400" spc="-1" strike="noStrike">
                <a:solidFill>
                  <a:srgbClr val="ffffff"/>
                </a:solidFill>
                <a:latin typeface="Tahoma"/>
              </a:rPr>
              <a:t>by mělo být </a:t>
            </a:r>
            <a:r>
              <a:rPr b="0" lang="en-US" sz="2400" spc="-1" strike="noStrike">
                <a:solidFill>
                  <a:srgbClr val="ffffff"/>
                </a:solidFill>
                <a:latin typeface="Tahoma"/>
              </a:rPr>
              <a:t>následující</a:t>
            </a:r>
            <a:r>
              <a:rPr b="0" lang="cs-CZ" sz="2400" spc="-1" strike="noStrike">
                <a:solidFill>
                  <a:srgbClr val="ffffff"/>
                </a:solidFill>
                <a:latin typeface="Tahoma"/>
              </a:rPr>
              <a:t> :</a:t>
            </a:r>
            <a:endParaRPr b="0" lang="en-US" sz="2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ídaně by měla pokrývat 2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a:t>
            </a:r>
            <a:r>
              <a:rPr b="0" lang="en-US" sz="3200" spc="-1" strike="noStrike">
                <a:solidFill>
                  <a:srgbClr val="ffffff"/>
                </a:solidFill>
                <a:latin typeface="Tahoma"/>
              </a:rPr>
              <a:t>řesnídávka 15%</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O</a:t>
            </a:r>
            <a:r>
              <a:rPr b="0" lang="en-US" sz="3200" spc="-1" strike="noStrike">
                <a:solidFill>
                  <a:srgbClr val="ffffff"/>
                </a:solidFill>
                <a:latin typeface="Tahoma"/>
              </a:rPr>
              <a:t>běd 3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cs-CZ" sz="3200" spc="-1" strike="noStrike">
                <a:solidFill>
                  <a:srgbClr val="ffffff"/>
                </a:solidFill>
                <a:latin typeface="Tahoma"/>
              </a:rPr>
              <a:t>S</a:t>
            </a:r>
            <a:r>
              <a:rPr b="0" lang="en-US" sz="3200" spc="-1" strike="noStrike">
                <a:solidFill>
                  <a:srgbClr val="ffffff"/>
                </a:solidFill>
                <a:latin typeface="Tahoma"/>
              </a:rPr>
              <a:t>vačina 15%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a:t>
            </a:r>
            <a:r>
              <a:rPr b="0" lang="en-US" sz="3200" spc="-1" strike="noStrike">
                <a:solidFill>
                  <a:srgbClr val="ffffff"/>
                </a:solidFill>
                <a:latin typeface="Tahoma"/>
              </a:rPr>
              <a:t>ečeře 20% celkové energie.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i určení přiměřeného množství potravy je nutné přihlédnout i k fyzickým aktivitám dítě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742080"/>
          </a:xfrm>
          <a:prstGeom prst="rect">
            <a:avLst/>
          </a:prstGeom>
          <a:ln w="0">
            <a:noFill/>
          </a:ln>
        </p:spPr>
      </p:pic>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dravá pětka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je preventivní projekt, který se zaměřuje na prevenci dětské obezity.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Projekt je určen především dětem - žákům prvního stupně základních škol.</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 </a:t>
            </a:r>
            <a:r>
              <a:rPr b="0" lang="en-US" sz="2800" spc="-1" strike="noStrike">
                <a:solidFill>
                  <a:srgbClr val="33cccc"/>
                </a:solidFill>
                <a:latin typeface="Tahoma"/>
              </a:rPr>
              <a:t>Formou her a soutěží se tento </a:t>
            </a:r>
            <a:r>
              <a:rPr b="1" lang="en-US" sz="2800" spc="-1" strike="noStrike">
                <a:solidFill>
                  <a:srgbClr val="33cccc"/>
                </a:solidFill>
                <a:latin typeface="Tahoma"/>
              </a:rPr>
              <a:t>vzdělávací projekt snaží podnítit u dětí dobrý vztah k ovoci a zelenině</a:t>
            </a:r>
            <a:r>
              <a:rPr b="0" lang="en-US" sz="2800" spc="-1" strike="noStrike">
                <a:solidFill>
                  <a:srgbClr val="33cccc"/>
                </a:solidFill>
                <a:latin typeface="Tahoma"/>
              </a:rPr>
              <a:t>. Jeho hravá forma nezdůrazňuje, že ovoce a zeleninu musíme jíst, protože je zdravá. </a:t>
            </a:r>
            <a:endParaRPr b="0" lang="en-US" sz="2800" spc="-1" strike="noStrike">
              <a:solidFill>
                <a:srgbClr val="ffffff"/>
              </a:solidFill>
              <a:latin typeface="Tahoma"/>
            </a:endParaRPr>
          </a:p>
          <a:p>
            <a:pPr marL="315360" indent="-3153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Zdravá Pětka hledá způsob, jak změnit pohled dětí na ovoce a zeleninu, aby je vnímaly jako přirozenou součást jejich každodenní stravy.</a:t>
            </a:r>
            <a:endParaRPr b="0" lang="en-US" sz="2800" spc="-1" strike="noStrike">
              <a:solidFill>
                <a:srgbClr val="ffffff"/>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73840"/>
          </a:xfrm>
          <a:prstGeom prst="rect">
            <a:avLst/>
          </a:prstGeom>
          <a:ln w="0">
            <a:noFill/>
          </a:ln>
        </p:spPr>
      </p:pic>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OBEZITA</a:t>
            </a:r>
            <a:endParaRPr b="0" lang="en-US" sz="36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Mezinárodní výzkum udává, že více než 22 milionů dětí ve věku do 5 let po celém světě má nadváhu, nebo trpí obezitou. V České republice je obézních 10% dětí ve věku 6 až 12 let a 10% dětí má nadváhu.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Hlavní podmínkou vzniku nadváhy je souběh kaloricky hutné stravy a sedavého způsobu života. Jeho symbolem je sezení u televize, počítače a videoher, méně chodí a stále více se vozí. </a:t>
            </a:r>
            <a:endParaRPr b="0" lang="en-US" sz="2600" spc="-1" strike="noStrike">
              <a:solidFill>
                <a:srgbClr val="ffffff"/>
              </a:solidFill>
              <a:latin typeface="Tahoma"/>
            </a:endParaRPr>
          </a:p>
          <a:p>
            <a:pPr marL="318960" indent="-31896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Obezita u dětí není jen kosmetickou záležitostí, ale má závažné vedlejší účinky na látkovou výměnu, zatěžuje kostní, kloubní a cévní systém. V poslední době se však stále více uvažuje i o možné genetické dispozici</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užitá literatura</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ordinace.cz/clanek/detske-infekcni-nemoc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198440" y="-898560"/>
            <a:ext cx="11540880" cy="8656560"/>
          </a:xfrm>
          <a:prstGeom prst="rect">
            <a:avLst/>
          </a:prstGeom>
          <a:ln w="0">
            <a:noFill/>
          </a:ln>
        </p:spPr>
      </p:pic>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Růst a vývoj dítět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Mladší školní věk zahrnuje období mezi šestým až desátým, případně dvanáctým rokem.</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V období mladšího školního věku se také vyvíjí smyslové vnímání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Potřeby živin i ostatních látek na jednotku hmotnosti se postupně snižují.</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ěti mladšího školního věku potřebují k zajištění svého přiměřeného růstu a vývoje asi 2000 kcal/den.</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Dítě dostává druhý chrup - změna v postavení čelistí, resp.tváře. </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Osifikace kostí není ještě ukončena</a:t>
            </a:r>
            <a:endParaRPr b="0" lang="en-US" sz="2500" spc="-1" strike="noStrike">
              <a:solidFill>
                <a:srgbClr val="ffffff"/>
              </a:solidFill>
              <a:latin typeface="Tahoma"/>
            </a:endParaRPr>
          </a:p>
          <a:p>
            <a:pPr marL="298440" indent="-29844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00"/>
                </a:solidFill>
                <a:latin typeface="Tahoma"/>
              </a:rPr>
              <a:t>Rovnoměrně vzrůstá celková výkonnost</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jčastější patologie</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dné držení těl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štov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ušnic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lničky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ši</a:t>
            </a:r>
            <a:endParaRPr b="0" lang="en-US" sz="32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2000" fill="hold"/>
                                        <p:tgtEl>
                                          <p:spTgt spid="87"/>
                                        </p:tgtEl>
                                        <p:attrNameLst>
                                          <p:attrName>ppt_w</p:attrName>
                                        </p:attrNameLst>
                                      </p:cBhvr>
                                      <p:tavLst>
                                        <p:tav tm="0">
                                          <p:val>
                                            <p:strVal val="#ppt_w"/>
                                          </p:val>
                                        </p:tav>
                                        <p:tav tm="100000">
                                          <p:val>
                                            <p:strVal val="#ppt_w"/>
                                          </p:val>
                                        </p:tav>
                                      </p:tavLst>
                                    </p:anim>
                                    <p:anim calcmode="lin" valueType="num">
                                      <p:cBhvr additive="repl">
                                        <p:cTn id="8" dur="2000" fill="hold"/>
                                        <p:tgtEl>
                                          <p:spTgt spid="8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87"/>
                                        </p:tgtEl>
                                        <p:attrNameLst>
                                          <p:attrName>ppt_x</p:attrName>
                                        </p:attrNameLst>
                                      </p:cBhvr>
                                      <p:tavLst>
                                        <p:tav tm="0">
                                          <p:val>
                                            <p:strVal val="#ppt_x-.4"/>
                                          </p:val>
                                        </p:tav>
                                        <p:tav tm="100000">
                                          <p:val>
                                            <p:strVal val="#ppt_x"/>
                                          </p:val>
                                        </p:tav>
                                      </p:tavLst>
                                    </p:anim>
                                    <p:anim calcmode="lin" valueType="num">
                                      <p:cBhvr additive="repl">
                                        <p:cTn id="10" dur="2000" fill="hold"/>
                                        <p:tgtEl>
                                          <p:spTgt spid="8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88">
                                            <p:txEl>
                                              <p:pRg st="0" end="0"/>
                                            </p:txEl>
                                          </p:spTgt>
                                        </p:tgtEl>
                                        <p:attrNameLst>
                                          <p:attrName>style.visibility</p:attrName>
                                        </p:attrNameLst>
                                      </p:cBhvr>
                                      <p:to>
                                        <p:strVal val="visible"/>
                                      </p:to>
                                    </p:set>
                                    <p:animEffect filter="fade" transition="in">
                                      <p:cBhvr additive="repl">
                                        <p:cTn id="15" dur="500">
                                          <p:stCondLst>
                                            <p:cond delay="0"/>
                                          </p:stCondLst>
                                        </p:cTn>
                                        <p:tgtEl>
                                          <p:spTgt spid="88">
                                            <p:txEl>
                                              <p:pRg st="0" end="0"/>
                                            </p:txEl>
                                          </p:spTgt>
                                        </p:tgtEl>
                                      </p:cBhvr>
                                    </p:animEffect>
                                    <p:anim calcmode="lin" valueType="num">
                                      <p:cBhvr additive="repl">
                                        <p:cTn id="16" dur="500" fill="hold">
                                          <p:stCondLst>
                                            <p:cond delay="0"/>
                                          </p:stCondLst>
                                        </p:cTn>
                                        <p:tgtEl>
                                          <p:spTgt spid="88">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88">
                                            <p:txEl>
                                              <p:pRg st="1" end="1"/>
                                            </p:txEl>
                                          </p:spTgt>
                                        </p:tgtEl>
                                        <p:attrNameLst>
                                          <p:attrName>style.visibility</p:attrName>
                                        </p:attrNameLst>
                                      </p:cBhvr>
                                      <p:to>
                                        <p:strVal val="visible"/>
                                      </p:to>
                                    </p:set>
                                    <p:animEffect filter="fade" transition="in">
                                      <p:cBhvr additive="repl">
                                        <p:cTn id="22" dur="500">
                                          <p:stCondLst>
                                            <p:cond delay="0"/>
                                          </p:stCondLst>
                                        </p:cTn>
                                        <p:tgtEl>
                                          <p:spTgt spid="88">
                                            <p:txEl>
                                              <p:pRg st="1" end="1"/>
                                            </p:txEl>
                                          </p:spTgt>
                                        </p:tgtEl>
                                      </p:cBhvr>
                                    </p:animEffect>
                                    <p:anim calcmode="lin" valueType="num">
                                      <p:cBhvr additive="repl">
                                        <p:cTn id="23" dur="500" fill="hold">
                                          <p:stCondLst>
                                            <p:cond delay="0"/>
                                          </p:stCondLst>
                                        </p:cTn>
                                        <p:tgtEl>
                                          <p:spTgt spid="88">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88">
                                            <p:txEl>
                                              <p:pRg st="2" end="2"/>
                                            </p:txEl>
                                          </p:spTgt>
                                        </p:tgtEl>
                                        <p:attrNameLst>
                                          <p:attrName>style.visibility</p:attrName>
                                        </p:attrNameLst>
                                      </p:cBhvr>
                                      <p:to>
                                        <p:strVal val="visible"/>
                                      </p:to>
                                    </p:set>
                                    <p:animEffect filter="fade" transition="in">
                                      <p:cBhvr additive="repl">
                                        <p:cTn id="29" dur="500">
                                          <p:stCondLst>
                                            <p:cond delay="0"/>
                                          </p:stCondLst>
                                        </p:cTn>
                                        <p:tgtEl>
                                          <p:spTgt spid="88">
                                            <p:txEl>
                                              <p:pRg st="2" end="2"/>
                                            </p:txEl>
                                          </p:spTgt>
                                        </p:tgtEl>
                                      </p:cBhvr>
                                    </p:animEffect>
                                    <p:anim calcmode="lin" valueType="num">
                                      <p:cBhvr additive="repl">
                                        <p:cTn id="30" dur="500" fill="hold">
                                          <p:stCondLst>
                                            <p:cond delay="0"/>
                                          </p:stCondLst>
                                        </p:cTn>
                                        <p:tgtEl>
                                          <p:spTgt spid="88">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 dur="500">
                                          <p:stCondLst>
                                            <p:cond delay="0"/>
                                          </p:stCondLst>
                                        </p:cTn>
                                        <p:tgtEl>
                                          <p:spTgt spid="88">
                                            <p:txEl>
                                              <p:pRg st="3" end="3"/>
                                            </p:txEl>
                                          </p:spTgt>
                                        </p:tgtEl>
                                      </p:cBhvr>
                                    </p:animEffect>
                                    <p:anim calcmode="lin" valueType="num">
                                      <p:cBhvr additive="repl">
                                        <p:cTn id="37" dur="500" fill="hold">
                                          <p:stCondLst>
                                            <p:cond delay="0"/>
                                          </p:stCondLst>
                                        </p:cTn>
                                        <p:tgtEl>
                                          <p:spTgt spid="88">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88">
                                            <p:txEl>
                                              <p:pRg st="4" end="4"/>
                                            </p:txEl>
                                          </p:spTgt>
                                        </p:tgtEl>
                                        <p:attrNameLst>
                                          <p:attrName>style.visibility</p:attrName>
                                        </p:attrNameLst>
                                      </p:cBhvr>
                                      <p:to>
                                        <p:strVal val="visible"/>
                                      </p:to>
                                    </p:set>
                                    <p:animEffect filter="fade" transition="in">
                                      <p:cBhvr additive="repl">
                                        <p:cTn id="43" dur="500">
                                          <p:stCondLst>
                                            <p:cond delay="0"/>
                                          </p:stCondLst>
                                        </p:cTn>
                                        <p:tgtEl>
                                          <p:spTgt spid="88">
                                            <p:txEl>
                                              <p:pRg st="4" end="4"/>
                                            </p:txEl>
                                          </p:spTgt>
                                        </p:tgtEl>
                                      </p:cBhvr>
                                    </p:animEffect>
                                    <p:anim calcmode="lin" valueType="num">
                                      <p:cBhvr additive="repl">
                                        <p:cTn id="44" dur="500" fill="hold">
                                          <p:stCondLst>
                                            <p:cond delay="0"/>
                                          </p:stCondLst>
                                        </p:cTn>
                                        <p:tgtEl>
                                          <p:spTgt spid="88">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763640" y="449280"/>
            <a:ext cx="5775480" cy="6408720"/>
          </a:xfrm>
          <a:prstGeom prst="rect">
            <a:avLst/>
          </a:prstGeom>
          <a:ln w="0">
            <a:noFill/>
          </a:ln>
        </p:spPr>
      </p:pic>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Vadné držení těl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324000" y="1600200"/>
            <a:ext cx="8362800" cy="4492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Problémy s vadným držením těla má v České republice 16% dětí.</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 tomto období probíhá u dítěte růstová akcelerace, která je charakteristická převážně růstem do výšky, teprve po jedenáctém roce věku dochází i k hormonálním změnám, které jsou provázeny nárůstem svalové hmoty, svalový korzet se zpevňuje.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Významně častější výskyt VDT byl u chlapců (42%) ve srovnání s dívkami (35%). </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c600"/>
                </a:solidFill>
                <a:latin typeface="Tahoma"/>
              </a:rPr>
              <a:t>Mezi nejčastěji se vyskytující odchylky od správného držení těla patřily odstálé lopatky (50% dětí), zvýšená bederní lordóza (32%) a posturální kyfóza (kulatá záda, 31%). Mezi faktory významně ovlivňující vznik VDT patřily kulatá záda, asymetrie v oblasti ramen a patologické postavení pánve (zejména šikmá pánev).</a:t>
            </a:r>
            <a:r>
              <a:rPr b="0" lang="cs-CZ" sz="1800" spc="-1" strike="noStrike">
                <a:solidFill>
                  <a:srgbClr val="00c600"/>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c600"/>
                </a:solidFill>
                <a:latin typeface="Tahoma"/>
              </a:rPr>
              <a:t>Obtíže pohybového aparátu jsou u dětí na třetím místě v příčinách dlouhodobého sledování lékařem (po alergických onemocněních a smyslových vadách).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411280" y="1268280"/>
            <a:ext cx="3875400" cy="4930920"/>
          </a:xfrm>
          <a:prstGeom prst="rect">
            <a:avLst/>
          </a:prstGeom>
          <a:ln w="0">
            <a:noFill/>
          </a:ln>
        </p:spPr>
      </p:pic>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štovice</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lané neštovice vyvolává virus. Když někdo onemocní, vylučuje v prvních dnech nemoci s vydechovaným vzduchem veliké množství viru. </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oté začne stoupat teplota a na kůži se objeví </a:t>
            </a:r>
            <a:r>
              <a:rPr b="1" lang="en-US" sz="2400" spc="-1" strike="noStrike">
                <a:solidFill>
                  <a:srgbClr val="ffcc00"/>
                </a:solidFill>
                <a:latin typeface="Times New Roman"/>
              </a:rPr>
              <a:t>vyrážka.</a:t>
            </a:r>
            <a:r>
              <a:rPr b="0" lang="en-US" sz="2400" spc="-1" strike="noStrike">
                <a:solidFill>
                  <a:srgbClr val="ffcc00"/>
                </a:solidFill>
                <a:latin typeface="Times New Roman"/>
              </a:rPr>
              <a:t> Zprvu drobné skvrnky do velikosti 2 až 3 milimetrů, které se v průběhu několika hodin mění v </a:t>
            </a:r>
            <a:r>
              <a:rPr b="1" lang="en-US" sz="2400" spc="-1" strike="noStrike">
                <a:solidFill>
                  <a:srgbClr val="ffcc00"/>
                </a:solidFill>
                <a:latin typeface="Times New Roman"/>
              </a:rPr>
              <a:t>puchýřky</a:t>
            </a:r>
            <a:r>
              <a:rPr b="0" lang="en-US" sz="2400" spc="-1" strike="noStrike">
                <a:solidFill>
                  <a:srgbClr val="ffcc00"/>
                </a:solidFill>
                <a:latin typeface="Times New Roman"/>
              </a:rPr>
              <a:t> o průměru 3 až 6 milimetrů. Puchýřky mají nejdříve čirý obsah tekutiny, který se postupně mění na mléčně zkalený. Po několika dnech puchýřky zaschnou. Po několika dalších dnech se zaschlý </a:t>
            </a:r>
            <a:r>
              <a:rPr b="1" lang="en-US" sz="2400" spc="-1" strike="noStrike">
                <a:solidFill>
                  <a:srgbClr val="ffcc00"/>
                </a:solidFill>
                <a:latin typeface="Times New Roman"/>
              </a:rPr>
              <a:t>stroupek</a:t>
            </a:r>
            <a:r>
              <a:rPr b="0" lang="en-US" sz="2400" spc="-1" strike="noStrike">
                <a:solidFill>
                  <a:srgbClr val="ffcc00"/>
                </a:solidFill>
                <a:latin typeface="Times New Roman"/>
              </a:rPr>
              <a:t> uvolní.</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ři svědění to nutí ke škrabání a tady může být problém. Při rozškrábání puchýřků se do nich může dostat </a:t>
            </a:r>
            <a:r>
              <a:rPr b="1" lang="en-US" sz="2400" spc="-1" strike="noStrike">
                <a:solidFill>
                  <a:srgbClr val="ffcc00"/>
                </a:solidFill>
                <a:latin typeface="Times New Roman"/>
              </a:rPr>
              <a:t>bakteriální infekce</a:t>
            </a:r>
            <a:r>
              <a:rPr b="0" lang="en-US" sz="2400" spc="-1" strike="noStrike">
                <a:solidFill>
                  <a:srgbClr val="ffcc00"/>
                </a:solidFill>
                <a:latin typeface="Times New Roman"/>
              </a:rPr>
              <a:t> a na kůži zůstanou jizvy.</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říušnice </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říušnice vyvolává virus. Nemocný jej vylučuje v prvních několika dnech vzduchem, který vydechuje. Nakažlivost je podstatně menší než u planých neštovic, ale pořád větší než 50 %. Doba od infekce po objevení prvních příznaků je deset až dvacet dnů. </a:t>
            </a:r>
            <a:endParaRPr b="0" lang="en-US" sz="2800" spc="-1" strike="noStrike">
              <a:solidFill>
                <a:srgbClr val="ffffff"/>
              </a:solidFill>
              <a:latin typeface="Tahoma"/>
            </a:endParaRPr>
          </a:p>
          <a:p>
            <a:pPr marL="315360" indent="-315360">
              <a:lnSpc>
                <a:spcPct val="10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olu se vzestupem teploty se objeví těstovitý </a:t>
            </a:r>
            <a:r>
              <a:rPr b="1" lang="en-US" sz="2800" spc="-1" strike="noStrike">
                <a:solidFill>
                  <a:srgbClr val="ffffff"/>
                </a:solidFill>
                <a:latin typeface="Times New Roman"/>
              </a:rPr>
              <a:t>otok </a:t>
            </a:r>
            <a:r>
              <a:rPr b="0" lang="en-US" sz="2800" spc="-1" strike="noStrike">
                <a:solidFill>
                  <a:srgbClr val="ffffff"/>
                </a:solidFill>
                <a:latin typeface="Times New Roman"/>
              </a:rPr>
              <a:t>při úhlu spodní čelisti. Může zasahovat pod ucho a na vnější stranu krku. Není červený, ale může na dotek lehce bolet. Do jednoho až tří dnů se stejný otok velmi pravděpodobně objeví i na druhé straně. </a:t>
            </a:r>
            <a:endParaRPr b="0" lang="en-US" sz="2800" spc="-1" strike="noStrike">
              <a:solidFill>
                <a:srgbClr val="ffffff"/>
              </a:solidFill>
              <a:latin typeface="Tahoma"/>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1908000" y="1844640"/>
            <a:ext cx="4896000" cy="381636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alničky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t dnů po tom, co se dítě infikuje vystoupí teplota na 38 až 39 stupňů. Objeví se zánět spojivek, rýma a případně i kašel. To trvá čtyři dny. Pátý den začne vyrážka. Nejprve za ušima a šíří se na obličej, krk, trup a ruce a posléze i na nohy. Vyrážka je červená až červenohnědá, velikosti od třech do sedmi milimetr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0000" y="1197000"/>
            <a:ext cx="7201080" cy="4960800"/>
          </a:xfrm>
          <a:prstGeom prst="rect">
            <a:avLst/>
          </a:prstGeom>
          <a:ln w="0">
            <a:noFill/>
          </a:ln>
        </p:spPr>
      </p:pic>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ši</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Je to bezkřídlý parazitický hmyz, který žije pouze ve vlasech lidí. Způsobuje zavšivení neboli </a:t>
            </a:r>
            <a:r>
              <a:rPr b="0" i="1" lang="cs-CZ" sz="2200" spc="-1" strike="noStrike">
                <a:solidFill>
                  <a:srgbClr val="ffffff"/>
                </a:solidFill>
                <a:latin typeface="Times New Roman"/>
              </a:rPr>
              <a:t>pedikulózu</a:t>
            </a:r>
            <a:r>
              <a:rPr b="0" lang="cs-CZ" sz="2200" spc="-1" strike="noStrike">
                <a:solidFill>
                  <a:srgbClr val="ffffff"/>
                </a:solidFill>
                <a:latin typeface="Times New Roman"/>
              </a:rPr>
              <a:t>. Živí se sáním krve svého hostitele, jinou potravu ani tekutiny nemůže přijímat. Není přenašečem infekčních ani jiných vážných onemocnění. Její přítomnost je vnímána jako  nadměrné svědění hlavy, které je způsobné bodáním a pohybem larev či dospělých vší. Škrábání může vést  ke vzniku různě silných zánětů pokožky hlavy.</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Samička vši dětské, která je dlouhá 2-3,5 mm, klade vajíčka (hnidy) velikosti 0,8 mm a přilepuje je na vlasy těsně u pokožky hlavy. Z nich se během 1 týdne vylíhnou světlé larvy velké cca 1 mm, podobné dospělým vším, které ihned bodají a sají krev. S růstem vlasů se hnidy vzdalují od kůže a obecně platí, že hnidy vzdálené více než 1 cm od pokožky jsou vylíhlé nebo mrtvé. Stále však zůstávají přilepené na vlasech a odrůstají s nimi.</a:t>
            </a:r>
            <a:endParaRPr b="0" lang="en-US" sz="2200" spc="-1" strike="noStrike">
              <a:solidFill>
                <a:srgbClr val="ffffff"/>
              </a:solidFill>
              <a:latin typeface="Tahoma"/>
            </a:endParaRPr>
          </a:p>
          <a:p>
            <a:pPr marL="312120" indent="-31212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Celý proces od vajíčka po dospělce trvá 17-25 dní. Samička žije 3-5 týdnů a za tuto dobu naklade 50-150 vajíček.</a:t>
            </a:r>
            <a:endParaRPr b="0" lang="en-US" sz="2200" spc="-1" strike="noStrike">
              <a:solidFill>
                <a:srgbClr val="ffffff"/>
              </a:solidFill>
              <a:latin typeface="Tahoma"/>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08000" y="22320"/>
            <a:ext cx="8785080" cy="6575400"/>
          </a:xfrm>
          <a:prstGeom prst="rect">
            <a:avLst/>
          </a:prstGeom>
          <a:ln w="0">
            <a:noFill/>
          </a:ln>
        </p:spPr>
      </p:pic>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Výživa u dětí</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právná funkce imunitního systému organismu je mimo jiné závislá i na výživě, zejména na dostatečném příjmu vitaminů a minerálních látek.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Z tohoto hlediska je nejdůležitější dostatečný přívod vitaminu C, A, D a vitaminů skupiny B.</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 </a:t>
            </a:r>
            <a:r>
              <a:rPr b="0" lang="en-US" sz="2800" spc="-1" strike="noStrike">
                <a:solidFill>
                  <a:srgbClr val="ffcc00"/>
                </a:solidFill>
                <a:latin typeface="Tahoma"/>
              </a:rPr>
              <a:t>Z minerálních látek je velmi důležitý dostatek vápníku a železa, sodíku, draslíku a hořčíku, ze stopových prvků pak zinek, měď a selen. </a:t>
            </a:r>
            <a:br>
              <a:rPr sz="2800"/>
            </a:b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8:07:23Z</dcterms:created>
  <dc:creator>Jaja</dc:creator>
  <dc:description/>
  <dc:language>en-US</dc:language>
  <cp:lastModifiedBy>Jaja</cp:lastModifiedBy>
  <dcterms:modified xsi:type="dcterms:W3CDTF">2008-10-23T18:09:37Z</dcterms:modified>
  <cp:revision>36</cp:revision>
  <dc:subject/>
  <dc:title>Růst a vývoj dítěte - charakteristika - mladší školní věk - nejčastější patologie, výživa u dětí – specifika u mladšího školního věku. Poruchy výživy</dc:title>
</cp:coreProperties>
</file>