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063-1E17-43FE-886B-01546F1F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3EB-0935-4E0E-8E85-D367823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DB1-AD73-4919-B6E9-03E991C1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1D4-9659-44A9-BF51-3539D3D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1D80-328E-4BCD-8414-9FD3BCC4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357-767C-46D1-A3D5-4221533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2CD7-EE33-4B89-9EEB-3C0CF83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4C2-66F9-4B84-9D06-E97D455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86E-6577-4C7C-8ED1-8CB148E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0AB-886C-424B-8767-9C2C6FEE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98D-E413-439C-934F-6A6F2C5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B18-6D9D-4150-B597-4B1997F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B9A-BF87-4D82-97AD-6512D9C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8556-7F0E-4CE4-8FD6-6489771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74AF-55A3-4F22-A9B8-14F8507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7246-AAB2-4C25-BC36-2DC02519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6C68-92C1-4481-902F-8DCAED5C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F3C-FCE1-423A-B52A-07D7483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85C-26C8-4E91-9F07-5B3D06A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BB2-B681-47B2-A2F1-0A061DC6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708-EE16-4E4E-A680-587F482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FE9-8732-4B2F-B872-1D2A359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19F-1A84-49B8-BFDB-162D8D1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70C-F2F7-48DA-ACB5-95C9E42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8CCC-3E26-443D-89F2-51079B12EB7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FAAC-72F9-449A-8906-8FB70B27557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Ear.jpg" TargetMode="External"/><Relationship Id="rId2" Type="http://schemas.openxmlformats.org/officeDocument/2006/relationships/hyperlink" Target="http://commons.wikimedia.org/wiki/File:Menschliches_auge.jpg" TargetMode="External"/><Relationship Id="rId3" Type="http://schemas.openxmlformats.org/officeDocument/2006/relationships/hyperlink" Target="http://commons.wikimedia.org/wiki/File:Eye_scheme_ru_(2).svg" TargetMode="External"/><Relationship Id="rId4" Type="http://schemas.openxmlformats.org/officeDocument/2006/relationships/hyperlink" Target="http://commons.wikimedia.org/wiki/File:Righ_eye_retina.jpg" TargetMode="External"/><Relationship Id="rId5" Type="http://schemas.openxmlformats.org/officeDocument/2006/relationships/hyperlink" Target="http://commons.wikimedia.org/wiki/File:Retina-diagram.svg" TargetMode="External"/><Relationship Id="rId6" Type="http://schemas.openxmlformats.org/officeDocument/2006/relationships/hyperlink" Target="http://commons.wikimedia.org/wiki/File:Gray1205.png" TargetMode="External"/><Relationship Id="rId7" Type="http://schemas.openxmlformats.org/officeDocument/2006/relationships/hyperlink" Target="http://commons.wikimedia.org/wiki/File:Tear_system.svg" TargetMode="External"/><Relationship Id="rId8" Type="http://schemas.openxmlformats.org/officeDocument/2006/relationships/hyperlink" Target="http://commons.wikimedia.org/wiki/File:Eye_orbit_anatomy_superior.jpg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ocus_in_an_eye.svg" TargetMode="External"/><Relationship Id="rId2" Type="http://schemas.openxmlformats.org/officeDocument/2006/relationships/hyperlink" Target="http://commons.wikimedia.org/wiki/File:Myopia.svg" TargetMode="External"/><Relationship Id="rId3" Type="http://schemas.openxmlformats.org/officeDocument/2006/relationships/hyperlink" Target="http://commons.wikimedia.org/wiki/File:Myopia.sv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1"/>
          <p:cNvGrpSpPr/>
          <p:nvPr/>
        </p:nvGrpSpPr>
        <p:grpSpPr>
          <a:xfrm>
            <a:off x="2206800" y="1820880"/>
            <a:ext cx="5029200" cy="4971960"/>
            <a:chOff x="2206800" y="1820880"/>
            <a:chExt cx="5029200" cy="4971960"/>
          </a:xfrm>
        </p:grpSpPr>
        <p:pic>
          <p:nvPicPr>
            <p:cNvPr id="91" name="Picture 32" descr="622px-Eye_scheme_ru_(2)_svg"/>
            <p:cNvPicPr/>
            <p:nvPr/>
          </p:nvPicPr>
          <p:blipFill>
            <a:blip r:embed="rId1"/>
            <a:stretch/>
          </p:blipFill>
          <p:spPr>
            <a:xfrm>
              <a:off x="2206800" y="1820880"/>
              <a:ext cx="50292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0"/>
            <p:cNvSpPr/>
            <p:nvPr/>
          </p:nvSpPr>
          <p:spPr>
            <a:xfrm>
              <a:off x="5662800" y="6021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Zrakové ústroj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58920" y="9810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ánem zraku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k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ožené v dutině lebk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i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11280" y="17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vba o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6012000" y="249192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6659640" y="3789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948360" y="227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ěli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369200" y="36050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4"/>
          <p:cNvSpPr/>
          <p:nvPr/>
        </p:nvSpPr>
        <p:spPr>
          <a:xfrm flipH="1" flipV="1">
            <a:off x="2698920" y="2781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6033960" y="5211720"/>
            <a:ext cx="6778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5867280" y="422100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6156360" y="458136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020000" y="458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oč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02000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648480" y="567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asnaté tělísk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211800" y="4076640"/>
            <a:ext cx="88920" cy="322200"/>
          </a:xfrm>
          <a:custGeom>
            <a:avLst/>
            <a:gdLst>
              <a:gd name="textAreaLeft" fmla="*/ 0 w 88920"/>
              <a:gd name="textAreaRight" fmla="*/ 32040 w 88920"/>
              <a:gd name="textAreaTop" fmla="*/ 8280 h 322200"/>
              <a:gd name="textAreaBottom" fmla="*/ 3139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3"/>
          <p:cNvSpPr/>
          <p:nvPr/>
        </p:nvSpPr>
        <p:spPr>
          <a:xfrm flipV="1">
            <a:off x="6345360" y="4221000"/>
            <a:ext cx="8906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091280" y="4060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or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2266920" y="3716280"/>
            <a:ext cx="10461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9236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évnat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332000" y="3556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ít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8"/>
          <p:cNvSpPr/>
          <p:nvPr/>
        </p:nvSpPr>
        <p:spPr>
          <a:xfrm flipH="1">
            <a:off x="3490920" y="515772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627280" y="5861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ive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979640" y="494172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42920" y="51436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rakový ner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33"/>
          <p:cNvSpPr/>
          <p:nvPr/>
        </p:nvSpPr>
        <p:spPr>
          <a:xfrm flipH="1" flipV="1">
            <a:off x="2482560" y="3284640"/>
            <a:ext cx="934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271520" y="3092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5"/>
          <p:cNvSpPr/>
          <p:nvPr/>
        </p:nvSpPr>
        <p:spPr>
          <a:xfrm flipH="1">
            <a:off x="1906200" y="4692600"/>
            <a:ext cx="1422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727200" y="4556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 flipV="1">
            <a:off x="6299280" y="321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091280" y="299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kom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7"/>
          <p:cNvGrpSpPr/>
          <p:nvPr/>
        </p:nvGrpSpPr>
        <p:grpSpPr>
          <a:xfrm>
            <a:off x="1258920" y="4229280"/>
            <a:ext cx="3827520" cy="1936440"/>
            <a:chOff x="1258920" y="4229280"/>
            <a:chExt cx="3827520" cy="1936440"/>
          </a:xfrm>
        </p:grpSpPr>
        <p:pic>
          <p:nvPicPr>
            <p:cNvPr id="124" name="Picture 4" descr="743px-Retina-diagram_svg"/>
            <p:cNvPicPr/>
            <p:nvPr/>
          </p:nvPicPr>
          <p:blipFill>
            <a:blip r:embed="rId1"/>
            <a:stretch/>
          </p:blipFill>
          <p:spPr>
            <a:xfrm>
              <a:off x="1258920" y="4229280"/>
              <a:ext cx="38275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4"/>
            <p:cNvSpPr/>
            <p:nvPr/>
          </p:nvSpPr>
          <p:spPr>
            <a:xfrm>
              <a:off x="4211640" y="59500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5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3203640" y="1682640"/>
            <a:ext cx="2946240" cy="2178000"/>
            <a:chOff x="3203640" y="1682640"/>
            <a:chExt cx="2946240" cy="2178000"/>
          </a:xfrm>
        </p:grpSpPr>
        <p:pic>
          <p:nvPicPr>
            <p:cNvPr id="127" name="Picture 5" descr="800px-Righ_eye_retina"/>
            <p:cNvPicPr/>
            <p:nvPr/>
          </p:nvPicPr>
          <p:blipFill>
            <a:blip r:embed="rId2"/>
            <a:stretch/>
          </p:blipFill>
          <p:spPr>
            <a:xfrm>
              <a:off x="3203640" y="1682640"/>
              <a:ext cx="2946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5"/>
            <p:cNvSpPr/>
            <p:nvPr/>
          </p:nvSpPr>
          <p:spPr>
            <a:xfrm>
              <a:off x="3203640" y="36450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4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Line 9"/>
          <p:cNvSpPr/>
          <p:nvPr/>
        </p:nvSpPr>
        <p:spPr>
          <a:xfrm>
            <a:off x="4356000" y="4995720"/>
            <a:ext cx="1295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580000" y="4419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čin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302080" y="52768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íp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4643280" y="4563720"/>
            <a:ext cx="1041480" cy="130680"/>
            <a:chOff x="4643280" y="4563720"/>
            <a:chExt cx="1041480" cy="130680"/>
          </a:xfrm>
        </p:grpSpPr>
        <p:sp>
          <p:nvSpPr>
            <p:cNvPr id="133" name="Line 11"/>
            <p:cNvSpPr/>
            <p:nvPr/>
          </p:nvSpPr>
          <p:spPr>
            <a:xfrm flipV="1">
              <a:off x="4643280" y="4563720"/>
              <a:ext cx="1023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4668840" y="4564080"/>
              <a:ext cx="101592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443640" y="4419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itlivější na světlo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rozlišují barv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227640" y="528480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možňuje barevné vidění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íce ve žluté skvrně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1128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N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1763280" y="564372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26920" y="607680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ákna zrakového nerv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076720" y="261936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771280" y="27637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4932360" y="1971720"/>
            <a:ext cx="2233440" cy="215640"/>
            <a:chOff x="4932360" y="1971720"/>
            <a:chExt cx="2233440" cy="215640"/>
          </a:xfrm>
        </p:grpSpPr>
        <p:sp>
          <p:nvSpPr>
            <p:cNvPr id="143" name="Line 23"/>
            <p:cNvSpPr/>
            <p:nvPr/>
          </p:nvSpPr>
          <p:spPr>
            <a:xfrm>
              <a:off x="5221080" y="19717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>
              <a:off x="4932360" y="1971720"/>
              <a:ext cx="22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27"/>
          <p:cNvSpPr/>
          <p:nvPr/>
        </p:nvSpPr>
        <p:spPr>
          <a:xfrm>
            <a:off x="7093080" y="182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cév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3272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154764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6948360" y="297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dné tyčinky ani čípky; vystupuje zde oční ner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1403280" y="290664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ostřejší vidění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771480"/>
            <a:ext cx="6264360" cy="707760"/>
          </a:xfrm>
          <a:prstGeom prst="rect">
            <a:avLst/>
          </a:prstGeom>
          <a:solidFill>
            <a:srgbClr val="e8d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tnice pokrývá zadní dvě třetiny oční koule a vytvář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í poza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v ní uloženy smyslové buň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či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číp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6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9"/>
          <p:cNvGrpSpPr/>
          <p:nvPr/>
        </p:nvGrpSpPr>
        <p:grpSpPr>
          <a:xfrm>
            <a:off x="4067280" y="549360"/>
            <a:ext cx="3429000" cy="3382560"/>
            <a:chOff x="4067280" y="549360"/>
            <a:chExt cx="3429000" cy="3382560"/>
          </a:xfrm>
        </p:grpSpPr>
        <p:pic>
          <p:nvPicPr>
            <p:cNvPr id="152" name="Picture 7" descr="Gray1205"/>
            <p:cNvPicPr/>
            <p:nvPr/>
          </p:nvPicPr>
          <p:blipFill>
            <a:blip r:embed="rId1"/>
            <a:stretch/>
          </p:blipFill>
          <p:spPr>
            <a:xfrm>
              <a:off x="4067280" y="549360"/>
              <a:ext cx="34290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6"/>
            <p:cNvSpPr/>
            <p:nvPr/>
          </p:nvSpPr>
          <p:spPr>
            <a:xfrm>
              <a:off x="6300720" y="37162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6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6659640" y="4797360"/>
            <a:ext cx="2016000" cy="1655640"/>
            <a:chOff x="6659640" y="4797360"/>
            <a:chExt cx="2016000" cy="1655640"/>
          </a:xfrm>
        </p:grpSpPr>
        <p:pic>
          <p:nvPicPr>
            <p:cNvPr id="155" name="Picture 5" descr="456px-Eye_orbit_anatomy_superior"/>
            <p:cNvPicPr/>
            <p:nvPr/>
          </p:nvPicPr>
          <p:blipFill>
            <a:blip r:embed="rId2"/>
            <a:stretch/>
          </p:blipFill>
          <p:spPr>
            <a:xfrm>
              <a:off x="6659640" y="4797360"/>
              <a:ext cx="201600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8"/>
            <p:cNvSpPr/>
            <p:nvPr/>
          </p:nvSpPr>
          <p:spPr>
            <a:xfrm>
              <a:off x="6732720" y="6237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8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1195560" y="3860640"/>
            <a:ext cx="3089160" cy="2318040"/>
            <a:chOff x="1195560" y="3860640"/>
            <a:chExt cx="3089160" cy="2318040"/>
          </a:xfrm>
        </p:grpSpPr>
        <p:pic>
          <p:nvPicPr>
            <p:cNvPr id="158" name="Picture 6" descr="800px-Tear_system_svg"/>
            <p:cNvPicPr/>
            <p:nvPr/>
          </p:nvPicPr>
          <p:blipFill>
            <a:blip r:embed="rId3"/>
            <a:stretch/>
          </p:blipFill>
          <p:spPr>
            <a:xfrm>
              <a:off x="1195560" y="3860640"/>
              <a:ext cx="3089160" cy="23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7"/>
            <p:cNvSpPr/>
            <p:nvPr/>
          </p:nvSpPr>
          <p:spPr>
            <a:xfrm>
              <a:off x="1619280" y="5373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7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4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datné oční orgán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478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 okohybných svalů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083280" y="5084640"/>
            <a:ext cx="2160720" cy="720720"/>
            <a:chOff x="6083280" y="5084640"/>
            <a:chExt cx="2160720" cy="720720"/>
          </a:xfrm>
        </p:grpSpPr>
        <p:sp>
          <p:nvSpPr>
            <p:cNvPr id="163" name="Line 9"/>
            <p:cNvSpPr/>
            <p:nvPr/>
          </p:nvSpPr>
          <p:spPr>
            <a:xfrm flipH="1" flipV="1">
              <a:off x="6083280" y="5084640"/>
              <a:ext cx="1295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6083280" y="5084640"/>
              <a:ext cx="1511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6083280" y="508464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Line 14"/>
          <p:cNvSpPr/>
          <p:nvPr/>
        </p:nvSpPr>
        <p:spPr>
          <a:xfrm flipH="1" flipV="1">
            <a:off x="119556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179280" y="3645000"/>
            <a:ext cx="14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á žlá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427200" y="5272200"/>
            <a:ext cx="176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058840" y="571968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odvodný slzný kanál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4427640" y="177336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 flipV="1">
            <a:off x="4498560" y="2494080"/>
            <a:ext cx="84924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82920" y="177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or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556000" y="234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l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771640" y="278136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nitřní stranu víček pokrývá blána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jivk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4643280" y="2599920"/>
            <a:ext cx="9860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454040" y="3654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uku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4067280" y="558972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4356000" y="5661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ý váč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684360" y="1197000"/>
            <a:ext cx="7127640" cy="5806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předmět je upraven čočkou vždy tak, aby dopadl na místo nejostřejšího vidění – žlutou skvrnu. Tato schopnost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omod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ko jako kame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692360" y="191628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zdálený objek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zploště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796000" y="191628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blízký objekt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vypouk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003640" y="5013360"/>
            <a:ext cx="3529080" cy="10674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objekt je na sítnic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menš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evrác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prve v mozku je obraz zpracován na obraz odpovídající skutečnost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973080" y="2554200"/>
            <a:ext cx="2735280" cy="1811160"/>
            <a:chOff x="973080" y="2554200"/>
            <a:chExt cx="2735280" cy="1811160"/>
          </a:xfrm>
        </p:grpSpPr>
        <p:pic>
          <p:nvPicPr>
            <p:cNvPr id="185" name="Picture 7" descr="800px-Focus_in_an_eye_svg"/>
            <p:cNvPicPr/>
            <p:nvPr/>
          </p:nvPicPr>
          <p:blipFill>
            <a:blip r:embed="rId1"/>
            <a:stretch/>
          </p:blipFill>
          <p:spPr>
            <a:xfrm>
              <a:off x="973080" y="2554200"/>
              <a:ext cx="27352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2556000" y="4149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9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5076720" y="2556000"/>
            <a:ext cx="2735280" cy="1736640"/>
            <a:chOff x="5076720" y="2556000"/>
            <a:chExt cx="2735280" cy="1736640"/>
          </a:xfrm>
        </p:grpSpPr>
        <p:pic>
          <p:nvPicPr>
            <p:cNvPr id="188" name="Picture 8" descr="Kopie - 800px-Focus_in_an_eye_svg"/>
            <p:cNvPicPr/>
            <p:nvPr/>
          </p:nvPicPr>
          <p:blipFill>
            <a:blip r:embed="rId2"/>
            <a:stretch/>
          </p:blipFill>
          <p:spPr>
            <a:xfrm>
              <a:off x="5076720" y="2556000"/>
              <a:ext cx="27352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5"/>
            <p:cNvSpPr/>
            <p:nvPr/>
          </p:nvSpPr>
          <p:spPr>
            <a:xfrm>
              <a:off x="6804000" y="407664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0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1332000" y="4653000"/>
            <a:ext cx="3384360" cy="1728360"/>
            <a:chOff x="1332000" y="4653000"/>
            <a:chExt cx="3384360" cy="1728360"/>
          </a:xfrm>
        </p:grpSpPr>
        <p:pic>
          <p:nvPicPr>
            <p:cNvPr id="191" name="Picture 11" descr="připomínka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33843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6"/>
            <p:cNvSpPr/>
            <p:nvPr/>
          </p:nvSpPr>
          <p:spPr>
            <a:xfrm>
              <a:off x="2195640" y="6165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1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90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201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746280" y="3286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Fakta o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825200"/>
            <a:ext cx="6923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ostřednictvím zraku vnímáme asi 80 % všech informací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člověk vnímá pouze elektromagnetické vlnění o délkách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400–750 nm (1,5 % celého spektr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vnímaných barev a odstínů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ůměr oční bulvy: 2,5 c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motnost oční bulvy: 7 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tyčinek v jednom oku: 15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čípků v jednom oku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lzná žláza denně vytvoří 1–2 ml slz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6 okohybných svalů má délku 30–35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aždé oko má zorné pole 140–150 stupňů, celková šířka pole obou očí je 180–200 stupň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74640" y="257040"/>
            <a:ext cx="6202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Nemoci a poruchy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roblémy se zaostřování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rát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před sítnicí, člověk nevidí ostře vzdálenější předměty; k úpravě se použijí dioptrické rozptyl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ale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za sítnicí, člověk nevidí ostře blízké předměty; k úpravě se použijí dioptrické spoj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4795920"/>
            <a:ext cx="68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arvoslep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dědičná porucha barevného vidě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tigmatismu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esprávné zakřivení oční rohovky (dvojité vidění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šilh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porucha některého z okohybných sva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pota z různých příči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zákal, úra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13"/>
          <p:cNvGrpSpPr/>
          <p:nvPr/>
        </p:nvGrpSpPr>
        <p:grpSpPr>
          <a:xfrm>
            <a:off x="1692360" y="3141720"/>
            <a:ext cx="1728720" cy="1454040"/>
            <a:chOff x="1692360" y="3141720"/>
            <a:chExt cx="1728720" cy="1454040"/>
          </a:xfrm>
        </p:grpSpPr>
        <p:pic>
          <p:nvPicPr>
            <p:cNvPr id="199" name="Picture 7" descr="500px-Myopia_svg"/>
            <p:cNvPicPr/>
            <p:nvPr/>
          </p:nvPicPr>
          <p:blipFill>
            <a:blip r:embed="rId6"/>
            <a:stretch/>
          </p:blipFill>
          <p:spPr>
            <a:xfrm>
              <a:off x="1692360" y="3141720"/>
              <a:ext cx="1728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1"/>
            <p:cNvSpPr/>
            <p:nvPr/>
          </p:nvSpPr>
          <p:spPr>
            <a:xfrm>
              <a:off x="2772000" y="43801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2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643280" y="2924280"/>
            <a:ext cx="1739880" cy="1728720"/>
            <a:chOff x="4643280" y="2924280"/>
            <a:chExt cx="1739880" cy="1728720"/>
          </a:xfrm>
        </p:grpSpPr>
        <p:pic>
          <p:nvPicPr>
            <p:cNvPr id="202" name="Picture 8" descr="500px-Hypermetropia_svg"/>
            <p:cNvPicPr/>
            <p:nvPr/>
          </p:nvPicPr>
          <p:blipFill>
            <a:blip r:embed="rId7"/>
            <a:stretch/>
          </p:blipFill>
          <p:spPr>
            <a:xfrm>
              <a:off x="4643280" y="2924280"/>
              <a:ext cx="1729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2"/>
            <p:cNvSpPr/>
            <p:nvPr/>
          </p:nvSpPr>
          <p:spPr>
            <a:xfrm>
              <a:off x="5735520" y="44053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6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258920" y="260280"/>
            <a:ext cx="3970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Použité zdro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55640" y="1268280"/>
            <a:ext cx="80643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BRORUKA, Luděk J. a spo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řírodopis III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.vyd. Praha: Scientia, 2001. ISBN 80-7183-246-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RKER, Steve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dské těl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 : Knižní klub, 2007. ISBN 978-80-242-2211-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HITFIELD, Philip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ranice poznání – Lidské tělo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. vyd. Praha : Knižní klub, 1997. ISBN 80-7176-461-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 BENBENNICK, David. Commons.wikimedia.org: Ear.jpg [online]. 2005-03-1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Ea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2 KESKIN, Deniz. Commons.wikimedia.org: Menschliches_auge.jpg [online]. 2008-10-16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enschliches_auge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3 TALOS, colorized by JAKOV. Commons.wikimedia.org: Eye_scheme_ru_(2).svg [online]. 2008-03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Eye_scheme_ru_(2)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4 HOPE, Danny. Commons.wikimedia.org: Righ_eye_retina.jpg [online]. 2008-11-0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commons.wikimedia.org/wiki/File:Righ_eye_retina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5 CAJAL, FRIEDRICH, Anka, CHRIS. Commons.wikimedia.org: Retina-diagram.svg [online]. 2009-08-15 [cit. 2010-06-16]. Dostupný pod licenci Creative Commons z www: </a:t>
            </a:r>
            <a:br>
              <a:rPr sz="1200"/>
            </a:b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commons.wikimedia.org/wiki/File:Retina-diagram.sv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6 reproduction of a lithograph plate from Gray's Anatomy. Commons.wikimedia.org: Gray1205.png [online]. 200-01-23 [cit. 2010-06-16]. Dostupný pod licenci Public domain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commons.wikimedia.org/wiki/File:Gray1205.pn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7 SILVERSMITH, Erin. Commons.wikimedia.org: Tear_system.svg [online]. 2006-09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commons.wikimedia.org/wiki/File:Tear_system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8 LYNCH, Patrich J. Commons.wikimedia.org: Eye_orbit_anatomy_superior.jpg [online]. 2006-12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commons.wikimedia.org/wiki/File:Eye_orbit_anatomy_superio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19280" y="480960"/>
            <a:ext cx="770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9, 10 SILVERSMITH, Erin. Commons.wikimedia.org: Focus_in_an_eye.svg [online]. 2007-04-01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Focus_in_an_eye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rka mater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l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2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3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4reproduction of a lithograph plate from Gray's Anatomy. Commons.wikimedia.org: Gray904.png [online]. 2007-01-27 [cit. 2010-06-16]. Dostupný pod licenci Public domain z www: http://commons.wikimedia.org/wiki/File:Gray904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5 ZOPH. Commons.wikimedia.org: Trommelfell.png [online]. 2007-08-02 [cit. 2010-06-16]. Dostupný pod licenci Creative Commons z www: http://cs.wikipedia.org/wiki/Soubor:Trommelfell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6 reproduction of a lithograph plate from Gray's Anatomy. Commons.wikimedia.org: Gray920.png [online]. 2007-01-23 [cit. 2010-06-16]. Dostupný pod licenci Public domain z www: http://commons.wikimedia.org/wiki/File:Gray920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7 CHITTKA L., BROCKMANN. Commons.wikimedia.org: Anatomy_of_the_Human_Ear_blank.svg [online]. 2009-09-16 [cit. 2010-06-16]. Dostupný pod licenci Creative Commons z www: http://commons.wikimedia.org/wiki/File:Anatomy_of_the_Human_Ear_blank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8 DESCOUENS, Didier. Commons.wikimedia.org: Oreille_Interne.png [online]. 2009-11-02 [cit. 2010-06-16]. Dostupný pod licenci Creative  Commons z www: http://commons.wikimedia.org/wiki/File:Oreille_Interne.png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eb.quick.cz/iveta_kulhava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brainden.com/hlavolamy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ww.zajimavosti.ic.cz/opticke-klamy/opticke-klamy1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33:00Z</dcterms:created>
  <dc:creator>Martina Hou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Kateřina Linhartová</cp:lastModifiedBy>
  <dcterms:modified xsi:type="dcterms:W3CDTF">2010-11-12T16:48:37Z</dcterms:modified>
  <cp:revision>32</cp:revision>
  <dc:subject/>
  <dc:title>Smyslové orgány 1</dc:title>
</cp:coreProperties>
</file>