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C8EB-0752-4F63-A164-94D7A3B8E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927D-22E4-424F-B883-1E1218D6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5FFE-7C19-4B17-9F16-6B0A11D59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486B-1531-4E32-AAFA-16EE5B83F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14EA-A0AC-4F26-A9B1-7CF336E58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EB8B-93D0-43AB-8338-ACEBA850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EBB4-6EE6-48CB-9764-12B34D30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E69C-5A06-4148-AF92-2DC08730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9678-30B2-472B-8CB9-86794896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A7D9-0E77-4012-91E3-AE7D17CC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7DC7-0665-4DC0-8246-261E3C48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83C0-21C6-4F6D-950B-38951ACA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F488-C5D0-4462-A561-3DBF4F45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05A6-CBED-4129-9DCF-CDDC038B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FEC3-80F4-44D7-8131-BE42440D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22AD-223C-4874-8152-F65ED0408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7884-3DA4-4A27-8315-15399237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88E5A-0160-4DA9-A842-DFCF88EA7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61168-6100-4BB2-AEF0-97EA2E84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87821-3E72-40B4-88D3-8813411A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6F680-1CA6-4509-BD2F-40A68F35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5B5FF-C461-4A0C-BC2A-01FCBAE9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EEC6-212B-469C-84BC-116ED3EF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3EE30-995F-4A7D-89F3-1064DB39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BEEF0-AB43-429A-BC28-A9C3A0F3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EDE0A-D074-4622-BDD7-DDC281B9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A2B62-1766-441B-AEF7-DEC4CF3E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2E293-0A22-4675-BF18-0269F03B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7723F-E731-443D-8F65-1A03A673E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8EEBD-CF92-4206-9A90-1F7B78BA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AE96A-1773-4C2F-B11B-49104DE8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518C8-7149-4C1F-937F-701B4F63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486F1-E178-488E-AD7B-C7C3C72C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E733-2B3C-43FC-9DE3-314261FC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0C97C-3F2B-4DD6-AAA3-09328FFE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B230A-0427-4DB7-9B6C-41C23EDA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713C8-CCAA-413A-8CDD-3E6921FF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F50D5-BA6A-4521-93E0-734F988A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1DD39-A373-42BF-8789-8AD1589A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08E71-9046-4AE5-A8B4-86DED1EC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71E39-89BD-48E7-ACF0-B39A214E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7B96E-56EC-46FF-8BE1-33FF624EB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D22F6-86C7-452B-A0D0-F2BFD5C54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794D1-F934-4E26-84F5-037E0AAFE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EB47-1EAA-45B7-B869-880A881F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00AB4-DB55-4E6F-B48C-C00E6CE8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19E80-6078-4114-AC09-63BAC5DA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36FB5-0290-4FBD-8DF3-0040ACEC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4C54F-F6F3-415F-A047-405050F0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E8CC2-7D1E-4E68-8A7C-6EACE4AE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03FF0-CEA7-4022-BFE3-BB78255F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6F13C-829F-4CCF-857B-1597A4FD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2368F-CB47-46FD-8240-840CBBF0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CA064-FACC-43E1-94F3-717E088A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360DE-10C7-43FC-B832-049A01B1E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56F1-3129-401C-963D-0E99D88A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D5E73-B329-4A32-9576-F40D0EDE1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1220D-92BC-4233-AE9B-A8F629C40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4E54D-C327-461D-9A7D-3C3B7B58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FEAED-4671-477E-989F-FBD7BCC4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2903D-3704-4027-836C-9BB60D00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852E4-1509-4024-95EB-16A947A6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157DE-6AD7-477E-9C60-86B80C37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A552A-7BCD-4C59-96E0-776C645D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AB56B-37DF-4D93-9736-4A13A18B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06402-9D8A-4CD0-BB8E-D8C068B8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D087-9F2B-400A-9C40-958BB535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AE3FD-2B2F-4B55-BE15-7F2CC473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B3608-6268-4158-8E26-913F14292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B4461-66A6-4449-9A41-50E47013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664D3-98EF-418B-86BB-165A3FB16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A89E9-C853-4B96-B2F8-81953CFF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1D7AC-ADA7-47C1-8943-C205D148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56418-4C62-41DB-9C51-590DE099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BFD20-CFE1-485A-BAC9-06B6673C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33199-BE7C-4E95-AFBB-F3CBF2CF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5CB56-7D7F-489A-A599-8F340A80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CD79-850C-4562-8411-4C21E3BB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EDD83-FEAE-4ACF-BE65-551C8F29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9CFD9-8487-45F9-B33D-733D58F7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CA876-A14C-4FE1-9BF6-D1D40A2C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30BCB-4AFD-477D-9FCF-907B112DD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A8EF0-E45C-4C81-9F36-D042F082B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7D54-C077-4210-8D73-575B0386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Obdélní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Obdélní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Obdélní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Obdélní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Obdélní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Obdélní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Obdélní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Obdélní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C7C9-2517-43AB-B739-A926FB78CBD2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bdélník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Obdélník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Obdélník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Obdélník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Obdélník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Obdélník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Obdélník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bdélník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bdélník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6A8F-C527-4F68-A308-EA16526766EF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bdélní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bdélní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bdélní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bdélní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bdélní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bdélní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bdélní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bdélní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bdélní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Volný tvar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c0504d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Volný tvar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c0504d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Volný tvar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2d58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Volný tvar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Volný tvar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Volný tvar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Volný tvar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Volný tvar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Volný tvar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Volný tvar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Volný tvar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Volný tvar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Volný tvar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Volný tvar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Volný tvar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2d58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bdélník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2d58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bdélník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bdélník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bdélník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bdélník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bdélník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EE3D-8D42-4CEC-9A95-4DB39C3E8489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F4AA-4791-4B3D-BE65-B3E209A9B000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Obdélník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2d58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bdélník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Obdélník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Obdélník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Obdélník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Obdélník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Obdélník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Obdélník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bdélník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Obdélník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70A3-3321-41AA-BFA7-E9DA06E5516C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71A3-8AB2-4657-ACE4-55EADA14A86E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Obdélní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Obdélní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Obdélní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Obdélní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Obdélní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Obdélní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Obdélní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bdélní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bdélní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Obdélník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římá spojovací čára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Skupina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Přímá spojovací čára 20"/>
            <p:cNvSpPr/>
            <p:nvPr/>
          </p:nvSpPr>
          <p:spPr>
            <a:xfrm>
              <a:off x="8575920" y="12175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Přímá spojovací čára 23"/>
            <p:cNvSpPr/>
            <p:nvPr/>
          </p:nvSpPr>
          <p:spPr>
            <a:xfrm>
              <a:off x="8516880" y="12826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Přímá spojovací čára 24"/>
            <p:cNvSpPr/>
            <p:nvPr/>
          </p:nvSpPr>
          <p:spPr>
            <a:xfrm flipV="1">
              <a:off x="8575920" y="12823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Skupina 25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320" name="Přímá spojovací čára 26"/>
            <p:cNvSpPr/>
            <p:nvPr/>
          </p:nvSpPr>
          <p:spPr>
            <a:xfrm>
              <a:off x="8728200" y="1370160"/>
              <a:ext cx="698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Přímá spojovací čára 27"/>
            <p:cNvSpPr/>
            <p:nvPr/>
          </p:nvSpPr>
          <p:spPr>
            <a:xfrm>
              <a:off x="8669160" y="1435320"/>
              <a:ext cx="986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Přímá spojovací čára 28"/>
            <p:cNvSpPr/>
            <p:nvPr/>
          </p:nvSpPr>
          <p:spPr>
            <a:xfrm flipV="1">
              <a:off x="8728200" y="1434960"/>
              <a:ext cx="698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Skupina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Přímá spojovací čára 30"/>
            <p:cNvSpPr/>
            <p:nvPr/>
          </p:nvSpPr>
          <p:spPr>
            <a:xfrm>
              <a:off x="8380800" y="14731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Přímá spojovací čára 31"/>
            <p:cNvSpPr/>
            <p:nvPr/>
          </p:nvSpPr>
          <p:spPr>
            <a:xfrm>
              <a:off x="8321760" y="15382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Přímá spojovací čára 32"/>
            <p:cNvSpPr/>
            <p:nvPr/>
          </p:nvSpPr>
          <p:spPr>
            <a:xfrm flipV="1">
              <a:off x="8380800" y="15379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FA6A-2871-4C86-BDFE-6FF28E2106CC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905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Obsah přednášky</a:t>
            </a:r>
            <a:br>
              <a:rPr sz="4000"/>
            </a:b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a * Geografie jako věda</a:t>
            </a:r>
            <a:br>
              <a:rPr sz="4000"/>
            </a:b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71640" y="2286000"/>
            <a:ext cx="763272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a,  její  definice, vývoj věd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ecký výzkum, systémový přístup, modelování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Geografie vědo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Thinking and working geographicall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Členění geografie na dílčí disciplín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y a jejich dělení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Vědy se liší objektem studia, předmětem studia, metodami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Podl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metod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se vědy dělí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formální (matematika a logika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přírodní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humanitní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Podl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stupně obecnosti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teoretické a aplikované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42960" y="1000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4f1da"/>
                </a:solidFill>
                <a:latin typeface="Consolas"/>
              </a:rPr>
              <a:t>Vývoj vědy</a:t>
            </a:r>
            <a:endParaRPr b="0" lang="en-US" sz="38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8"/>
          <p:cNvSpPr/>
          <p:nvPr/>
        </p:nvSpPr>
        <p:spPr>
          <a:xfrm>
            <a:off x="1371600" y="34290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Geocentrická  teo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3505320" y="40384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Heliocentrická  teo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onsolas"/>
              </a:rPr>
              <a:t>Dějiny vědy jsou posety odloženými hypotézami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Consolas"/>
              </a:rPr>
              <a:t>  překonanými teoriemi i platnými teoriemi</a:t>
            </a:r>
            <a:endParaRPr b="0" lang="en-US" sz="32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1480320" y="2174760"/>
            <a:ext cx="18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Země je ploch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14"/>
          <p:cNvSpPr/>
          <p:nvPr/>
        </p:nvSpPr>
        <p:spPr>
          <a:xfrm>
            <a:off x="2998080" y="286056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Země je kulat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5"/>
          <p:cNvSpPr/>
          <p:nvPr/>
        </p:nvSpPr>
        <p:spPr>
          <a:xfrm>
            <a:off x="1046520" y="5029200"/>
            <a:ext cx="46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Wegenerova teorie kontinentálního drif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Kuhn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42960" y="2428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T. S. Kuhn přinesl přesvědčivé argumenty i o tom, že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Corbel"/>
              </a:rPr>
              <a:t>pokrok vědeckého poznání není přímočarý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nýbrž že je čas od času přerušován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Corbel"/>
              </a:rPr>
              <a:t>zásadními zvraty – vědeckými revolucemi, 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při nichž dochází k revizi samotných základů dosavadního vědění. Vědecké poznání nesměřuje k nějaké jediné Pravdě o světě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orbel"/>
              </a:rPr>
              <a:t>Paradigma – vědecká revoluce – nové paradigma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spcBef>
                <a:spcPts val="49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Podrobněji čas. Vesmír 9/2008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spcBef>
                <a:spcPts val="49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KnihaT.S. Kuhn: Koperníkovská revoluc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1" name="Obrázek 3" descr="uvod_kuhn.jpg"/>
          <p:cNvPicPr/>
          <p:nvPr/>
        </p:nvPicPr>
        <p:blipFill>
          <a:blip r:embed="rId1"/>
          <a:stretch/>
        </p:blipFill>
        <p:spPr>
          <a:xfrm>
            <a:off x="6643800" y="571680"/>
            <a:ext cx="2071440" cy="18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PARADIGM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066680" y="210168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49200" indent="-291240">
              <a:lnSpc>
                <a:spcPct val="8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ffffff"/>
                </a:solidFill>
                <a:latin typeface="Corbel"/>
              </a:rPr>
              <a:t>určitý vědecký styl dané epochy či vědeckého společenství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49200" indent="-291240">
              <a:lnSpc>
                <a:spcPct val="8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Corbel"/>
              </a:rPr>
              <a:t>souhrn všeobecně uznávaných teoretických a metodologických předpokladů, postupů v určité etapě vývoje vědeckého bádání</a:t>
            </a:r>
            <a:r>
              <a:rPr b="1" lang="cs-CZ" sz="21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49200" indent="-291240">
              <a:lnSpc>
                <a:spcPct val="8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ývoj věd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teorie T.S. Kuhna o proměně věd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aradigma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ecká revolu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nové paradigm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7772400" y="4724280"/>
            <a:ext cx="380880" cy="190512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Group 10"/>
          <p:cNvGrpSpPr/>
          <p:nvPr/>
        </p:nvGrpSpPr>
        <p:grpSpPr>
          <a:xfrm>
            <a:off x="5181480" y="1676520"/>
            <a:ext cx="2210040" cy="3047760"/>
            <a:chOff x="5181480" y="1676520"/>
            <a:chExt cx="2210040" cy="3047760"/>
          </a:xfrm>
        </p:grpSpPr>
        <p:sp>
          <p:nvSpPr>
            <p:cNvPr id="408" name="Rectangle 5"/>
            <p:cNvSpPr/>
            <p:nvPr/>
          </p:nvSpPr>
          <p:spPr>
            <a:xfrm>
              <a:off x="5181480" y="1676520"/>
              <a:ext cx="381240" cy="30477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orbe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Rectangle 7"/>
            <p:cNvSpPr/>
            <p:nvPr/>
          </p:nvSpPr>
          <p:spPr>
            <a:xfrm>
              <a:off x="5791320" y="4572000"/>
              <a:ext cx="160020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orbel"/>
                </a:rPr>
                <a:t>V 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ecký výzkum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2" name="Picture 2" descr="G:\ocean\teory.jpg"/>
          <p:cNvPicPr/>
          <p:nvPr/>
        </p:nvPicPr>
        <p:blipFill>
          <a:blip r:embed="rId1"/>
          <a:srcRect l="0" t="0" r="0" b="21416"/>
          <a:stretch/>
        </p:blipFill>
        <p:spPr>
          <a:xfrm>
            <a:off x="1116000" y="1270080"/>
            <a:ext cx="650088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hypotéz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Hypotéza, domněnka, předpokla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ýchozí, dosud ale neprokázané tvrzení, které se předkládá na zkoušku k ověření (experimentem, zkušeností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racovní hypotézy ukazují další cestu vědeckého zkoumání, mohou se stát základem vědecké teorie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00080" y="9284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4f1da"/>
                </a:solidFill>
                <a:latin typeface="Consolas"/>
              </a:rPr>
              <a:t>teorie</a:t>
            </a:r>
            <a:endParaRPr b="0" lang="en-US" sz="38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71680" y="1642680"/>
            <a:ext cx="7772400" cy="112068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98000"/>
          </a:bodyPr>
          <a:p>
            <a:pPr marL="52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Řádně  doložené objasnění některého přírodního (sociálního) jevu, které zahrnuje fakta, zevšeobecněné zákony, logické  dedukce a otestované dílčí hypotéz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TextovéPole 3"/>
          <p:cNvSpPr/>
          <p:nvPr/>
        </p:nvSpPr>
        <p:spPr>
          <a:xfrm>
            <a:off x="714240" y="3000240"/>
            <a:ext cx="592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Teorie není dohad  nebo tušení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ale vysvětlení vycházející z rozsáhlého pozorování , experimentů a tvořivých úv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ovéPole 4"/>
          <p:cNvSpPr/>
          <p:nvPr/>
        </p:nvSpPr>
        <p:spPr>
          <a:xfrm>
            <a:off x="1034640" y="4572000"/>
            <a:ext cx="415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Příklady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heliocentrická teori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teorie deskové tektoniky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teorie evolučního vývoje organism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71720" y="128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Systémové  paradigma </a:t>
            </a:r>
            <a:br>
              <a:rPr sz="4000"/>
            </a:b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teorie systémů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výchozí předpoklady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každý dílčí prvek je součástí většího celku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tedy i každý objekt  se složen z menších částí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AutoShape 4"/>
          <p:cNvSpPr/>
          <p:nvPr/>
        </p:nvSpPr>
        <p:spPr>
          <a:xfrm>
            <a:off x="4284720" y="3213000"/>
            <a:ext cx="457200" cy="457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1834920" y="2492280"/>
            <a:ext cx="3516120" cy="12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4bd97"/>
                </a:solidFill>
                <a:latin typeface="Corbel"/>
              </a:rPr>
              <a:t>Co je to věda?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1371240" y="1483920"/>
            <a:ext cx="55767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Je geografie vědou?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Systém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ystém -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skupina objektů propojená vazbam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očet objektů i vazeb systému   je konečný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bjekty i vazby ( vzájemné vztahy) lze zkou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bjekty jsou uspořádány hierarchick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Systémový přístup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vědecky zjednodušuje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realitu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dhaluje hlubší strukturovanou podstat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Model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Model - zjednodušené zobrazení systému , není se systémem či původním objektem, který systém popisuje shodný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590560" y="2590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4f1da"/>
                </a:solidFill>
                <a:latin typeface="Consolas"/>
              </a:rPr>
              <a:t>Geografie</a:t>
            </a:r>
            <a:endParaRPr b="0" lang="en-US" sz="6000" spc="-1" strike="noStrike">
              <a:solidFill>
                <a:srgbClr val="f4f1da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grafie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e  založena na schopnosti geograficky myslet –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tj. jasně formulovat nejrůznější prostorové vlastnosti geografických jevů ,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chopnost systematicky třídit, analyzovat, aplikovat geografické teorie, provádět syntézy, realizovat modely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ní encyklopedická znalost geografických objektů a jejich prostorová lokalizace (jak je často prezentováno ve školské praxi, tj.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ne jen KDE to je, ale i PROČ to tam j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Thinking geograph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826920" y="1413000"/>
            <a:ext cx="7561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Chapter  1 – Thinking and working geographicall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Why do geographers  ask  question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Skills -  understanding  the spatial  concept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How do geographers  gather  data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(primary data sources and secondary data source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Writin geographical report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Table of conten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What do geographers do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115920"/>
            <a:ext cx="85406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4f1da"/>
                </a:solidFill>
                <a:latin typeface="Consolas"/>
              </a:rPr>
              <a:t>  </a:t>
            </a:r>
            <a:r>
              <a:rPr b="0" lang="cs-CZ" sz="3400" spc="-1" strike="noStrike">
                <a:solidFill>
                  <a:srgbClr val="f4f1da"/>
                </a:solidFill>
                <a:latin typeface="Consolas"/>
              </a:rPr>
              <a:t>Pro správné pochopení výuky zeměpisu (geografie) je nutné naučit se klást zeměpisné (geografické) otázky:</a:t>
            </a:r>
            <a:endParaRPr b="0" lang="en-US" sz="34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713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Kde to je?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Jaké to je?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Proč je to tam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Jak to vzniklo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Jaký to má vliv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Jak by to mělo být uzpůsobeno k vzájemnému užitku člověka a přírody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grafie a její definice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c4bd9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4bd97"/>
                </a:solidFill>
                <a:latin typeface="Arial"/>
                <a:ea typeface="Arial"/>
              </a:rPr>
              <a:t>Geografie  je vědu zkoumající zákonitosti vývoje  krajinné sféry a jejích objektů, zvláště vztahy územní diferenciace a integrac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4bd97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c4bd97"/>
                </a:solidFill>
                <a:latin typeface="Arial"/>
                <a:ea typeface="Arial"/>
              </a:rPr>
              <a:t>geografie je vědou studující prostorové rozšíření jevů  v krajinné sféře Země, jejich vzájemnou interakci a vývoj v čase. (Wikipedia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orbel"/>
              </a:rPr>
              <a:t>Úkol: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orbel"/>
              </a:rPr>
              <a:t>vyhledejte ještě min. dvě definice geografie od různých autorů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Zařazení geografie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Geografie je vědou na rozhranní věd přírodních a společenských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kupina věd o Zem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oubor meto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bjekt studia příp. předmět studia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600" y="16430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4f1da"/>
                </a:solidFill>
                <a:latin typeface="Consolas"/>
              </a:rPr>
              <a:t>Objekt geografie a předmět geografie </a:t>
            </a:r>
            <a:endParaRPr b="0" lang="en-US" sz="38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40" name="TextovéPole 3"/>
          <p:cNvSpPr/>
          <p:nvPr/>
        </p:nvSpPr>
        <p:spPr>
          <a:xfrm>
            <a:off x="838800" y="4581360"/>
            <a:ext cx="7067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rbel"/>
              </a:rPr>
              <a:t>Předmětem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geografie js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funkční </a:t>
            </a:r>
            <a:r>
              <a:rPr b="0" lang="cs-CZ" sz="2800" spc="-1" strike="noStrike">
                <a:solidFill>
                  <a:srgbClr val="ff0000"/>
                </a:solidFill>
                <a:latin typeface="Corbel"/>
              </a:rPr>
              <a:t>analýza vztahů a vaz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mezi jednotlivými. složkami </a:t>
            </a:r>
            <a:r>
              <a:rPr b="0" i="1" lang="cs-CZ" sz="2800" spc="-1" strike="noStrike">
                <a:solidFill>
                  <a:srgbClr val="ffffff"/>
                </a:solidFill>
                <a:latin typeface="Corbel"/>
              </a:rPr>
              <a:t>krajinné sfé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ovéPole 4"/>
          <p:cNvSpPr/>
          <p:nvPr/>
        </p:nvSpPr>
        <p:spPr>
          <a:xfrm flipH="1">
            <a:off x="826920" y="328464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rbel"/>
              </a:rPr>
              <a:t>Objektem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studia geografie je </a:t>
            </a:r>
            <a:r>
              <a:rPr b="0" lang="cs-CZ" sz="2800" spc="-1" strike="noStrike">
                <a:solidFill>
                  <a:srgbClr val="ff0000"/>
                </a:solidFill>
                <a:latin typeface="Corbel"/>
              </a:rPr>
              <a:t>krajinná sfé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71720" y="12855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4f1da"/>
                </a:solidFill>
                <a:latin typeface="Consolas"/>
              </a:rPr>
              <a:t>Definice vědy</a:t>
            </a:r>
            <a:endParaRPr b="0" lang="en-US" sz="38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1980720" y="3276720"/>
            <a:ext cx="4496040" cy="2178000"/>
          </a:xfrm>
          <a:prstGeom prst="rect">
            <a:avLst/>
          </a:prstGeom>
          <a:gradFill rotWithShape="0">
            <a:gsLst>
              <a:gs pos="0">
                <a:srgbClr val="253c57"/>
              </a:gs>
              <a:gs pos="50000">
                <a:srgbClr val="4f81bd"/>
              </a:gs>
              <a:gs pos="100000">
                <a:srgbClr val="253c5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krajinná sfé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4f1da"/>
                </a:solidFill>
                <a:latin typeface="Consolas"/>
              </a:rPr>
              <a:t>Přehled systému geografických věd</a:t>
            </a:r>
            <a:endParaRPr b="0" lang="en-US" sz="32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2438280" y="4038480"/>
            <a:ext cx="1143000" cy="381240"/>
          </a:xfrm>
          <a:prstGeom prst="rect">
            <a:avLst/>
          </a:prstGeom>
          <a:gradFill rotWithShape="0">
            <a:gsLst>
              <a:gs pos="0">
                <a:srgbClr val="78cb6f"/>
              </a:gs>
              <a:gs pos="50000">
                <a:srgbClr val="385e33"/>
              </a:gs>
              <a:gs pos="100000">
                <a:srgbClr val="78cb6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FZ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4038480" y="4038480"/>
            <a:ext cx="1219320" cy="381240"/>
          </a:xfrm>
          <a:prstGeom prst="rect">
            <a:avLst/>
          </a:prstGeom>
          <a:gradFill rotWithShape="0">
            <a:gsLst>
              <a:gs pos="0">
                <a:srgbClr val="28345b"/>
              </a:gs>
              <a:gs pos="50000">
                <a:srgbClr val="5670c4"/>
              </a:gs>
              <a:gs pos="100000">
                <a:srgbClr val="28345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S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838080" y="1447920"/>
            <a:ext cx="7391520" cy="914400"/>
          </a:xfrm>
          <a:prstGeom prst="rect">
            <a:avLst/>
          </a:prstGeom>
          <a:gradFill rotWithShape="0">
            <a:gsLst>
              <a:gs pos="0">
                <a:srgbClr val="7ec53d"/>
              </a:gs>
              <a:gs pos="100000">
                <a:srgbClr val="3a5b1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kartografie a geoinformat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obecná k, tematická k., GIS, DPZ, GPS, fotogrammetri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457200" y="2819520"/>
            <a:ext cx="2133720" cy="685800"/>
          </a:xfrm>
          <a:prstGeom prst="rect">
            <a:avLst/>
          </a:prstGeom>
          <a:gradFill rotWithShape="0">
            <a:gsLst>
              <a:gs pos="0">
                <a:srgbClr val="385e33"/>
              </a:gs>
              <a:gs pos="100000">
                <a:srgbClr val="78cb6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Vědy o  fzg. komplex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obecná fyz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paleo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10"/>
          <p:cNvSpPr/>
          <p:nvPr/>
        </p:nvSpPr>
        <p:spPr>
          <a:xfrm>
            <a:off x="228600" y="3962520"/>
            <a:ext cx="2133720" cy="1828800"/>
          </a:xfrm>
          <a:prstGeom prst="rect">
            <a:avLst/>
          </a:prstGeom>
          <a:solidFill>
            <a:srgbClr val="78cb6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Vědy  fzg.složká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eomorf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klimat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hydrogeografie a ocean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pedogeogf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bio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eografie přír. zdrojů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11"/>
          <p:cNvSpPr/>
          <p:nvPr/>
        </p:nvSpPr>
        <p:spPr>
          <a:xfrm>
            <a:off x="5562720" y="2514600"/>
            <a:ext cx="3124080" cy="1219320"/>
          </a:xfrm>
          <a:prstGeom prst="rect">
            <a:avLst/>
          </a:prstGeom>
          <a:gradFill rotWithShape="0">
            <a:gsLst>
              <a:gs pos="0">
                <a:srgbClr val="28345b"/>
              </a:gs>
              <a:gs pos="100000">
                <a:srgbClr val="5670c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orbel"/>
              </a:rPr>
              <a:t>Vědy o sg. komplex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obecná socioekonom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histor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12"/>
          <p:cNvSpPr/>
          <p:nvPr/>
        </p:nvSpPr>
        <p:spPr>
          <a:xfrm>
            <a:off x="5486400" y="3733920"/>
            <a:ext cx="3657600" cy="1447560"/>
          </a:xfrm>
          <a:prstGeom prst="rect">
            <a:avLst/>
          </a:prstGeom>
          <a:solidFill>
            <a:srgbClr val="5670c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orbel"/>
              </a:rPr>
              <a:t>Vědy o sg.složká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. obyvatel,  g. sí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. průmyslu, g. zemědělství, g. doprav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. služeb, g. rekre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. vědy a kultu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4"/>
          <p:cNvSpPr/>
          <p:nvPr/>
        </p:nvSpPr>
        <p:spPr>
          <a:xfrm>
            <a:off x="1905120" y="5486400"/>
            <a:ext cx="2286000" cy="914400"/>
          </a:xfrm>
          <a:prstGeom prst="rect">
            <a:avLst/>
          </a:prstGeom>
          <a:gradFill rotWithShape="0">
            <a:gsLst>
              <a:gs pos="0">
                <a:srgbClr val="253c57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orbel"/>
              </a:rPr>
              <a:t>Vědy o regione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regionální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polit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16"/>
          <p:cNvSpPr/>
          <p:nvPr/>
        </p:nvSpPr>
        <p:spPr>
          <a:xfrm>
            <a:off x="4191120" y="5181480"/>
            <a:ext cx="2743200" cy="1676520"/>
          </a:xfrm>
          <a:prstGeom prst="rect">
            <a:avLst/>
          </a:prstGeom>
          <a:gradFill rotWithShape="0">
            <a:gsLst>
              <a:gs pos="0">
                <a:srgbClr val="253c57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orbel"/>
              </a:rPr>
              <a:t>Vědy o systémech a věd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nauka o kraji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eoek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planetární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teoret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 </a:t>
            </a: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geosféra - koncentrická vrstva Země – prostor se specifickým výskytem určitých jevů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Corbel"/>
              </a:rPr>
              <a:t>z řeckého „sfaira „– koule, zeměkoule, globus, přeneseně i jako prostor např. sféra zájmů apod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y Země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Země vnitřní struktura  - vrstvy lišící se hustotou a složení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„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lupky cibule“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rotace – uspořádání od nejhustšího po nejřidší, od jádra se železa, niklu a síry po atmosféru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evná část, tekutá část a plynná čá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y Země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Země vnitřní struktura  - vrstvy lišící se hustotou a složení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„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lupky cibule“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rotace – uspořádání od nejhustšího po nejřidší, od jádra se železa, niklu a síry po atmosféru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evná část, tekutá část a plynná čá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y Země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Corbel"/>
              </a:rPr>
              <a:t>Homogenní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Litosféra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, tj. kamenný obal Země – zemský kůra a spodní část zemského pláště ( pod ním je již plastická astenosféra) ( - 100 km až 8,8 km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Hydrosféra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(-4 km až 0 km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Atmosféra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(0  až 40 tisíc km, řadu dílčích vrstev, t, s, m, i, t, e – z.k.) , pozn. hranice zemské korony je považována za hranici planety Země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y Země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Heterogenní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Pedosfé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biosfé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antroposféra, sociosfé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Definice krajinné sfér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tenká heterogenní geosféra kolem pevného povrchu Země, která je  geosystémem nejvyššího řád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Krajinná sféra a její hranice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je vymezena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Mohorovičičovou vrstvou diskontinuity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tropopauzou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ke krajinné sféře náleží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část litosféry - zemská kůra: pevninská a oceánská, hydrosféra a kryosféra, pedosféra, biosféra, antroposféra a troposfér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Mocnost krajinné sfér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krajinná sféra – její „tloušťka“?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cca 30 km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Země - od zemského jádra po horní hranici atmosféry – více než 46 tisíc k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Corbel"/>
              </a:rPr>
              <a:t>Úkol:jakým dílem je vertikální mocnost krajinné sféry vůči celé Zemi?“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krajinná sféra  -  jediná známá sféra života ve vesmír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ovéPole 1"/>
          <p:cNvSpPr/>
          <p:nvPr/>
        </p:nvSpPr>
        <p:spPr>
          <a:xfrm>
            <a:off x="1128600" y="2133720"/>
            <a:ext cx="676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orbel"/>
              </a:rPr>
              <a:t>Statistické metody  v geografi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a 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nepřetržitý proces lidského poznávání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řírody, společnosti, člověka, lidského myšlení a kultury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1371600" y="33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systematické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racionální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a metodické vyvozování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zobecňování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219320" y="1341360"/>
            <a:ext cx="637704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cs-CZ" sz="3200" spc="-1" strike="noStrike">
                <a:solidFill>
                  <a:srgbClr val="ff3300"/>
                </a:solidFill>
                <a:latin typeface="Consolas"/>
              </a:rPr>
              <a:t>Věda: na základě </a:t>
            </a:r>
            <a:r>
              <a:rPr b="0" lang="cs-CZ" sz="3200" spc="-1" strike="noStrike" u="sng">
                <a:solidFill>
                  <a:srgbClr val="ff3300"/>
                </a:solidFill>
                <a:uFillTx/>
                <a:latin typeface="Consolas"/>
              </a:rPr>
              <a:t>abstraktního myšlení a teoretické činnosti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6858000" y="3886200"/>
            <a:ext cx="1574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nový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poznatk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6248520" y="3657600"/>
            <a:ext cx="533160" cy="1600200"/>
          </a:xfrm>
          <a:custGeom>
            <a:avLst/>
            <a:gdLst>
              <a:gd name="textAreaLeft" fmla="*/ 0 w 533160"/>
              <a:gd name="textAreaRight" fmla="*/ 192600 w 53316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1332000" y="1628640"/>
            <a:ext cx="6480000" cy="151308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ovéPole 6"/>
          <p:cNvSpPr/>
          <p:nvPr/>
        </p:nvSpPr>
        <p:spPr>
          <a:xfrm>
            <a:off x="2050920" y="476280"/>
            <a:ext cx="63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3300"/>
                </a:solidFill>
                <a:latin typeface="Corbel"/>
              </a:rPr>
              <a:t>Věda versus lidské poznává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Věda nastoluje požadavek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600" spc="-1" strike="noStrike" u="sng">
                <a:solidFill>
                  <a:srgbClr val="ffffff"/>
                </a:solidFill>
                <a:uFillTx/>
                <a:latin typeface="Corbel"/>
              </a:rPr>
              <a:t>obecného poznání</a:t>
            </a: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, na základě něhož lze v nepřehledném světě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ffffff"/>
                </a:solidFill>
                <a:uFillTx/>
                <a:latin typeface="Corbel"/>
              </a:rPr>
              <a:t>oddělit podstatné od nepodstatného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a určit </a:t>
            </a:r>
            <a:r>
              <a:rPr b="0" lang="cs-CZ" sz="2600" spc="-1" strike="noStrike" u="sng">
                <a:solidFill>
                  <a:srgbClr val="ffffff"/>
                </a:solidFill>
                <a:uFillTx/>
                <a:latin typeface="Corbel"/>
              </a:rPr>
              <a:t>obecně platné zákony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tyto zákony dovolují  předvídat, předpovědi modelovat atd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Základní metody věd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ecké pozorování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analýz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yntéz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induk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deduk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3300"/>
                </a:solidFill>
                <a:latin typeface="Corbel"/>
              </a:rPr>
              <a:t>Úkol – definice  jmenovaných meto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785520" y="928800"/>
            <a:ext cx="8358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d novověku 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věda založena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na představě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zákonitého (a matematizovatelného) chování skutečnosti,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která se odhalu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hypotézou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,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věřu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experimentem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zobecňu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v teorii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a v euroamerické civilizaci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 euroamerické společnosti je od 17.st. privilegována věda oproti jiným formám poznání (mimovědní poznání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07:54:08Z</dcterms:created>
  <dc:creator>Svatonova</dc:creator>
  <dc:description/>
  <dc:language>en-US</dc:language>
  <cp:lastModifiedBy>Svatonova</cp:lastModifiedBy>
  <dcterms:modified xsi:type="dcterms:W3CDTF">2011-09-27T08:29:16Z</dcterms:modified>
  <cp:revision>37</cp:revision>
  <dc:subject/>
  <dc:title>Pedagogická fakulta   </dc:title>
</cp:coreProperties>
</file>