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BB8-8D61-41CD-BCCF-699FD06C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A05-74D9-4B08-95B1-B3C74B6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DB7-3D53-47F4-9F90-207EFE84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254-1727-4AC2-86C4-D9A03BED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01D-C635-4812-AB63-D5B64B92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C81-6E43-43DB-9E01-78D2C482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02D-D833-450C-BB7A-9AAA468A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C07-CBEB-4549-9F6E-BFF8CBDD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7C6-E386-4EA1-ACD4-2C313CCE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C16-D219-43CB-A0A5-F1E19233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EA8-614E-4FB3-B0D1-7AB71787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7DA-C7E6-451A-ABB4-7FFEEC83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68BC-B00C-49F5-9AEB-0AD594069A8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58766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matický  popis zpevnění sl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Navrátil Vladislav, Novotná Jiř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léta 20. století – objev dislokací, nástup fyzikálních met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3860640"/>
            <a:ext cx="2257200" cy="18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64000" y="3933720"/>
          <a:ext cx="2036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203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156360" y="3933720"/>
            <a:ext cx="2093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2200" y="404640"/>
            <a:ext cx="7867440" cy="58546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trellův – Bilbyho potenciá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1125360"/>
                <a:ext cx="1616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w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3280" y="2637000"/>
                <a:ext cx="3613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71640" y="1125360"/>
            <a:ext cx="340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9120" y="639720"/>
            <a:ext cx="8156520" cy="55803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26920" y="1052640"/>
            <a:ext cx="76154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2200" y="568440"/>
            <a:ext cx="8012160" cy="52448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42372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200" y="423720"/>
            <a:ext cx="8516880" cy="6128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terakce dislokací s atomy příměs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ředp.: atomy příměsí v kli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lastická rozměrová intera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4360" y="2133720"/>
            <a:ext cx="3444840" cy="403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427640" y="2565360"/>
            <a:ext cx="4186080" cy="330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7680" y="468360"/>
            <a:ext cx="8169120" cy="58874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066680"/>
            <a:ext cx="5916600" cy="47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424720" cy="59749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mat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přímě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issonovo čí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lárních souřadn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907920"/>
                <a:ext cx="2973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1557360"/>
                <a:ext cx="208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79640" y="2060640"/>
                <a:ext cx="183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35640" y="907920"/>
                <a:ext cx="824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2016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76360" y="3573360"/>
                <a:ext cx="57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47640" y="4797360"/>
                <a:ext cx="4916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300880" cy="5885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astická modul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itické skluzové napětí substitučních tuhých rozt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le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71640" y="1341360"/>
                <a:ext cx="18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42920" y="2492280"/>
                <a:ext cx="148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00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00720" y="1989000"/>
                <a:ext cx="255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4221000"/>
            <a:ext cx="447984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04640"/>
            <a:ext cx="8227800" cy="61290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neoheb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ohebná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                         a                  pro h.d. a                  pro š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16360" y="836640"/>
                <a:ext cx="14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16360" y="1916280"/>
                <a:ext cx="158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</m:den>
                    </m:f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87280" y="2852640"/>
                <a:ext cx="1544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92428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64000" y="2924280"/>
                <a:ext cx="798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7164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76280"/>
            <a:ext cx="8424720" cy="60361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„cítí“ příměsi na jistou vzdále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je materiálová konstanta a                                    (      je  čísel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: slitiny Cd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elmi nízkých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76360" y="1268280"/>
                <a:ext cx="1644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7280" y="2060640"/>
                <a:ext cx="258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84720" y="1989000"/>
                <a:ext cx="1928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sSup>
                          <m:e>
                            <m:r>
                              <m:t xml:space="preserve">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16720" y="2060640"/>
                <a:ext cx="30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05320" y="2590920"/>
            <a:ext cx="52718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496800"/>
            <a:ext cx="8443800" cy="61596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elně aktivovaná plastická deformace sl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ká stavová rovnic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ní f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edpoklad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ační 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ký význam aktivační ploch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08360" y="1844640"/>
                <a:ext cx="127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ε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1989000"/>
                <a:ext cx="2080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95640" y="2492280"/>
                <a:ext cx="1003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τ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71640" y="3213000"/>
                <a:ext cx="2241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τ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1640" y="4076640"/>
                <a:ext cx="1886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Δτ</m:t>
                            </m:r>
                          </m:e>
                          <m:sup/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516640"/>
                <a:ext cx="8096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7840" y="496800"/>
            <a:ext cx="8227800" cy="56109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závislost aktivační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arabolický tvar překá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1844640"/>
            <a:ext cx="5334120" cy="234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16360" y="4292640"/>
                <a:ext cx="3243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21:24Z</dcterms:created>
  <dc:creator>Vladislav Navrátil</dc:creator>
  <dc:description/>
  <dc:language>en-US</dc:language>
  <cp:lastModifiedBy>Vladislav Navrátil</cp:lastModifiedBy>
  <dcterms:modified xsi:type="dcterms:W3CDTF">2013-11-24T15:56:49Z</dcterms:modified>
  <cp:revision>19</cp:revision>
  <dc:subject/>
  <dc:title>Snímek 1</dc:title>
</cp:coreProperties>
</file>