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4AB3-CECB-4B50-9D3D-82908796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1F3E-7328-4259-8689-7639529D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156FE-2BD4-498A-84C0-CAC2158E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16E7-B2F6-4660-B9BA-8F619389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C5F3-71DA-4D0A-8C7A-345EA5CB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6270-6C6C-488E-920E-BE295B70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DF39-6358-4CA4-9BE1-090541FA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75A5-A9E7-4CAD-A6C3-3716238A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F399-72E6-45A3-AFC5-28FE6839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0B82-5121-4EA0-A7F9-B2E19464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CCC7-2CC1-4DA8-BC35-7502BA99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73CF-4DEE-4318-885D-09133C16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DD12-F5B2-4B57-8E72-9FE8193C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71DD-ED50-4EBA-A6C4-8FCB43FF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ACBA-BC3A-48C1-A143-C0DB9A02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F4CC-15E4-404A-8FFB-24BFCE25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5F95-85B0-4209-9B24-CBEADE7D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22656-F299-4D3E-A0BC-04C37C3A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92FC-0145-4CFA-B48B-EA674914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6492A-3306-40AD-A37C-944EDA54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03865-E29B-477F-B307-692FB7D1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8ADF5-5D7A-44C0-BA0F-4090D085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8E2B5-70D3-4FF0-83CA-ABBE192F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ECD7-9DDC-4C6F-BD40-8CC4BB90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4669-87D9-41E5-B12F-3B0AD30F8ADA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534E-3C6F-422B-8DA7-69175B715730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ýchovný poradce </a:t>
            </a:r>
            <a:br>
              <a:rPr sz="3500"/>
            </a:b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 systému poradenských služeb na základní šk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chovný poradce v systému poradenských služeb – příklad dobré pr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výchovného poradce vyplývá             z organizačního řádu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 výchovného poradce je dána náplní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plň práce vyplývá z platné legislativy a           z potřeb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oblasti činnosti jsou zakotveny ve statutu školního poradenského pracoviště (statut ŠP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 činnosti výchovného poradce jsou na každý školní rok v plánu práce školního poradenského pracoviště, tento plán popisuje činnosti všech členů v jednotlivých oblastech, přílohou plánu je minimální preventivní program (plán práce ŠP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ný poradce píše na konci každého školního roku závěrečnou zprávu o činnosti školního poradenského pracoviště, ta se stává součástí závěrečné zprávy o činnosti školy (závěrečná zpráva ŠPP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Organizační struktura šk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člení školního poradenského pracoviště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struktury ško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EDENÍ ŠK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Organization Chart 38"/>
          <p:cNvGrpSpPr/>
          <p:nvPr/>
        </p:nvGrpSpPr>
        <p:grpSpPr>
          <a:xfrm>
            <a:off x="431640" y="3989520"/>
            <a:ext cx="8208360" cy="1799280"/>
            <a:chOff x="431640" y="3989520"/>
            <a:chExt cx="8208360" cy="1799280"/>
          </a:xfrm>
        </p:grpSpPr>
        <p:cxnSp>
          <p:nvCxnSpPr>
            <p:cNvPr id="113" name="_s1028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792040" y="3451680"/>
              <a:ext cx="360360" cy="2873520"/>
            </a:xfrm>
            <a:prstGeom prst="bentConnector3">
              <a:avLst>
                <a:gd name="adj1" fmla="val 31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9"/>
            <p:cNvCxnSpPr>
              <a:stCxn id="117" idx="0"/>
              <a:endCxn id="115" idx="2"/>
            </p:cNvCxnSpPr>
            <p:nvPr/>
          </p:nvCxnSpPr>
          <p:spPr>
            <a:xfrm flipV="1">
              <a:off x="4536000" y="4708440"/>
              <a:ext cx="3600" cy="36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30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2919240" y="3452040"/>
              <a:ext cx="360360" cy="2873520"/>
            </a:xfrm>
            <a:prstGeom prst="bentConnector3">
              <a:avLst>
                <a:gd name="adj1" fmla="val 31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31"/>
            <p:cNvSpPr/>
            <p:nvPr/>
          </p:nvSpPr>
          <p:spPr>
            <a:xfrm>
              <a:off x="3304440" y="398952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Ředitel ško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43164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ástupce ředite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 1. stupe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3"/>
            <p:cNvSpPr/>
            <p:nvPr/>
          </p:nvSpPr>
          <p:spPr>
            <a:xfrm>
              <a:off x="330444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ástupce ředit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 2. stupe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4"/>
            <p:cNvSpPr/>
            <p:nvPr/>
          </p:nvSpPr>
          <p:spPr>
            <a:xfrm>
              <a:off x="617760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chovný porad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vedoucí ŠP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ŠKOLNÍ PORADENSKÉ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179280" y="1981080"/>
            <a:ext cx="8785080" cy="2671200"/>
            <a:chOff x="179280" y="1981080"/>
            <a:chExt cx="8785080" cy="2671200"/>
          </a:xfrm>
        </p:grpSpPr>
        <p:cxnSp>
          <p:nvCxnSpPr>
            <p:cNvPr id="122" name="_s2052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6113160" y="1508040"/>
              <a:ext cx="534960" cy="36169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053"/>
            <p:cNvCxnSpPr>
              <a:stCxn id="126" idx="0"/>
              <a:endCxn id="124" idx="2"/>
            </p:cNvCxnSpPr>
            <p:nvPr/>
          </p:nvCxnSpPr>
          <p:spPr>
            <a:xfrm flipV="1" rot="16200000">
              <a:off x="5210640" y="2410560"/>
              <a:ext cx="534960" cy="18115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054"/>
            <p:cNvCxnSpPr>
              <a:stCxn id="128" idx="0"/>
              <a:endCxn id="124" idx="2"/>
            </p:cNvCxnSpPr>
            <p:nvPr/>
          </p:nvCxnSpPr>
          <p:spPr>
            <a:xfrm flipV="1" rot="16200000">
              <a:off x="4305960" y="3315240"/>
              <a:ext cx="534960" cy="25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055"/>
            <p:cNvCxnSpPr>
              <a:stCxn id="130" idx="0"/>
              <a:endCxn id="124" idx="2"/>
            </p:cNvCxnSpPr>
            <p:nvPr/>
          </p:nvCxnSpPr>
          <p:spPr>
            <a:xfrm flipH="1" flipV="1" rot="5400000">
              <a:off x="3400200" y="2411640"/>
              <a:ext cx="534960" cy="18097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2056"/>
            <p:cNvCxnSpPr>
              <a:stCxn id="132" idx="0"/>
              <a:endCxn id="124" idx="2"/>
            </p:cNvCxnSpPr>
            <p:nvPr/>
          </p:nvCxnSpPr>
          <p:spPr>
            <a:xfrm flipH="1" flipV="1" rot="5400000">
              <a:off x="2496960" y="1508400"/>
              <a:ext cx="534960" cy="361656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057"/>
            <p:cNvSpPr/>
            <p:nvPr/>
          </p:nvSpPr>
          <p:spPr>
            <a:xfrm>
              <a:off x="3795480" y="198108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ýchovný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rad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58"/>
            <p:cNvSpPr/>
            <p:nvPr/>
          </p:nvSpPr>
          <p:spPr>
            <a:xfrm>
              <a:off x="179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speciální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dag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9"/>
            <p:cNvSpPr/>
            <p:nvPr/>
          </p:nvSpPr>
          <p:spPr>
            <a:xfrm>
              <a:off x="1988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speciální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dagog - logope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60"/>
            <p:cNvSpPr/>
            <p:nvPr/>
          </p:nvSpPr>
          <p:spPr>
            <a:xfrm>
              <a:off x="3797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metodi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v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61"/>
            <p:cNvSpPr/>
            <p:nvPr/>
          </p:nvSpPr>
          <p:spPr>
            <a:xfrm>
              <a:off x="5606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psychol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62"/>
            <p:cNvSpPr/>
            <p:nvPr/>
          </p:nvSpPr>
          <p:spPr>
            <a:xfrm>
              <a:off x="7415640" y="3583800"/>
              <a:ext cx="15487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ýchovný porad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žáci s SVP + nadaní)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dmínky pro práci výchovného porad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dení školy má zájem o vytvoření fungujícího systému výchovného poradenství, je ochotno delegovat práva a povinnosti na VP a vytvářet mu podmínky pro jeho práci, podporovat jeho činnost (dávat důraz na plnění úkolů v této obla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 je členem vedení školy, kde informuje           o činnosti v oblasti výchovného poradenství a podílí se na řešení nastalých problémových situací, některé řeší ve vlastní kompet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sně formulované požadavky ŘŠ na VP – přesně stanovená pracovní náplň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riální zabezpečení činnosti VP – samostatná pracovna, prostor pro jednání se žáky, rodiči i učiteli, počítač, tiská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á, pedagogická a osobnostní erudovanost výchovného porad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blémy, se kterými jsem se potýka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azování nových postupů v učitelském sboru, zajištění aby byl přístup učitelů k řešení zásadních problémů jednotný + zápisy z jed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větlovaní novinek rodičovské veřej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časová náročnost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nároky na vedení administrat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té změny v legislativě – nárůst počtu metodických pokynů, vyhlášek a nový školský zákon, časté novelizac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5-11-08T20:48:30Z</dcterms:modified>
  <cp:revision>90</cp:revision>
  <dc:subject/>
  <dc:title>Výchovný poradce  v systému poradenských služeb na ZŠ Rosice</dc:title>
</cp:coreProperties>
</file>