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752704-D4AE-4AEE-93AF-96FC5CE6D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DA63CE-953A-4569-A771-46D1D123B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B1CD44-AE5A-4F56-B27C-2157DD26F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E5AF7C-D6E0-48C8-8A1C-16F0AC968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00C11-23B8-4E33-A6FD-320626A14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AE2D1-E30E-44EF-8C39-E5DE29774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7E88C-0013-46F8-81F4-E320FC65C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6DCC8-A3C3-4454-8B77-E3195133F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D0B5D-845D-463B-BC6A-E79804683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5F601-D677-4E3F-B5E3-3DAF79C46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46198-55CA-4E86-8882-61D1DCB54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EAFE3B-454B-420D-A54E-593AB569B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AE76D-907A-4E9B-82A0-DE3C0AC16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DA52C-67C4-4943-B761-53F08A616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22E0B-FFCE-450B-8ACA-E1C1FBBD1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A5E5C-99FF-49E6-96B8-C0C8C66F0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7305B-7447-4B1F-B3F0-6598F3227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27BE7A-A59A-4130-9091-8F52A5ED2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832A31-FA0E-469D-9EDC-919F7C3BF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8DFE5F-E08A-4AA0-A237-A71730F76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667841-DB27-4939-B1DB-AF1283ED4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A71957-897D-4692-A040-8D3341EEB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14FDC5-7C70-4A8C-A6F2-17A697710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CB18E9-F6D8-498F-A95C-E9C3972E4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C606C-3992-4C9A-B1DD-8083FF8C60C1}" type="slidenum">
              <a:rPr b="0" lang="cs-CZ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7C6B2-07E6-4083-9E7D-A3D09DF5FDC2}" type="slidenum">
              <a:rPr b="0" lang="cs-CZ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500" spc="-1" strike="noStrike">
                <a:solidFill>
                  <a:srgbClr val="ffffff"/>
                </a:solidFill>
                <a:latin typeface="Arial"/>
              </a:rPr>
              <a:t>Výchovný poradce </a:t>
            </a:r>
            <a:br>
              <a:rPr sz="3500"/>
            </a:br>
            <a:r>
              <a:rPr b="1" lang="cs-CZ" sz="3500" spc="-1" strike="noStrike">
                <a:solidFill>
                  <a:srgbClr val="ffffff"/>
                </a:solidFill>
                <a:latin typeface="Arial"/>
              </a:rPr>
              <a:t>v systému poradenských služeb na základní škole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50920" y="476280"/>
            <a:ext cx="864216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ýchovný poradce v systému poradenských služeb – příklad dobré prax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stavení výchovného poradce vyplývá             z organizačního řádu ško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Činnost výchovného poradce je dána náplní prá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áplň práce vyplývá z platné legislativy a           z potřeb ško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Hlavní oblasti činnosti jsou zakotveny ve statutu školního poradenského pracoviště (statut ŠPP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691920"/>
            <a:ext cx="8229600" cy="517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onkrétní činnosti výchovného poradce jsou na každý školní rok v plánu práce školního poradenského pracoviště, tento plán popisuje činnosti všech členů v jednotlivých oblastech, přílohou plánu je minimální preventivní program (plán práce ŠPP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ýchovný poradce píše na konci každého školního roku závěrečnou zprávu o činnosti školního poradenského pracoviště, ta se stává součástí závěrečné zprávy o činnosti školy (závěrečná zpráva ŠPP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 u="sng">
                <a:solidFill>
                  <a:srgbClr val="000000"/>
                </a:solidFill>
                <a:uFillTx/>
                <a:latin typeface="Arial"/>
              </a:rPr>
              <a:t>Organizační struktura škol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86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ačlení školního poradenského pracoviště d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rganizační struktury škol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000000"/>
                </a:solidFill>
                <a:uFillTx/>
                <a:latin typeface="Arial"/>
              </a:rPr>
              <a:t>VEDENÍ ŠKO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Organization Chart 38"/>
          <p:cNvGrpSpPr/>
          <p:nvPr/>
        </p:nvGrpSpPr>
        <p:grpSpPr>
          <a:xfrm>
            <a:off x="431640" y="3989520"/>
            <a:ext cx="8208360" cy="1799280"/>
            <a:chOff x="431640" y="3989520"/>
            <a:chExt cx="8208360" cy="1799280"/>
          </a:xfrm>
        </p:grpSpPr>
        <p:cxnSp>
          <p:nvCxnSpPr>
            <p:cNvPr id="113" name="_s1028"/>
            <p:cNvCxnSpPr>
              <a:stCxn id="114" idx="0"/>
              <a:endCxn id="115" idx="2"/>
            </p:cNvCxnSpPr>
            <p:nvPr/>
          </p:nvCxnSpPr>
          <p:spPr>
            <a:xfrm flipV="1" rot="16200000">
              <a:off x="5792040" y="3451680"/>
              <a:ext cx="360360" cy="2873520"/>
            </a:xfrm>
            <a:prstGeom prst="bentConnector3">
              <a:avLst>
                <a:gd name="adj1" fmla="val 318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6" name="_s1029"/>
            <p:cNvCxnSpPr>
              <a:stCxn id="117" idx="0"/>
              <a:endCxn id="115" idx="2"/>
            </p:cNvCxnSpPr>
            <p:nvPr/>
          </p:nvCxnSpPr>
          <p:spPr>
            <a:xfrm flipV="1">
              <a:off x="4536000" y="4708440"/>
              <a:ext cx="3600" cy="360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8" name="_s1030"/>
            <p:cNvCxnSpPr>
              <a:stCxn id="119" idx="0"/>
              <a:endCxn id="115" idx="2"/>
            </p:cNvCxnSpPr>
            <p:nvPr/>
          </p:nvCxnSpPr>
          <p:spPr>
            <a:xfrm flipH="1" flipV="1" rot="5400000">
              <a:off x="2919240" y="3452040"/>
              <a:ext cx="360360" cy="2873520"/>
            </a:xfrm>
            <a:prstGeom prst="bentConnector3">
              <a:avLst>
                <a:gd name="adj1" fmla="val 318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15" name="_s1031"/>
            <p:cNvSpPr/>
            <p:nvPr/>
          </p:nvSpPr>
          <p:spPr>
            <a:xfrm>
              <a:off x="3304440" y="3989520"/>
              <a:ext cx="2462400" cy="71964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Ředitel škol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_s1032"/>
            <p:cNvSpPr/>
            <p:nvPr/>
          </p:nvSpPr>
          <p:spPr>
            <a:xfrm>
              <a:off x="431640" y="5069160"/>
              <a:ext cx="2462400" cy="71964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ástupce ředitele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ro 1. stupeň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_s1033"/>
            <p:cNvSpPr/>
            <p:nvPr/>
          </p:nvSpPr>
          <p:spPr>
            <a:xfrm>
              <a:off x="3304440" y="5069160"/>
              <a:ext cx="2462400" cy="71964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ástupce ředite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ro 2. stupeň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_s1034"/>
            <p:cNvSpPr/>
            <p:nvPr/>
          </p:nvSpPr>
          <p:spPr>
            <a:xfrm>
              <a:off x="6177600" y="5069160"/>
              <a:ext cx="2462400" cy="71964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ýchovný porad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 vedoucí ŠPP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000000"/>
                </a:solidFill>
                <a:uFillTx/>
                <a:latin typeface="Arial"/>
              </a:rPr>
              <a:t>ŠKOLNÍ PORADENSKÉ PRACOVIŠT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Organization Chart 3"/>
          <p:cNvGrpSpPr/>
          <p:nvPr/>
        </p:nvGrpSpPr>
        <p:grpSpPr>
          <a:xfrm>
            <a:off x="179280" y="1981080"/>
            <a:ext cx="8785080" cy="2671200"/>
            <a:chOff x="179280" y="1981080"/>
            <a:chExt cx="8785080" cy="2671200"/>
          </a:xfrm>
        </p:grpSpPr>
        <p:cxnSp>
          <p:nvCxnSpPr>
            <p:cNvPr id="122" name="_s2052"/>
            <p:cNvCxnSpPr>
              <a:stCxn id="123" idx="0"/>
              <a:endCxn id="124" idx="2"/>
            </p:cNvCxnSpPr>
            <p:nvPr/>
          </p:nvCxnSpPr>
          <p:spPr>
            <a:xfrm flipV="1" rot="16200000">
              <a:off x="6113160" y="1508040"/>
              <a:ext cx="534960" cy="3616920"/>
            </a:xfrm>
            <a:prstGeom prst="bentConnector3">
              <a:avLst>
                <a:gd name="adj1" fmla="val 2134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5" name="_s2053"/>
            <p:cNvCxnSpPr>
              <a:stCxn id="126" idx="0"/>
              <a:endCxn id="124" idx="2"/>
            </p:cNvCxnSpPr>
            <p:nvPr/>
          </p:nvCxnSpPr>
          <p:spPr>
            <a:xfrm flipV="1" rot="16200000">
              <a:off x="5210640" y="2410560"/>
              <a:ext cx="534960" cy="1811520"/>
            </a:xfrm>
            <a:prstGeom prst="bentConnector3">
              <a:avLst>
                <a:gd name="adj1" fmla="val 2134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7" name="_s2054"/>
            <p:cNvCxnSpPr>
              <a:stCxn id="128" idx="0"/>
              <a:endCxn id="124" idx="2"/>
            </p:cNvCxnSpPr>
            <p:nvPr/>
          </p:nvCxnSpPr>
          <p:spPr>
            <a:xfrm flipV="1" rot="16200000">
              <a:off x="4305960" y="3315240"/>
              <a:ext cx="534960" cy="2520"/>
            </a:xfrm>
            <a:prstGeom prst="bentConnector3">
              <a:avLst>
                <a:gd name="adj1" fmla="val 2134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9" name="_s2055"/>
            <p:cNvCxnSpPr>
              <a:stCxn id="130" idx="0"/>
              <a:endCxn id="124" idx="2"/>
            </p:cNvCxnSpPr>
            <p:nvPr/>
          </p:nvCxnSpPr>
          <p:spPr>
            <a:xfrm flipH="1" flipV="1" rot="5400000">
              <a:off x="3400200" y="2411640"/>
              <a:ext cx="534960" cy="1809720"/>
            </a:xfrm>
            <a:prstGeom prst="bentConnector3">
              <a:avLst>
                <a:gd name="adj1" fmla="val 2134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1" name="_s2056"/>
            <p:cNvCxnSpPr>
              <a:stCxn id="132" idx="0"/>
              <a:endCxn id="124" idx="2"/>
            </p:cNvCxnSpPr>
            <p:nvPr/>
          </p:nvCxnSpPr>
          <p:spPr>
            <a:xfrm flipH="1" flipV="1" rot="5400000">
              <a:off x="2496960" y="1508400"/>
              <a:ext cx="534960" cy="3616560"/>
            </a:xfrm>
            <a:prstGeom prst="bentConnector3">
              <a:avLst>
                <a:gd name="adj1" fmla="val 21346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24" name="_s2057"/>
            <p:cNvSpPr/>
            <p:nvPr/>
          </p:nvSpPr>
          <p:spPr>
            <a:xfrm>
              <a:off x="3795480" y="1981080"/>
              <a:ext cx="1550520" cy="106848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Výchovný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poradc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_s2058"/>
            <p:cNvSpPr/>
            <p:nvPr/>
          </p:nvSpPr>
          <p:spPr>
            <a:xfrm>
              <a:off x="179280" y="3583800"/>
              <a:ext cx="1550520" cy="106848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Školní speciální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pedagog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_s2059"/>
            <p:cNvSpPr/>
            <p:nvPr/>
          </p:nvSpPr>
          <p:spPr>
            <a:xfrm>
              <a:off x="1988280" y="3583800"/>
              <a:ext cx="1550520" cy="106848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Školní speciální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pedagog - logoped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_s2060"/>
            <p:cNvSpPr/>
            <p:nvPr/>
          </p:nvSpPr>
          <p:spPr>
            <a:xfrm>
              <a:off x="3797280" y="3583800"/>
              <a:ext cx="1550520" cy="106848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Školní metodik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prevenc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_s2061"/>
            <p:cNvSpPr/>
            <p:nvPr/>
          </p:nvSpPr>
          <p:spPr>
            <a:xfrm>
              <a:off x="5606280" y="3583800"/>
              <a:ext cx="1550520" cy="106848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Školní psycholog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_s2062"/>
            <p:cNvSpPr/>
            <p:nvPr/>
          </p:nvSpPr>
          <p:spPr>
            <a:xfrm>
              <a:off x="7415640" y="3583800"/>
              <a:ext cx="1548720" cy="106848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Výchovný poradc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žáci s SVP + nadaní)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Podmínky pro práci výchovného poradc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47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edení školy má zájem o vytvoření fungujícího systému výchovného poradenství, je ochotno delegovat práva a povinnosti na VP a vytvářet mu podmínky pro jeho práci, podporovat jeho činnost (dávat důraz na plnění úkolů v této oblast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P je členem vedení školy, kde informuje           o činnosti v oblasti výchovného poradenství a podílí se na řešení nastalých problémových situací, některé řeší ve vlastní kompetenc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24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esně formulované požadavky ŘŠ na VP – přesně stanovená pracovní náplň V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ateriální zabezpečení činnosti VP – samostatná pracovna, prostor pro jednání se žáky, rodiči i učiteli, počítač, tiskár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dborná, pedagogická a osobnostní erudovanost výchovného porad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Problémy, se kterými jsem se potýkal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osazování nových postupů v učitelském sboru, zajištění aby byl přístup učitelů k řešení zásadních problémů jednotný + zápisy z jedná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ysvětlovaní novinek rodičovské veřejn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tále větší časová náročnost prá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tále větší nároky na vedení administrativ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časté změny v legislativě – nárůst počtu metodických pokynů, vyhlášek a nový školský zákon, časté novelizace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7T20:37:04Z</dcterms:created>
  <dc:creator>Uzivatel</dc:creator>
  <dc:description/>
  <dc:language>en-US</dc:language>
  <cp:lastModifiedBy>ION</cp:lastModifiedBy>
  <dcterms:modified xsi:type="dcterms:W3CDTF">2015-11-08T20:48:30Z</dcterms:modified>
  <cp:revision>90</cp:revision>
  <dc:subject/>
  <dc:title>Výchovný poradce  v systému poradenských služeb na ZŠ Rosice</dc:title>
</cp:coreProperties>
</file>