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9025B-8396-4BEC-8B45-B10DCB0D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600E-3815-4F37-881B-A3A8C3F2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01BF-F927-470F-B5A0-E0CC3496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5366-192C-4D25-BA2F-280C3B23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7C71-7F0B-454E-8BC3-527EC46F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C6E7-30AA-4D77-8DB2-E39AB334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1849-D372-4FF4-B057-76305702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2158-5A39-44C2-92A9-8279A783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2C03-AD7B-47A8-929E-2F506FFD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9C91-B7B6-4F32-B4C4-A6AC714C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5E94-F05E-4514-B2D1-A636575F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5DB37-58C9-4BB3-942C-D7AD1E76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C8BD-F18F-4553-A7E0-5A099F3E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4205-CB2D-4836-9ABD-59384E1D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1385-8444-4679-9911-599C8AF7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3DC9-6A17-40D6-B574-4FF7C6BF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EE47-7A29-4637-A179-8634CD95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30CF-2870-4A73-B52F-373E5D97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4A2F-98AB-400A-B212-31AC233D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5A9E4-8DD7-4C98-A613-B6639D83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DD75-2874-4B5C-97FB-5E273EED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3C6B-5113-4939-99A3-3177D008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AA634-D8F9-4CB9-A269-4363940C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C67D-C469-497E-B7B6-F5FC14B9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6722-9BF5-4249-98DC-2A051FBA2197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6D0B-19C0-4227-AEFD-DADF94C07C6D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6. 11.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Oblasti činnosti výchovného poradce – péče o žáky se speciálními vzdělávacími potřebami – 2. část, péče o žáky nadané a žáky s neprospěch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roblémy spojené se školní docházkou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12.00 – 13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kariérní poradenst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. Oblast - řešení problémů spojených se školní docház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této oblasti patří řešení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řešení neomluvené abse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v souladu s metodickým pokynem k jednotnému postupu při uvolňování a omlouvání žáků z vyučování, prevenci a postihu záškoláctví, kázeňské postihy za neomluvenou absenci jsou přesně popsány ve školním řá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ice účinná je pro nás spolupráce s kurátorem pro mláde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d roku 2003 jsme se zabývali i zvýšenou omluvenou absen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občas je za ní schované skryté záškoláctví, hlavním cílem v této oblasti je však prevence neprospěchu nebo zhoršování prospěchu, vedení žáků k povinnosti doplňovat si zameškané uč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absence přesáhne 100 hodin, vyvolá třídní učitel jednání buď sám nebo za přítomnosti výchovného poradce – vždy začíná jako preventivní pohovor, často vznikne prostor i pro řešení jiných problémů spojených se vzdělávání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 jednání o neomluvené i zvýšené omluvené absenci se vždy pořizuje zápis, jeho závěry jsou pro všechny strany závaz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pro řešení případů neomluvené absence a zvýšené omluvené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. Oblast - kariérní poraden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úloha výchovného poradce → zprostředkovávání informací a administrativní činnosti, ne hodnocení a doporučování konkrétních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nzivní práce je zaměřena na žáky 8. a 9. ročníků, potřebné informace míří i k zájemcům  o studium na víceletých gymnáziích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zkumy a návštěvy ve třídách - předání informací o typech škol, možnostech vzdělávání a následného uplatnění, organizaci přijímacího řízen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ční nástěnky – informace o důležitých termínech, o přípravě k přijímacím zkouškám,    o typech škol, změnách v legislativě, vyplňování přihlášek, z úřadu práce, prezentace letáků ze škol, termíny dnů otevřených dveří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a podkladů na webové stránky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ánky do školního časopisu Rosník a místního časopisu 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eletrhu středních škol na ZŠ Rosice – hlavní prezentační akce, možnost oslovit jak rodiče a žáky, tak zástupce středních š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náboráři pouze na této akci, výjimečně v rámci vyučování – narušování výu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ce organizačně náročná, ale velmi dobrá zpětná vaz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jišťování skupinových návštěv žáků v informačních a poradenských střediscích úřad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vydávání zápisových lístků a jejich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ganizace podávání přihlášek – vydávání, kontrola, evidence, vrácení přihlášek žá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úspěšnosti přijímac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dividuální konzultace pro žáky a rodič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5. Oblast - prevence a řešení závadového chování a sociálně patologických je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last prevence je hlavní náplní práce školního metodika prevence a podrobně je rozpracovaná v minimálním preventivním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ýchovný poradce se na této oblasti podílí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pravou a realizací adaptačního pobytu pro žáky 4. a 6. ročníků – kontakt se žáky → navázání pocitu vzájemné důvěry, lepší spolupráce se žáky při řešení případných problémů v budoucnu, odpočinek od „kancelářské prác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a pomoc při řešení každodenních problémů – nekázeň žáků ve vyučování, problematická jednání s rodiči,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ultace pro učitele při řešení problémů ve třídních kolektiv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dnávání hrubých přestupků proti školnímu řádu, podklady pro zápisy z jednání, účast na jednáních výchovné k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 odborem sociální prevence – pokud škola vyčerpá všechny možnosti řešení problému a situace se nezlepší, má se kam obrátit (např. umísťování žáků na resocializační pobyty do středisek výchovné péč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efektivnímu řešení závadového chování žáků je třeba, aby učitelé ve škole spolupracovali a sjednotili svoje po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  škola   Rosic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atut školního poradenskéh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Hlavní oblasti čin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a a vzdělávání žáků se specifickými vzdělávacími 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éče o žáky nadané a žáky s neprospě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se školní docházkou – neomluvená a vysoká omluvená ab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iérní poradenství – profesní orientace žá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vence a řešení závadového chování a sociálně patologických jev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oblasti se vztahuje následující školní legislativa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nitřní předpis ZŠ Rosice ke sjednocení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a klasifikace ch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 prevenci a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ikanování mezi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nitřní předpis ZŠ Rosice pro pos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případě výskytu zneužívání, držení č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tribuce návykových lát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Oblast - výchova a vzdělávání žáků se specifickými vzdělávacími potřeb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ajišťování nebo zprostředkování diagnostiky speciálních vzdělávacích potře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→ koordinace vyšetření žáků ve školských poradenských zařízeních – vydávání dotazníků, kontrola jejich vyplnění, evidence, zajištění odeslání, evidence došlých zpráv, uložení hlavních závěrů do databáze, předání kopie zprávy z vyšetření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cká pomoc při přípravě IVP pro integrované žáky – sledování vývoje legislativy, příprava podkladů pro tvorbu IVP – formulář a „kuchařka“ jak plán vytvoř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a evidence hotových IVP, vedení spisové dokument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íl na projednávání IVP s rodi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odnocování efektivity – zpětná vazba od rodičů, třídních učitelů, případně učitelů jednotlivých předmětů i žáků, na základě vyhodnocení péče návrh odměn za péči o integrované ž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ou péči o tyto žáky zajišťují speciální pedagog a školní psych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s SVP popisuje školní legislativa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itřní předpis ZŠ Rosice k integraci a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ělává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nitřní předpis ZŠ Rosice ke slovním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žáků se speciálními vzdělávací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Oblast - péče o nadané žáky a žáky      s neprospěc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ordinace vyhledávání žáků, jejichž vývoj a vzdělávání vyžadují zvláštní pozornost a přípravy návrhů na další péči o tyto žáky → vyhodnocování podnětů od TU, závěrů pedagogických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pozornost je věnovaná mimořádně nadaným žákům – integrace mimořádně nadaných žáků a práce podle IV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žáků s neprospěchem hledání příčin – nejčastěji nechuť žáků pracovat a plnit zadané úkoly – jako velmi účinné se ukázalo společné projednání problému za přítomnosti třídního učitele, vyučujícího problémového předmětu a zákonného zástupce za přítomnosti ž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nání má povinnost vyvolat třídní učitel na konci 1. a 3. čtvrtletí pokud je žák z nějakého předmětu hodnocen 5 nebo 4 – 5, z jednání je vždy pořízen zápis, který podepíší všichni účastníci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ouze eviduje zápisy z jednání a zasáhne pouze na žádost TU – např. pokud se současně projednává kázeňský probl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je příčinou jiný problém – např. rodinné problémy, špatné postavení v třídním kolektivu, nediagnostikované poruchy učení nebo chování apod. - pomáhá VP společně s třídním učitelem, případně zákonnými zástupci žáka, hledat řeš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y postupy a pravidla péče o žáky v této oblasti popisuje školní legislativa - Vnitřní předpis ZŠ Rosice k zajištění péče o žáky neprospívající a žáky mimořádně nad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54:29Z</dcterms:modified>
  <cp:revision>95</cp:revision>
  <dc:subject/>
  <dc:title>Výchovný poradce  v systému poradenských služeb na ZŠ Rosice</dc:title>
</cp:coreProperties>
</file>