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B0B-D585-4380-9BF5-0A914BEA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772-12F5-44F7-9E9B-64F9F326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7AE-692E-458F-AFF5-965BE583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E38-E9F2-4491-B079-868BBC90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B30-62F9-4749-9E02-E4E874F2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A93-BE87-40B0-9280-33EE9682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746-DEDF-487D-8C31-E39236FC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4F0-FF32-4DCA-8884-4E93F469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A28-B6A2-4BDB-9AAC-1E91233E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294-FC58-4AA8-9F56-06A92F23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8B0-2356-4234-9A70-EFF98149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E39-E538-4A41-ABA6-1F49AF97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A2E9-160B-4D06-AD79-6DD8A99C1F0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5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Picture 9" descr="V2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VA6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VRAK1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V6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V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V9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V10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Picture 6" descr="V11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V12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Picture 6" descr="VA2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VA3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VA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Picture 6" descr="VA5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navratil</cp:lastModifiedBy>
  <dcterms:modified xsi:type="dcterms:W3CDTF">2014-10-02T13:05:32Z</dcterms:modified>
  <cp:revision>6</cp:revision>
  <dc:subject/>
  <dc:title>Snímek 1</dc:title>
</cp:coreProperties>
</file>