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775-3005-4F3F-A982-4A509034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C15-865A-4997-9BFC-7D679B34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DA1-DF37-469A-96B6-8B0781E4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F98-D926-4D11-BBFF-AE708510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482-4715-4527-B285-EB7CD101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1F4-0C47-4600-8174-5B3EAF64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B08-6257-4156-BE22-6B95F398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AD1-280A-42CC-9C0E-8F2AC61D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234-AE13-498A-97D2-A044EFAF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9B7-B82C-42EC-A303-BD048C40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2A1-075F-4388-8B74-84A53D05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CA1-60E0-4083-94B2-B2A2AFA4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55D9-546F-4C41-A06C-C1FE20390F6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5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Picture 9" descr="V2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VA6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VRAK1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V6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V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V9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V10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Picture 6" descr="V11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V1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Picture 6" descr="VA2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VA3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VA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Picture 6" descr="VA5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navratil</cp:lastModifiedBy>
  <dcterms:modified xsi:type="dcterms:W3CDTF">2014-10-02T13:05:32Z</dcterms:modified>
  <cp:revision>6</cp:revision>
  <dc:subject/>
  <dc:title>Snímek 1</dc:title>
</cp:coreProperties>
</file>