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E2E-A2C5-4C44-8862-41DC280C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214-2816-44B1-9982-D3F13E70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471-2A9D-4016-A208-88CD0CC2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E2D-4B91-4F32-8246-7DAC8A84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D221-4592-4843-B1D0-28B67FDE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A2EB-611E-40F8-9CB5-D84D617C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D494-28BB-45BC-A67A-82ADCC51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28B5-95E1-45E3-A9AA-C2803720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4A9C-7014-4493-820C-7FF90859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3C18-C824-4242-9E55-81509F66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435A-9108-46FE-89A8-0D64B2E5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D91-0B06-47AC-8574-D05E1323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341C-903F-4A9B-9690-CF21AA54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4E1B-C5FA-48D1-BCF7-9F72ACF3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9490-F8BB-4163-A922-51D255F7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8CD9-9655-47BE-89D6-1864D4AE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2FC2-3179-4515-9AE7-D2419E40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2ED-2E8A-43E9-947E-B2CC27B9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476-D6D7-4319-8C16-C53C23F1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5BB-52B8-48D7-9F3C-1E539A96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7E3-69CB-4D01-B1AC-D10AB211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7CB-569C-468A-8658-46614299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69B-C069-4404-B8A7-25545520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D96-53E0-46C0-9C3F-17C9C6DF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F122-3333-4613-88D8-C200EB0541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D083-225F-4640-ACDE-3A218ADFEA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eznam.cz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webhp?hl=cs" TargetMode="External"/><Relationship Id="rId3" Type="http://schemas.openxmlformats.org/officeDocument/2006/relationships/hyperlink" Target="http://www.google.com/webhp?hl=cs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irus.com/srsapp/" TargetMode="External"/><Relationship Id="rId3" Type="http://schemas.openxmlformats.org/officeDocument/2006/relationships/hyperlink" Target="http://scholar.google.com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Vyhledávací stroje II</a:t>
            </a:r>
            <a:br>
              <a:rPr sz="3600"/>
            </a:br>
            <a:r>
              <a:rPr b="0" i="1" lang="en-US" sz="3200" spc="-1" strike="noStrike">
                <a:solidFill>
                  <a:srgbClr val="003366"/>
                </a:solidFill>
                <a:latin typeface="Verdana"/>
              </a:rPr>
              <a:t>jednoduché dotazy versus pokroči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15. 4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336699"/>
                </a:solidFill>
                <a:latin typeface="Verdana"/>
              </a:rPr>
              <a:t>Jednoduchý dotaz – simple que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adání klíčových slov bez použití log. operát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hoda: není nutné znát dotazovací jazyk vyhledávací služb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výhoda: nadměrný počet hitů, nerelevantní záznam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íklad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oko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30000"/>
              <a:buFont typeface="Wingding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zadejte uvedený výraz do vyhledávače a posuďte relevantnost hitů s tím, že se  zajímáte o historii Tělocvičné jednoty Sokol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olba klíčových slov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taz je sestavován z klíčových slo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tázka formulace dotaz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olba klíčových slo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počet klíčových slov: častá chyba – nedostatečný počet (v průměru dvě K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jaké (ne)používat slovní druh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opslov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(předložky, spojky, obecná slova) – ignorována roboty, nemají informační přín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Jaké (ne)používat slovní dru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Verdana"/>
              </a:rPr>
              <a:t>podstatná jmén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těžištěm pro úspěšné vyhledává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Verdana"/>
              </a:rPr>
              <a:t>modifikátor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přísudky, přídavná jména), </a:t>
            </a:r>
            <a:r>
              <a:rPr b="0" lang="en-US" sz="3000" spc="-1" strike="noStrike">
                <a:solidFill>
                  <a:srgbClr val="009900"/>
                </a:solidFill>
                <a:latin typeface="Verdana"/>
              </a:rPr>
              <a:t>sloves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různorodá, snadno zaměniteln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obecné pravid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12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zahrnovat do dotazu slovesa a modifikátory (X jednoznačná identifikace objektu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alezení správné úrovně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ba klíčového slova pro vyjádření informační potřeby ve vztahu k míře specifič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íliš obecné výrazy – nadměrný počet hit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ecifické výrazy – nebezpečí nulového výsled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ynonyma, alternativní tv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9900"/>
                </a:solidFill>
                <a:latin typeface="Verdana"/>
              </a:rPr>
              <a:t>alternativní tvar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různé grafické podoby téhož slova: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arajevo/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Saraye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9900"/>
                </a:solidFill>
                <a:latin typeface="Verdana"/>
              </a:rPr>
              <a:t>synonym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car/automobil/motor vehic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ací strateg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obecné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uživatel ví o tématu velmi mál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specifické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uživatel zná velmi dobře té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inkrementální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vyhledávání po krocí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řetězcové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nalezení více klíčových slov najedno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vyhledej a skoč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rychlá, dvoukroková vyhledávací techni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kategoriální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browsing, kategorizační schém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3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íce viz SKLENÁK, V. </a:t>
            </a:r>
            <a:r>
              <a:rPr b="0" lang="cs-CZ" sz="2000" spc="-1" strike="noStrike">
                <a:solidFill>
                  <a:srgbClr val="cc0000"/>
                </a:solidFill>
                <a:latin typeface="Verdana"/>
              </a:rPr>
              <a:t>Data, informace, znalosti a Interne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 Vyd. 1. Praha : C.H. Beck, 2001. xvii, 507 s. ISBN 80-7179-409-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ŘÍKLADY VYUŽITÍ STRATEGI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užití specializovaných vyhledávacích strojů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IRIU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GOOGLE SCHOL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rovnání služeb: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ÍTŮ, M. </a:t>
            </a:r>
            <a:r>
              <a:rPr b="0" lang="cs-CZ" sz="2600" spc="-1" strike="noStrike">
                <a:solidFill>
                  <a:srgbClr val="009900"/>
                </a:solidFill>
                <a:latin typeface="Verdana"/>
              </a:rPr>
              <a:t>Google Scholar se rozvíjí - má Scirus konkurenci?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Ikaro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[online]. 2005, č. 03 [cit. 2005-04-10].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stupné z: http://www.ikaros.cz/Clanek.asp?ID=200503003 ISSN 1212-5075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58:22Z</dcterms:created>
  <dc:creator>SilvieP.</dc:creator>
  <dc:description/>
  <dc:language>en-US</dc:language>
  <cp:lastModifiedBy>Silvie Presová</cp:lastModifiedBy>
  <dcterms:modified xsi:type="dcterms:W3CDTF">2005-06-07T17:46:29Z</dcterms:modified>
  <cp:revision>27</cp:revision>
  <dc:subject/>
  <dc:title>Tvorba rešerší </dc:title>
</cp:coreProperties>
</file>