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8AE-FAD8-4063-86FB-B081467E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11A-A9C2-415E-8077-97EB7060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C16-0294-42F9-8CAB-B13CD959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5FF-95C8-41EB-ABCD-9CE1D051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8568-C777-4751-9F9C-FD199326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FC4C-DFB8-4FE3-A6B1-81BC4508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2842-27B5-4D23-B542-26570E6C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9F4A-03E1-4F8A-A784-1BAC9934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D6D9-3AF3-41DA-B652-7708A239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51F3-FDD0-4E27-A414-DA2CBA16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216A-6A5D-4962-B2C5-1390AD0D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744-4430-4ADB-BB76-103BDC15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DBD7-0045-4CD4-8350-16C391F6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D079-20DC-42DA-8692-C0BDCD25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46DD-E5D5-4FDD-8E39-AC152829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476F-EF9F-4AD3-806B-786489B0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D105-A1E4-4B0B-80B0-0053DF7E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7D5-A16A-48B2-AD8A-A1632B42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998-0124-4333-B61E-8963AF55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539-6485-43CE-B2B7-2A6AEAD9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0C0-2B51-4551-978F-85AA421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4536-1114-45B4-812A-DB569122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4A4-4F47-4199-8785-307E389D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679-3791-4162-956F-A46FB813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22E1-E6E8-4805-9BAB-113DBBF580A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A99F-AD4A-4615-9912-802EBAB11B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hyperlink" Target="http://xxx.lanl.gov/" TargetMode="External"/><Relationship Id="rId4" Type="http://schemas.openxmlformats.org/officeDocument/2006/relationships/hyperlink" Target="http://xxx.lanl.gov/" TargetMode="External"/><Relationship Id="rId5" Type="http://schemas.openxmlformats.org/officeDocument/2006/relationships/hyperlink" Target="http://xxx.lanl.gov/" TargetMode="External"/><Relationship Id="rId6" Type="http://schemas.openxmlformats.org/officeDocument/2006/relationships/hyperlink" Target="http://www.ulrichsweb.com/ulrichsweb/" TargetMode="External"/><Relationship Id="rId7" Type="http://schemas.openxmlformats.org/officeDocument/2006/relationships/hyperlink" Target="http://www.wipo.int/classifications/fulltext/new_ipc/index.htm" TargetMode="External"/><Relationship Id="rId8" Type="http://schemas.openxmlformats.org/officeDocument/2006/relationships/hyperlink" Target="http://patents1.ic.gc.ca/intro-e.html" TargetMode="External"/><Relationship Id="rId9" Type="http://schemas.openxmlformats.org/officeDocument/2006/relationships/hyperlink" Target="http://patents1.ic.gc.ca/intro-e.html" TargetMode="External"/><Relationship Id="rId10" Type="http://schemas.openxmlformats.org/officeDocument/2006/relationships/hyperlink" Target="http://patents1.ic.gc.ca/intro-e.html" TargetMode="External"/><Relationship Id="rId11" Type="http://schemas.openxmlformats.org/officeDocument/2006/relationships/hyperlink" Target="http://darwin.inf.fu-berlin.de/work/DissSearch" TargetMode="External"/><Relationship Id="rId12" Type="http://schemas.openxmlformats.org/officeDocument/2006/relationships/hyperlink" Target="http://darwin.inf.fu-berlin.de/work/DissSearch" TargetMode="External"/><Relationship Id="rId13" Type="http://schemas.openxmlformats.org/officeDocument/2006/relationships/hyperlink" Target="http://darwin.inf.fu-berlin.de/work/DissSearch" TargetMode="External"/><Relationship Id="rId14" Type="http://schemas.openxmlformats.org/officeDocument/2006/relationships/hyperlink" Target="http://darwin.inf.fu-berlin.de/work/DissSearch" TargetMode="External"/><Relationship Id="rId15" Type="http://schemas.openxmlformats.org/officeDocument/2006/relationships/hyperlink" Target="http://wwwlib.umi.com/dissertations/search" TargetMode="External"/><Relationship Id="rId16" Type="http://schemas.openxmlformats.org/officeDocument/2006/relationships/hyperlink" Target="http://wwwlib.umi.com/dissertations/search" TargetMode="External"/><Relationship Id="rId17" Type="http://schemas.openxmlformats.org/officeDocument/2006/relationships/hyperlink" Target="http://wwwlib.umi.com/dissertations/search" TargetMode="Externa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4 – 18.4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816-4E74-4D09-8A9C-C4C1532BEE9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B27-BBB2-4091-B6F5-36D2A71637C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E68-E0FB-4160-8164-8D1B6126C53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CB1-0B43-4622-836F-8FC06404978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BF00-DBFF-47C1-ACB0-F7ABEFA6750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77C2-D6C6-4815-A36A-FBD82ABAF05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E64-2D41-42BA-88CC-CC3CF5F9818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585-22A5-49DE-A812-3B40D251B360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6FB-BF14-49A3-96D0-E71610D7EA4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esej – 18. červ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test – 16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dy (puzzle) – 15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znam čísel získaných puzzle zaslat na schwarzjv@seznam.c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A2C-1F83-4921-810D-B1DE7934C4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DFB-C08E-43B3-9803-F91B17C0B9E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BE2-B704-4752-8AE5-E1AA96899F2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DA8-106F-4EE1-A0F0-230AF4067CF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057F-98AF-4B5E-9DEA-7FC0EB68111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4DA-D088-424D-940B-62492B542F2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D38-FC89-4797-BF30-868A2062894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89A-A9AB-4298-8EF4-CEE7BC82810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D22-A086-4BD6-97DA-883722B0654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24D-3422-4F61-B867-F51AAD6B9AC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49F-F752-48E4-A0A2-DDEC030FA5D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816-9D64-4790-80E2-0CFDC1A5E7D0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335-215F-4C93-8178-2B0E233EC40B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497-B0E2-42CB-80F0-CFFACD99C68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90D-46DF-4E59-ABE6-849A5A070E10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9F8-B761-43FA-BB5F-31C4C1E55196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507-2D10-49BF-ACDD-DE386C2214D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074-05D5-4CB2-805D-E459C12C958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B4B-D7D5-4E76-85D4-AB6BA62363C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3FC1-EF69-4BB1-A8E6-B6972D9A242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e-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rin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zinárodní patentové třídění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; db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Canadia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 Patent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Databas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Digitale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Dissertatione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 der FU Berlin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roQues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 Digital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DE2-4A4E-4208-B3A7-3B5819CC5B4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4-17T21:02:02Z</dcterms:modified>
  <cp:revision>223</cp:revision>
  <dc:subject/>
  <dc:title>Selekční jazyky</dc:title>
</cp:coreProperties>
</file>