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0DD1-E1D6-4DC7-AD3A-15DDC0B1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3702-6830-46A6-ADE0-D053B22C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F733-D69A-4F43-91C9-B0815B94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D17F-1930-4A0C-97EE-B456FF95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3998-FB7E-4E98-A360-395A99A4A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B5CA-17DC-48F1-8467-47343764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F15C-FCBF-4FCB-A32E-0F137804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4838-0613-4492-9254-1320AF0E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5C6E-3EAB-4132-80D1-81F761F1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177C-60BD-4758-A23E-8F3E574C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66E7-A4CC-41E7-9F4F-66EBF403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D3B7-4DD7-4292-8D1B-64C47FA2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3A21-46EF-475C-AB5F-455B3464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6527-9C56-46FC-AD8E-DC1AEA21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ED5C-180D-498E-825E-64E158F6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A6BE-4B52-4251-8BA9-A8AE05A9B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1850-8D2C-40D4-8FE3-A4324BD26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7C18-64FD-4C36-9A2D-5ED52E58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B9C9-4A22-44E6-9E58-8D3BC8CB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A9CB-E888-4732-B032-969B7F43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E52D-7E2F-4CBC-B7BB-5783C460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D671-CB70-4E3F-8666-E0BB03FA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9AAA-F1D5-43C2-AF53-0BA4836D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6780-182E-42C1-849B-54411667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F494-3ADB-4D17-8724-A2DF59548DB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B87A-6DF4-4CAB-A055-E7925835C83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17.xm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ikaros.cz/node/3986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hyperlink" Target="http://www.ikaros.cz/node/3986" TargetMode="External"/><Relationship Id="rId9" Type="http://schemas.openxmlformats.org/officeDocument/2006/relationships/slide" Target="slide12.xml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b.cas.cz/www/cz/frame_knihovna.HTML" TargetMode="External"/><Relationship Id="rId3" Type="http://schemas.openxmlformats.org/officeDocument/2006/relationships/hyperlink" Target="http://www4.infotrieve.com/newmedline/search.asp" TargetMode="External"/><Relationship Id="rId4" Type="http://schemas.openxmlformats.org/officeDocument/2006/relationships/hyperlink" Target="http://www.google.com/" TargetMode="External"/><Relationship Id="rId5" Type="http://schemas.openxmlformats.org/officeDocument/2006/relationships/hyperlink" Target="http://www.scirus.com/" TargetMode="External"/><Relationship Id="rId6" Type="http://schemas.openxmlformats.org/officeDocument/2006/relationships/hyperlink" Target="http://www.lib.cas.cz/www/cz/frame_knihovna.HTML" TargetMode="External"/><Relationship Id="rId7" Type="http://schemas.openxmlformats.org/officeDocument/2006/relationships/hyperlink" Target="http://www4.infotrieve.com/newmedline/adv_search.asp" TargetMode="External"/><Relationship Id="rId8" Type="http://schemas.openxmlformats.org/officeDocument/2006/relationships/hyperlink" Target="http://www.google.cz/advanced_search?hl=cs" TargetMode="External"/><Relationship Id="rId9" Type="http://schemas.openxmlformats.org/officeDocument/2006/relationships/hyperlink" Target="http://www.scirus.com/srsapp/advanced/index.jsp" TargetMode="External"/><Relationship Id="rId10" Type="http://schemas.openxmlformats.org/officeDocument/2006/relationships/hyperlink" Target="http://www.lib.cas.cz/www/cz/frame_knihovna.HTML" TargetMode="External"/><Relationship Id="rId11" Type="http://schemas.openxmlformats.org/officeDocument/2006/relationships/hyperlink" Target="http://www4.infotrieve.com/newmedline/search.asp" TargetMode="External"/><Relationship Id="rId12" Type="http://schemas.openxmlformats.org/officeDocument/2006/relationships/hyperlink" Target="http://www.psp.cz/rapid/aRL/main.php?language=czech&amp;ictx=par" TargetMode="External"/><Relationship Id="rId13" Type="http://schemas.openxmlformats.org/officeDocument/2006/relationships/hyperlink" Target="http://df.stk.cz/cgi-bin/dflex/CZE/STK/FIND2" TargetMode="External"/><Relationship Id="rId14" Type="http://schemas.openxmlformats.org/officeDocument/2006/relationships/hyperlink" Target="http://www.ff.cuni.cz/tinweb/tw" TargetMode="External"/><Relationship Id="rId15" Type="http://schemas.openxmlformats.org/officeDocument/2006/relationships/hyperlink" Target="http://tinweb.upm.cz/" TargetMode="External"/><Relationship Id="rId16" Type="http://schemas.openxmlformats.org/officeDocument/2006/relationships/hyperlink" Target="http://www.psp.cz/eknih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psp.cz/sqw/text/dotaz2.sqw?search=1&amp;od=1986&amp;do=1992" TargetMode="External"/><Relationship Id="rId4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psp.cz/sqw/text/dotaz2.sqw?search=1&amp;od=1998&amp;do=dnes" TargetMode="External"/><Relationship Id="rId4" Type="http://schemas.openxmlformats.org/officeDocument/2006/relationships/hyperlink" Target="http://jyxo.cz/" TargetMode="External"/><Relationship Id="rId5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sp.cz/cgi-bin/win/sqw/ev/evquery.sqw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sp.cz/sqw/ev/evquery.sqw?snt=1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igma.nkp.cz/cze/nkp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psp.cz/sqw/ev/evquery.sqw" TargetMode="External"/><Relationship Id="rId5" Type="http://schemas.openxmlformats.org/officeDocument/2006/relationships/image" Target="../media/image2.png"/><Relationship Id="rId6" Type="http://schemas.openxmlformats.org/officeDocument/2006/relationships/hyperlink" Target="file:///POJIST.doc" TargetMode="External"/><Relationship Id="rId7" Type="http://schemas.openxmlformats.org/officeDocument/2006/relationships/hyperlink" Target="http://full.nkp.cz/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df.stk.cz/cgi-bin/dflex/CZE/STK/FIND2" TargetMode="External"/><Relationship Id="rId3" Type="http://schemas.openxmlformats.org/officeDocument/2006/relationships/hyperlink" Target="http://www.obchodnirejstrik.cz/" TargetMode="External"/><Relationship Id="rId4" Type="http://schemas.openxmlformats.org/officeDocument/2006/relationships/hyperlink" Target="http://df.stk.cz/cgi-bin/dflex/CZE/STK/BROWSE" TargetMode="External"/><Relationship Id="rId5" Type="http://schemas.openxmlformats.org/officeDocument/2006/relationships/hyperlink" Target="http://www.psp.cz/cgi-bin/win/sqw/ev/evquery.sqw" TargetMode="External"/><Relationship Id="rId6" Type="http://schemas.openxmlformats.org/officeDocument/2006/relationships/hyperlink" Target="http://aip.nkp.cz/mdt/" TargetMode="External"/><Relationship Id="rId7" Type="http://schemas.openxmlformats.org/officeDocument/2006/relationships/hyperlink" Target="http://www.czso.cz/csu/edicniplan.nsf/p/0216-03" TargetMode="External"/><Relationship Id="rId8" Type="http://schemas.openxmlformats.org/officeDocument/2006/relationships/hyperlink" Target="http://www.census.gov/epcd/www/naics.html" TargetMode="External"/><Relationship Id="rId9" Type="http://schemas.openxmlformats.org/officeDocument/2006/relationships/hyperlink" Target="http://www.medigrid.cz/mleko/index.do;jsessionid=DC5FA8A54556DD11EC4E5551471CBFCE" TargetMode="External"/><Relationship Id="rId10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ibrary.dialog.com/bluesheets/html/bl0391.html#BI" TargetMode="External"/><Relationship Id="rId3" Type="http://schemas.openxmlformats.org/officeDocument/2006/relationships/hyperlink" Target="http://library.dialog.com/bluesheets/html/bl0391.html#BI" TargetMode="External"/><Relationship Id="rId4" Type="http://schemas.openxmlformats.org/officeDocument/2006/relationships/hyperlink" Target="http://library.dialog.com/bluesheets/html/bl0391.html#BI" TargetMode="External"/><Relationship Id="rId5" Type="http://schemas.openxmlformats.org/officeDocument/2006/relationships/hyperlink" Target="http://www4.infotrieve.com/newmedline/adv_search.asp" TargetMode="External"/><Relationship Id="rId6" Type="http://schemas.openxmlformats.org/officeDocument/2006/relationships/hyperlink" Target="http://library.dialog.com/bluesheets/html/bl0002.html#BI" TargetMode="External"/><Relationship Id="rId7" Type="http://schemas.openxmlformats.org/officeDocument/2006/relationships/hyperlink" Target="http://www.eric.ed.gov/" TargetMode="External"/><Relationship Id="rId8" Type="http://schemas.openxmlformats.org/officeDocument/2006/relationships/hyperlink" Target="http://library.dialog.com/bluesheets/html/bl0439.html#BI" TargetMode="External"/><Relationship Id="rId9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ortalstm.cz/" TargetMode="External"/><Relationship Id="rId3" Type="http://schemas.openxmlformats.org/officeDocument/2006/relationships/hyperlink" Target="http://www.jib.cz/" TargetMode="External"/><Relationship Id="rId4" Type="http://schemas.openxmlformats.org/officeDocument/2006/relationships/hyperlink" Target="http://www.scirus.com/" TargetMode="External"/><Relationship Id="rId5" Type="http://schemas.openxmlformats.org/officeDocument/2006/relationships/hyperlink" Target="http://www.metacrawler.com/" TargetMode="External"/><Relationship Id="rId6" Type="http://schemas.openxmlformats.org/officeDocument/2006/relationships/hyperlink" Target="http://www.obchodnirejstrik.cz/" TargetMode="External"/><Relationship Id="rId7" Type="http://schemas.openxmlformats.org/officeDocument/2006/relationships/hyperlink" Target="http://www.metacrawler.com/" TargetMode="External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ibrary.dialog.com/bluesheets/html/bl0006.html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lekční jazyky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042560" y="3309480"/>
            <a:ext cx="6729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vod do problemati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40458c"/>
                </a:solidFill>
                <a:latin typeface="Tahoma"/>
              </a:rPr>
              <a:t>Přednáška č. 2 (kombinovaní) – 11.5.2007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jarní semestr 2006/2007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Josef Schwar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Kvalita vs konzistence index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ztah kvality a konzistence není bezprostředn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onzistentní indexace neznamená kvalitní indexac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valitní indexace zahrnuje i konzistentní indexac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onzistence indexace zlepšuje efektivitu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z hlediska správy databáze je konzistence kvalito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204D-43BD-441A-AABA-9010285357D5}" type="slidenum">
              <a:t>10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aktory ovlivňující indexac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ndexá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j.: zkušenost a znalost SJ, znalost oboru, porozumění textu, systematické myšlení, racionální čte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ubj.: soustř., pečlivost, nálada, únava, motiv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valita řízeného slovník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indexační pravidl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okument/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or, struktura, délka, styl, žánr, pomocný aparát, jazy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acovní podmínk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ac. doba, produktivita práce, prac. prostředí, technické prostředk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7578-580A-4394-B52B-A90D5FA57969}" type="slidenum">
              <a:t>11</a:t>
            </a:fld>
          </a:p>
        </p:txBody>
      </p:sp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ontrola a hodnocení index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 procesu index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ndexační pravidl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rovnání s obsahem databáz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automatické procedury: 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TODESCHINI, C., FARRELL, M.P. An expert system for quality control in bibliographic databases. 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Journal of the American Society for Information Science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, 1989, roč. 40, č. 1, s. 1-11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uperviz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právnost a úplnost obsahové analýz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ěcná i formální správnost přiřazených pořádacích znak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indexační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3" action="ppaction://hlinksldjump"/>
              </a:rPr>
              <a:t> chyb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 action="ppaction://hlinksldjump"/>
              </a:rPr>
              <a:t>indexační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 action="ppaction://hlinksldjump"/>
              </a:rPr>
              <a:t> experiment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i vyhledáván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elevance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úplnost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recall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 a přesnost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precision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0A1C-010B-4BB2-A504-C256B3B8BB40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levance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plnost (recall) 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očet vyhledaných relevantních dokumentů / počet všech relevantních dokument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snost (precision) 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očet vyhledaných relevantních dokumentů / počet všech vyhledaných dokument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měr mezi úplností a přesnost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6f89f7"/>
                </a:solidFill>
                <a:uFillTx/>
                <a:latin typeface="Wingdings 3"/>
                <a:ea typeface="Wingdings 3"/>
                <a:hlinkClick r:id="rId4" action="ppaction://hlinksldjump"/>
              </a:rPr>
              <a:t>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3402-D815-480B-813D-41571B4037E7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Indexační chyb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ata: kontrola indexace UK-ETF 1998-99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iz </a:t>
            </a:r>
            <a:r>
              <a:rPr b="0" lang="en-US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případová stud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jčastější typy chy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pominutí hledisek (18,6%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esprávné stanovení významu nebo rozsahu deskriptoru (12,3%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hybějící jednotlivé deskriptory (11,5%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ypy chyb podle ovlivnění úplnost a přesnost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omplexní chyby snižující úplnost (23,4%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ílčí chyby snižující úplnost (22,1%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ílčí chyby snižující úplnost i přesnost (14,9%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8F78-C55C-4223-9306-2BFD4B4D9833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Indexační chyby (pokr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typy chyb podle fáze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40458c"/>
                </a:solidFill>
                <a:latin typeface="Tahoma"/>
              </a:rPr>
              <a:t>obsahová analýza (18,1%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droj chyb: indexát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40458c"/>
                </a:solidFill>
                <a:latin typeface="Tahoma"/>
              </a:rPr>
              <a:t>identifikace pojmů (42,3%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droj chyb: indexační pravidla, indexát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jčastěji: opominutí hledise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40458c"/>
                </a:solidFill>
                <a:latin typeface="Tahoma"/>
              </a:rPr>
              <a:t>výběr deskriptorů z tezauru (20,8%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droj chyb: indexátor, indexační pravidla, řízený slovn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6f89f7"/>
                </a:solidFill>
                <a:uFillTx/>
                <a:latin typeface="Wingdings 3"/>
                <a:ea typeface="Wingdings 3"/>
                <a:hlinkClick r:id="rId2" action="ppaction://hlinksldjump"/>
              </a:rPr>
              <a:t>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AE9E-2683-4FFE-8085-37CD18C969C8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Indexační experiment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rovnávání různých typů selekčních jazyk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ndexace vzorku dokument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ovnání formou rešeršních dotaz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konzistence indexátor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experimentální přístup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va nebo více indexátor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zorek dokument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ndex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nterpretace výsledk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89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89160" indent="-42948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případová studi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89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891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6f89f7"/>
                </a:solidFill>
                <a:uFillTx/>
                <a:latin typeface="Wingdings 3"/>
                <a:ea typeface="Wingdings 3"/>
                <a:hlinkClick r:id="rId9" action="ppaction://hlinksldjump"/>
              </a:rPr>
              <a:t>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F88A-525B-48FC-94AE-2CECCAE2CBBF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yužití hodnocení index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ndexá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pětná vazb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odnocení prá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úprava lexika n. struktu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úprava poznámek o rozsah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dexační pravid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ormul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úpra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okumen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eindex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80F6-06BD-4238-915D-678CC431837C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Tahoma"/>
              </a:rPr>
              <a:t>Přirozený jazyk vs řízený slovník z hlediska věcného vyhledávání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y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dle způsobu vyhledávání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reetextov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ákladní, jednoduché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KNAV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Medlin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Googl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Sciru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rukturovan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kročilé, podrobné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KNAV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Medlin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Googl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Sciru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ení dostupný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0"/>
              </a:rPr>
              <a:t>KNAV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1"/>
              </a:rPr>
              <a:t>Medlin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e dostupný samostatně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2"/>
              </a:rPr>
              <a:t>PK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3"/>
              </a:rPr>
              <a:t>STK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e dostupný při vyhledávání: 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14"/>
              </a:rPr>
              <a:t>FF UK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5"/>
              </a:rPr>
              <a:t>UPM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e plně integrovaný do vyhledávání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6"/>
              </a:rPr>
              <a:t>PSP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lnotextové (fulltextové)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nvertovaný rejstř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kvenční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B416-C134-4163-881C-2EFF3DD6BAB8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gra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kvalita a konzistence indexa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ěcné vyhledávání – řízený slovník vs plný tex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obecné aspekty věcného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tandardizace a harmonizace SJ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ícejazyčné SJ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65A0-8226-481F-8CFA-5DAA3E048654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Problémy při věcném vyhledávání</a:t>
            </a:r>
            <a:br>
              <a:rPr sz="36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s ohledem na přirozený jazyk a řízený slovník 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8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aktory ovlivňující vyhledávání (výběrově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ecné faktory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ubjektivní aspekty zpracován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ícejazyč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e slovníkem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flexe a tvorba slov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asymetrie jazyk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implicitní (paradigmatické) vztahy mezi pojmy (obecné vs specifické pojmy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ožnost vyhledávání nových termínů (pojmů, témat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pecifičnost vyhledávaných výraz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zdálenost vyhledávaných výraz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 délkou SOD neb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 uživatelem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typ uživatel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ožadavky na přesnost a/nebo úpl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1838-BE6C-4428-9394-3A2264A85CA8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bjektivní aspekty zpraco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vlivnění SOD subjektivním přístupem  indexátora (neplatí, pokud se používá systém automatické indexa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utnost předjímat potřeby uživate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valita a konzistence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ři vyhledávání bez vliv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 na úrovni textu: různá terminologie, různá reprezentace pojmů, různá ideologická východiska at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F373-D4AD-4A1F-99B1-D6F5D32FE14B}" type="slidenum">
              <a:t>21</a:t>
            </a:fld>
          </a:p>
        </p:txBody>
      </p:sp>
    </p:spTree>
  </p:cSld>
  <p:transition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Vícejazyčno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pokojivě řeší z hlediska textu i z hlediska uživate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deální řešení: texty více jazyků jsou indexovány vícejazyčným řízeným slovníkem nebo klasifikací (nezávislou na přirozeném jazy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e standardních systémech nutnost formulace několika dotaz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sněmovní tisk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řeší pokročilé metody vyhledávání založené na statistických modelech textu (např.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dexov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ání latentní sémantiky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A879-03DC-4CB8-A86A-8CECF5044950}" type="slidenum">
              <a:t>22</a:t>
            </a:fld>
          </a:p>
        </p:txBody>
      </p:sp>
    </p:spTree>
  </p:cSld>
  <p:transition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exe a tvorba slov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yřeše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krácení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vykle účinné: antropolog*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ěkdy však problematické: sen/sny/snová/snivec; kůň/koně/konírn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derivátor slovních tvar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příklad 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íklad 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D203-BA14-4887-9F78-03B6E0852C98}" type="slidenum">
              <a:t>23</a:t>
            </a:fld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symetrie jazyka</a:t>
            </a:r>
            <a:br>
              <a:rPr sz="4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synonymie, homonymie, polysémie atd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ynonymie a další jazykové jevy vyřešeny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ynonym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e třeba zohlednit při formulaci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monym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exikální homonyma (objetí, travička, župan, občank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gramatická homonyma (ženu, jez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a obecné úrovni obtížně řešitelné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FC60-8404-44F5-B4AF-1282AC0739DF}" type="slidenum">
              <a:t>24</a:t>
            </a:fld>
          </a:p>
        </p:txBody>
      </p:sp>
    </p:spTree>
  </p:cSld>
  <p:transition>
    <p:zoom dir="ou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Paradigmatické vztahy</a:t>
            </a:r>
            <a:br>
              <a:rPr sz="4400"/>
            </a:br>
            <a:r>
              <a:rPr b="0" lang="cs-CZ" sz="2400" spc="-1" strike="noStrike">
                <a:solidFill>
                  <a:srgbClr val="660066"/>
                </a:solidFill>
                <a:latin typeface="Tahoma"/>
              </a:rPr>
              <a:t>Obecné vs specifické pojmy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ztahy mezi pojmy stanovuje struktura řízeného slovníku, která umožňuje vyhledat i další relevantní výraz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: i v ŘS problémy s vyjádřením pojmů (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příklad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mplicitní paradigmatické vztahy nemusí uživatel znát nebo si je uvědomi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bronz -&gt; slitina kov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uesta -&gt; typ vrcholu kop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07D0-802C-42CF-B786-F189FA1C9D14}" type="slidenum">
              <a:t>25</a:t>
            </a:fld>
          </a:p>
        </p:txBody>
      </p:sp>
    </p:spTree>
  </p:cSld>
  <p:transition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é termíny, pojmy, tém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 časovým zpožděním, nutnost vyjádřit stávajícími deskriptory nebo jejich kombinac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Eurovo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z problé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1DA5-6A1B-42AE-B28F-7E0A459B7035}" type="slidenum">
              <a:t>26</a:t>
            </a:fld>
          </a:p>
        </p:txBody>
      </p:sp>
    </p:spTree>
  </p:cSld>
  <p:transition>
    <p:zoom dir="ou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Specifičnost vyhledávaných výrazů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mezená množina lexikálních jednote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šechny specifické výraz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3314-BF02-4A04-8B97-1CFDD4B73594}" type="slidenum">
              <a:t>27</a:t>
            </a:fld>
          </a:p>
        </p:txBody>
      </p:sp>
    </p:spTree>
  </p:cSld>
  <p:transition>
    <p:zoom dir="ou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Vzdálenost vyhledávaných výrazů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bvykle (v rámci SOD) není potřeb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žnost blízkosti zadaných výrazů (fráz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příkla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ximitní operáto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zdálenost výrazů určená počtem slov (příp. se zohlednění pořad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zdálenost výrazů určená segmentem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2755-9C46-4733-9622-86FAFF2560BF}" type="slidenum">
              <a:t>28</a:t>
            </a:fld>
          </a:p>
        </p:txBody>
      </p:sp>
    </p:spTree>
  </p:cSld>
  <p:transition>
    <p:zoom dir="ou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élka SOD / text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 (SO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běrová (selective)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plná (exhaustive)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omprimovaný tex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bstrakt, anotace, výtah a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ozsah komprimovanéh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lný text dokument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4648320"/>
            <a:ext cx="8839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trémy: klasifikace do jedné třídy x plný tex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yšší délka -&gt; vyšší úplnos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Úplná indexace přináší úplnější výsledky vyhledávání než název a  krátký abstrak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rátký abstrakt přináší úplnější výsledky vyhledávání než výběrová index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louhý abstrakt (referát) a plný text přinášejí úplnější výsledky vyhledávání než úplná index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B551-76F4-42AD-A179-977F023592A3}" type="slidenum">
              <a:t>29</a:t>
            </a:fld>
          </a:p>
        </p:txBody>
      </p:sp>
    </p:spTree>
  </p:cSld>
  <p:transition>
    <p:zoom dir="out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Kvalita a konzistence indexa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 uživate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yužívá spíše odborník seznámený s pravidly tvorby, strukturou a způsobem práce s Ř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lasifikace, které nejsou založené na přirozeném jazyce, běžní uživatelé využívají minimálně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e přístupný všem typům uživatel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5602-F836-472A-B66C-A3C558F2322D}" type="slidenum">
              <a:t>30</a:t>
            </a:fld>
          </a:p>
        </p:txBody>
      </p:sp>
    </p:spTree>
  </p:cSld>
  <p:transition>
    <p:zoom dir="out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Požadavky na přesnost/úplnost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ůže být lepší z hlediska přes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: podle konkrétních podmínek zvyšuje úpl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ůže být lepší z hlediska úpl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: v případě vyhledávání specifického výrazu zvyšuje přes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7F3E-F7DD-449D-B315-4097BEF57708}" type="slidenum">
              <a:t>31</a:t>
            </a:fld>
          </a:p>
        </p:txBody>
      </p:sp>
    </p:spTree>
  </p:cSld>
  <p:transition>
    <p:zoom dir="out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Výsledné hodnocení ŘS vs F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yhledávání pomocí řízeného slovníku i v plném textu má své výhody i nevýhod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ejich použití je třeba zvažovat podle konkrétních potř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ybridní systém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lný text i řízený slovn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šiřování uživatelského dotazu pomocí ŘS (query expansion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íkla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rukturovaný dotaz – systém TOPI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ukázk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příklad využit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derní modely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ktorové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atentní sémantické indexo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B98E-10BD-41E2-B395-9D6FDB90AB68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ecný postup při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alýza požadavk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dentifikace informačních zdroj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anovení rešeršní strategie a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rmulace dotaz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zpracování výsledků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yhodnocení/interpretace výsledků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9092-CBE9-4306-B787-7FD14F035C81}" type="slidenum">
              <a:t>34</a:t>
            </a:fld>
          </a:p>
        </p:txBody>
      </p:sp>
    </p:spTree>
  </p:cSld>
  <p:transition>
    <p:zoom dir="out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ruhy vyhledávání podle typu hledané informac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dentifikační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známe některé údaje o hledaném dokumentu nebo polož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hledávací výrazy: formální údaje - osobní jméno, název, nakladatel, rok, místo vydání, název časopisu, ISBN, ISSN, datum (konání konference, vydání, narození aj.)  ap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STK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Obchodní rejstř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věcn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(neznáme požadovaný dokument, hledáme určité tém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vyhledávací výrazy: věcné údaje - klíčová slova z názvu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edmětová hesla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klíčová slova, deskriptory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tezauru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klíčová slova z textu dokumentu (redukovaného nebo plného), klasifikac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MDT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OKEČ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NAICS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) ap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aktografické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chceme zjistit konkrétní informaci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hledávací výrazy: údaje podle obsahu a struktury zdroj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Medigrid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B622-2415-4C03-9183-54455FB17AC6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účel a zaměření informačního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formační okruh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ěda, technika, výzkum, standardiz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eřejná (státní) správa, samospráva, legislati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konomická oblast (obchodní, firemní, bankovní informační zdroje), podnikové informační syst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nformační zdroje v oblasti kultury, umění, zába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asmédia, zpravodajství, informace „všedního dne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rchivní informační fond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aždý z uvedených okruhů má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iné nároky na rozsah i hloubku věcného zpraco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iné možnosti věcného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82EE-542F-42A5-A8D0-F81CD06547C3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obo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velmi schematické rozdělení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ory s propracovaným systémem řízených slovníků, klasifikací, číselníků a možnostmi multikriteriálního, fazetového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chemi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Beilstein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Reaction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lékařství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Medline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technika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INSPEC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ory s jednoduchým systémem věcného zpracování a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polečenské a humanitní vědy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ERIC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AH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553F-68E0-43D4-B2D9-A443B79D588A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bibliografická (dokumentografická) databáze/katalo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lnotextová databáz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aktografická databáz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zdroj typu adresář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etazdro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tabázová centra (funkce CrossSearch, CrossFile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tály typu katalogu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STM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tály typu metavyhledávačů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JIB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Sciru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vrchový“ web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Metacrawler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luboký“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deep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resp. „neviditelný“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inivisible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 web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Obchodní rejstřík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vs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Metacrawler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7956-D7F4-4C5B-8B9D-97879B4ACCDF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dokumentů/informací v informačním zdroji (záznamy n. plné text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zkumné zprávy, technické zprá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NTIS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e-Print archiv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nferenční materiály (preprinty aj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asopis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Ulrich‘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lánk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atent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zinárodní patentové třídění; db: Canadian Patent Database, Japan Patent Offi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or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International Classification for Standard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kademické práce (dizertace, habilita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Digitale Dissertationen der FU Berlin, ProQuest Digital Dissertatio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nograf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3C4F-50D4-4F92-8120-19862E9F5014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valita index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40458c"/>
                </a:solidFill>
                <a:latin typeface="Tahoma"/>
              </a:rPr>
              <a:t>LAN03, kap. Quality of Index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valitní indexace – taková indexace, která zajistí (ne)vyhledání dokumentu v rámci konkrétního informačního systém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de o relativní hodnot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účel a zaměření informačního systém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třeby a požadavky uživatel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elze hodnotit kvantitativními metodam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aktory ovlivňující kvalitu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42A7-FA83-4840-9E92-BEFA7A81CB16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Základní metod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zhledem k variabilitě informačních zdrojů i různých selekčních jazyků neexistuje pro věcné vyhledávání jednotný postup nebo pravidla – úspěšnost věcného vyhledávání je často spojena se znalostí konkrétních nástrojů a obor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ředpoklady úspěšného věcného vyhledávání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e strukturou a obsahem informačního zdroj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e strukturou a rozsahem řízených slovníků, vč. kvality a rozsahu věcného popisu a pravidel postkoordinace a prekoordin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 možnostmi, které pro věcné vyhledávání nabízí daný informační zdroj (konzultace řízeného slovníku, rozšiřování uživatelského dotazu, hledání podobných dokumentů at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C220-19DE-4177-93FE-9FA03C21902C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Základní metod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ecný postup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ečlivá formulace dotazu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v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„nástřel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olba vhodné rešeršní strate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rategie rostoucí perl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rategie osekáván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klasifikace dbát na výběr vhodných klasifikačních znaků a dodržovat pravidla jejich kombin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řízeného slovníku zohlednit hierarchii a asociaci, definovat dotaz tak, aby zahrnoval všechny potenciálně použitelné lexikální jednotky řízeného slovník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klíčových slov (název, plný text, freetextové vyhledávání) zahrnout všechna synonyma a vhodně nastavit zkrácení výraz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neúspěšném vyhledávání přeformulování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mbinovat různé selekční jazyky a různé způsoby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užití SOD konkrétních dokumentů pro úpravu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C93E-2BA7-4291-BB54-106E2398E214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rategie rostoucí perly </a:t>
            </a:r>
            <a:br>
              <a:rPr sz="44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příklad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vod? AND česk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) AND česk? and kriz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) AND (česk? OR čech?) AND („krizový management“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 OR flood? OR </a:t>
            </a:r>
            <a:r>
              <a:rPr b="0" lang="cs-CZ" sz="2800" spc="-1" strike="noStrike">
                <a:solidFill>
                  <a:srgbClr val="40458c"/>
                </a:solidFill>
                <a:latin typeface="Arial"/>
                <a:ea typeface="Arial"/>
              </a:rPr>
              <a:t>627.51</a:t>
            </a:r>
            <a:r>
              <a:rPr b="0" lang="cs-CZ" sz="2800" spc="-1" strike="noStrike">
                <a:solidFill>
                  <a:srgbClr val="40458c"/>
                </a:solidFill>
                <a:latin typeface="Arial"/>
              </a:rPr>
              <a:t>+627.53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 AND (česk? OR čech? OR morav? OR czech? OR tschech?) AND ((kriz? AND (řízen? OR managem? OR situac?)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td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89C7-9B22-41D7-8433-F1703760EA64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rategie osekávání</a:t>
            </a:r>
            <a:br>
              <a:rPr sz="44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příklad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jader? OR atom?) AND (elektrár? OR zařízen?) AND ?bezpečn? AND franc? AND (1986 OR 1987 OR 1988 OR 1989) AND (výzkum? OR techni?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ader? AND elektrár? AND ?bezpečn? AND franc? AND (1986 OR 1987 OR 1988 OR 1989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ader? AND elektrár? AND ?bezpečn? AND franc? AND (198? OR 200?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td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3D3D-A4AE-44FA-9F6D-D0973B71707B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 a harmonizace SJ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ak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stoucí počet informačních zdrojů v elektronické podobě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stoucí počet sekundárních dokument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stoucí počet přejímaných bbg zázna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zvoj digitálních knihoven a online služeb ve vícejazyčném prostřed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mysl a úč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měna informac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spora práce, času a lidských zdroj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usnadnění věcného přístupu k dokumentům a informací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6DF0-37CF-4DEF-9CA5-5B8DB3A39B13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roblém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oborové zaměření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truktura řízeného slovník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pecifičnost L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íra postkoordinace/prekooordin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ícejazyčno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E713-017C-4231-9282-C8D589FBD285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etody a prostředk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andardizace SJ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lexik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převzetí tezauru nebo jeho část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zrušená 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01 0180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(MDT-výběr znaků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struktu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definice vztahů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ČSN 010193; ČSN 01 0172; zrušená 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01 0188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(tvorba PH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morfolo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pravidla pro tvorbu hesel LCSH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ČSN 010193; ČSN 01 0172; zrušená 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01 0188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(tvorba PH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syntax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indexační pravidla nebo standardizace metod obsahové analýz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ISO 5963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A7D5-B4D7-4BD9-A734-6F21C402653D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metody a prostředk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tandardizace formá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apř. UNIMARC/Autor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ěcné autor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institu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FLA Classification and Indexing Se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merican Society of Index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E2D6-50F6-4AEA-9115-2F9ABC6DD2E5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armonizace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č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pojitelnost SJ a potažmo 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y harmoniz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mpabilit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žnost přímého propojení (výstupy jednoho systému lze použít přímo jako vstupy jiného systému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nvertibili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žnost převoditelnosti (výstupy jednoho systému lze po zpracování použít jako vstupy jiného systému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nverge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stupné sbližování dvou nebo více systém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nkorda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tvoření převodníku mezi dvěma nebo více syst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 úrovni lexikální jednotk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 úrovni pojmu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A7D2-90B3-44EE-A31A-F8C55EC53A49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onzistence index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40458c"/>
                </a:solidFill>
                <a:latin typeface="Tahoma"/>
              </a:rPr>
              <a:t>LAN03, Consistency of Index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íra shody dvou nebo více SO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y konzist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ezi indexátory (interindexer consistency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36120" indent="-219240">
              <a:lnSpc>
                <a:spcPct val="11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hoda indexace mezi dvěma nebo více indexáto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dexátora (intraindexer consistency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36120" indent="-219240">
              <a:lnSpc>
                <a:spcPct val="11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nzistence indexace jednoho indexátor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konzistence z hlediska hloubky index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nzistence pořádacích znaků vyjadřujících hlavní témat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nzistence pořádacích znaků vyjadřujících vedlejší témat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A5A0-C345-46BF-98BF-BB5235417E80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armonizace – mapování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dpoklad: stejný typ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stkoordinovaný SJ </a:t>
            </a:r>
            <a:r>
              <a:rPr b="0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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postkoordinovaný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ekoordinovaný SJ</a:t>
            </a:r>
            <a:r>
              <a:rPr b="0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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prekoordinovaný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ednosměrný nebo obousměrný převo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ednosměrn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ropojovací SJ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1 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PropSJ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2 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PropSJ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3 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PropSJ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ousměrn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1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2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2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3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3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1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3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3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734D-9C78-44F0-A764-D2944F72FFD9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armonizace - mapování SJ</a:t>
            </a:r>
            <a:br>
              <a:rPr sz="4400"/>
            </a:b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Příklady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Na úrovni LJ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LCSH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DD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Konspekt 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MD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DD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Projekt ELVI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Eurovoc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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Poli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Na úrovni pojmu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UMLS Metathesauru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DD03-6010-4725-94E3-50EAE68993C1}" type="slidenum">
              <a:t>51</a:t>
            </a:fld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č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ezinárodní harmonizace a integr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armonizace řízených slovníků a terminolo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opojování informačních systémů (např. paralelní vyhledáván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žnost indexace a vyhledávání v jazyce, který je zpracovateli/uživateli nejbližš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or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ícejazyčné tezau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SN ISO 5964 (ČSN 01 017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grovoc (12), Eurovoc (18 ofic.), MeS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lší vícejazyčné tezaury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azykové verze předmětových hes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CS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87EE-47C0-455E-AC29-8772CF8AF878}" type="slidenum">
              <a:t>53</a:t>
            </a:fld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oblém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lingvistické problémy (překlad/převo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terminolo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truktur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blémy kompatibil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100% kompatibilita (+nedeskriptory a poznámky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úpravy tezauru pro lokální potřeb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blémy správy a údržb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ložitější proces aktualiz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mplementace tezauru do AIK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W pro správu tezaur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0B49-70C9-495A-A13A-BA2E36243139}" type="slidenum">
              <a:t>54</a:t>
            </a:fld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br>
              <a:rPr sz="4400"/>
            </a:b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Vybrané jazykové problémy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atus jazy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tejný stat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aždý deskriptor v jednom jazyce má ekvivalenty v jiných jazycíc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ominantní jazyk/sekundární jazy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minantní jazyk – hlavní jazyk, ve kterém jsou vyjádřeny všechny deskripto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kundární jazyk – vedlejší jazyk, mohou chybět některé deskripto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Zprostředkující jazy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azyk používaný používaný pro indexaci a vyhledávání a pro výměnu dat (mapování, paralelní vyhledávání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8497-C1E5-405F-9E52-00C15A8CC83A}" type="slidenum">
              <a:t>55</a:t>
            </a:fld>
          </a:p>
        </p:txBody>
      </p:sp>
    </p:spTree>
  </p:cSld>
  <p:transition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br>
              <a:rPr sz="4400"/>
            </a:b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Vybrané jazykové problémy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18960" y="1904760"/>
            <a:ext cx="73911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klad/převod tezaur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chozí jazyk – jazyk, ze kterého se překlád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azyk překladu – jazyk, do kterého se překlád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pětná vazba – změna LJ výchozího jazyka na základě problémů v jazyce překlad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nterlingvistické a intralingvistické probl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řekladu/převodu nutno zohlednit nejen samotný výraz, ale i jeho zařazení do struktu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280160" indent="-1828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říklad (PSH, řada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právo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5029200"/>
            <a:ext cx="5181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ráv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zinárodní práv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zinárodní právo veřejné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átní občanství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bezdomovectví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48120" y="5029200"/>
            <a:ext cx="5181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la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international la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ublic international la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tionalit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homelessness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-&gt;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stateless person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638680" y="6400800"/>
            <a:ext cx="1447920" cy="0"/>
          </a:xfrm>
          <a:prstGeom prst="line">
            <a:avLst/>
          </a:prstGeom>
          <a:ln w="22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F026-E76E-4DFA-93AD-85C47247752D}" type="slidenum">
              <a:t>56</a:t>
            </a:fld>
          </a:p>
        </p:txBody>
      </p:sp>
    </p:spTree>
  </p:cSld>
  <p:transition>
    <p:zoom dir="ou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br>
              <a:rPr sz="4400"/>
            </a:b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Vybrané jazykové problémy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tupeň ekvivalence výraz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plná 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eúplná 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Částečná 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ermín/více termín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e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F962-0409-48EC-867A-9C6D5670BB4F}" type="slidenum">
              <a:t>57</a:t>
            </a:fld>
          </a:p>
        </p:txBody>
      </p:sp>
    </p:spTree>
  </p:cSld>
  <p:transition>
    <p:zoom dir="ou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J: physic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58128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J: Physi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0" y="1447920"/>
            <a:ext cx="8839080" cy="15858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fyzik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CF6E-9419-49DF-A2F3-48D5D37E1615}" type="slidenum">
              <a:t>58</a:t>
            </a:fld>
          </a:p>
        </p:txBody>
      </p:sp>
    </p:spTree>
  </p:cSld>
  <p:transition>
    <p:zoom dir="ou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J: men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8128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J: Gedec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jídelní lístek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7"/>
          <a:stretch/>
        </p:blipFill>
        <p:spPr>
          <a:xfrm>
            <a:off x="0" y="1600200"/>
            <a:ext cx="9144000" cy="1224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BDE7-4F3C-45CB-983B-72A7EFC81646}" type="slidenum">
              <a:t>59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Konzistence indexace (pokr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ýpočet I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vojice indexátorů </a:t>
            </a: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zv. konzistenční pár (</a:t>
            </a:r>
            <a:r>
              <a:rPr b="0" i="1" lang="cs-CZ" sz="2800" spc="-1" strike="noStrike">
                <a:solidFill>
                  <a:srgbClr val="40458c"/>
                </a:solidFill>
                <a:latin typeface="Tahoma"/>
              </a:rPr>
              <a:t>consistency pair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C = a / 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kd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= počet pořádacích znaků, které shodně zvolili oba indexátoř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b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 = celkový počet přidělených jedinečných pořádacích znak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AA08-2356-4960-B016-31B1AF00842D}" type="slidenum">
              <a:t>6</a:t>
            </a:fld>
          </a:p>
        </p:txBody>
      </p:sp>
    </p:spTree>
  </p:cSld>
  <p:transition>
    <p:zoom dir="ou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J: Wissenschaf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58128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J: ?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J: sci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věd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8"/>
          <a:stretch/>
        </p:blipFill>
        <p:spPr>
          <a:xfrm>
            <a:off x="0" y="1752480"/>
            <a:ext cx="9144000" cy="1105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0BF4-69DE-4FC9-9244-9B8BAFD170EF}" type="slidenum">
              <a:t>60</a:t>
            </a:fld>
          </a:p>
        </p:txBody>
      </p:sp>
    </p:spTree>
  </p:cSld>
  <p:transition>
    <p:zoom dir="ou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J: fue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2895120" y="190512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J: ?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J: carbura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J: combustib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3" name=""/>
          <p:cNvSpPr/>
          <p:nvPr/>
        </p:nvSpPr>
        <p:spPr>
          <a:xfrm>
            <a:off x="6248520" y="1905120"/>
            <a:ext cx="266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?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paliv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topiv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2"/>
          <a:stretch/>
        </p:blipFill>
        <p:spPr>
          <a:xfrm>
            <a:off x="0" y="1828800"/>
            <a:ext cx="9144000" cy="115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C175-95D3-4F49-BB4F-DB8129113E6D}" type="slidenum">
              <a:t>61</a:t>
            </a:fld>
          </a:p>
        </p:txBody>
      </p:sp>
    </p:spTree>
  </p:cSld>
  <p:transition>
    <p:zoom dir="ou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J: digital divid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43400" y="1828800"/>
            <a:ext cx="4495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ČJ: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[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igitální propast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F524-2C64-4B24-A0C1-AC2B53288523}" type="slidenum">
              <a:t>62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Konzistence indexace (pokr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8102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dexátor 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Arial"/>
                <a:ea typeface="Arial"/>
              </a:rPr>
              <a:t>námořníc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Arial"/>
                <a:ea typeface="Arial"/>
              </a:rPr>
              <a:t>ztroskot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ostro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Arial"/>
                <a:ea typeface="Arial"/>
              </a:rPr>
              <a:t>Robinson Crusoe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dobrodružné </a:t>
            </a:r>
            <a:r>
              <a:rPr b="1" lang="cs-CZ" sz="2000" spc="-1" strike="noStrike" u="sng">
                <a:solidFill>
                  <a:srgbClr val="40458c"/>
                </a:solidFill>
                <a:uFillTx/>
                <a:latin typeface="Arial"/>
              </a:rPr>
              <a:t>román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12952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Příklad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00600" y="1905120"/>
            <a:ext cx="38098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dexátor 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Arial"/>
              </a:rPr>
              <a:t>trosečníc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ostrov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dobrodružné </a:t>
            </a:r>
            <a:r>
              <a:rPr b="1" lang="cs-CZ" sz="2000" spc="-1" strike="noStrike" u="sng">
                <a:solidFill>
                  <a:srgbClr val="40458c"/>
                </a:solidFill>
                <a:uFillTx/>
                <a:latin typeface="Arial"/>
              </a:rPr>
              <a:t>román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Arial"/>
              </a:rPr>
              <a:t>anglická literatur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Arial"/>
              </a:rPr>
              <a:t>18. století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4267080"/>
            <a:ext cx="58672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a = 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b = 8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C = a / b = 2 / 8 = 0,25 = 25 %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10F9-A970-4D0D-9FFE-0CEFE3CED779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Konzistence indexace (pokr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ýpočet II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íce než dva indexátoř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C = průměr konzistenčních pár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4B0B-F210-49FD-9621-CA43F21AEBA6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Konzistence indexace (pokr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2210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dexátor 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  <a:ea typeface="Arial"/>
              </a:rPr>
              <a:t>námořníc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  <a:ea typeface="Arial"/>
              </a:rPr>
              <a:t>ztroskotán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  <a:ea typeface="Arial"/>
              </a:rPr>
              <a:t>ostrov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  <a:ea typeface="Arial"/>
              </a:rPr>
              <a:t>Robinson Crusoe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  <a:ea typeface="Arial"/>
              </a:rPr>
              <a:t>dobrodružné </a:t>
            </a:r>
            <a:r>
              <a:rPr b="0" lang="cs-CZ" sz="1800" spc="-1" strike="noStrike">
                <a:solidFill>
                  <a:srgbClr val="40458c"/>
                </a:solidFill>
                <a:latin typeface="Arial"/>
              </a:rPr>
              <a:t>román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12952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Příklad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8120" y="1905120"/>
            <a:ext cx="26668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dexátor 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</a:rPr>
              <a:t>trosečníc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  <a:ea typeface="Arial"/>
              </a:rPr>
              <a:t>ostrov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  <a:ea typeface="Arial"/>
              </a:rPr>
              <a:t>dobrodružné </a:t>
            </a:r>
            <a:r>
              <a:rPr b="0" lang="cs-CZ" sz="1800" spc="-1" strike="noStrike">
                <a:solidFill>
                  <a:srgbClr val="40458c"/>
                </a:solidFill>
                <a:latin typeface="Arial"/>
              </a:rPr>
              <a:t>román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</a:rPr>
              <a:t>anglická literatur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</a:rPr>
              <a:t>18. století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4724280"/>
            <a:ext cx="7696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C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Tahoma"/>
              </a:rPr>
              <a:t>1,2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 = 2 / 8 = 0,25 = 25 %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C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Tahoma"/>
              </a:rPr>
              <a:t>1,3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 = 5 / 7 = 0,71 = 71 %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C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Tahoma"/>
              </a:rPr>
              <a:t>2,3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 = 3 / 9 = 0,33 = 33 %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C = (0,25+0,71+0,33)/3 = 0,43 = 43 %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91320" y="1981080"/>
            <a:ext cx="2971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dexátor 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  <a:ea typeface="Arial"/>
              </a:rPr>
              <a:t>námořníc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  <a:ea typeface="Arial"/>
              </a:rPr>
              <a:t>ztroskotání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  <a:ea typeface="Arial"/>
              </a:rPr>
              <a:t>ostrov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  <a:ea typeface="Arial"/>
              </a:rPr>
              <a:t>Robinson Crusoe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  <a:ea typeface="Arial"/>
              </a:rPr>
              <a:t>dobrodružné </a:t>
            </a:r>
            <a:r>
              <a:rPr b="0" lang="cs-CZ" sz="1800" spc="-1" strike="noStrike">
                <a:solidFill>
                  <a:srgbClr val="40458c"/>
                </a:solidFill>
                <a:latin typeface="Arial"/>
              </a:rPr>
              <a:t>román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</a:rPr>
              <a:t>Páte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Arial"/>
              </a:rPr>
              <a:t>anglická literatur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7FA0-E1CE-4168-A840-B24AB0D0F6EA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07-05-15T00:37:30Z</dcterms:modified>
  <cp:revision>122</cp:revision>
  <dc:subject/>
  <dc:title>Selekční jazyky</dc:title>
</cp:coreProperties>
</file>