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120-8DFD-44FD-816B-ACE7C131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103-EAEC-45D1-B399-7F22B1EF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903-3111-45BD-B352-615CF1C7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1EC-C7B4-4C97-A5AF-7CFBEF86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47C6-62A2-4B2D-94C2-4C4AFAA5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09A9-A4C5-4848-A07A-C05D9B89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741A-B5F6-4AE8-B369-B4163836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D9E5-336A-4BBA-8927-A20000B1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9625-F71C-4794-B84F-40CB5D34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E031-563A-496E-8287-4FFA2FA8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8779-D49B-4560-AA1D-670EEEE4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F21-8E5F-4CBD-8285-680C7D0C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E74C-974D-4E5E-AE7A-06CA7DD7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6B96-FE86-400C-8D46-1EBBC016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0212-3626-4A2A-9E62-410A670C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E9A9-9F4A-48D5-831B-B760DCCD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8F59-12DE-4079-A853-70F12CDD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D56-7668-4027-8A57-0F8CBE12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003-5804-43EA-971F-5BB31BB1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DCA-A8A7-4A35-BF55-A0ABC8A0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980-AABF-4258-9A80-AB63F601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3A2-EAE7-40E2-8C56-2D982FDA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6417-6F88-46D1-9E8B-BB6816B9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E0B-C413-4314-A486-1F5AA729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669C-19CD-4DAE-82A9-4CA0054271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3B81-0E50-439C-8B5A-97C998B1230F}" type="slidenum">
              <a:rPr b="0" lang="cs-CZ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ev/evquery.sqw?snt=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www4.infotrieve.com/newmedline/adv_search.asp" TargetMode="External"/><Relationship Id="rId4" Type="http://schemas.openxmlformats.org/officeDocument/2006/relationships/hyperlink" Target="http://library.dialog.com/bluesheets/html/bl0002.html#BI" TargetMode="External"/><Relationship Id="rId5" Type="http://schemas.openxmlformats.org/officeDocument/2006/relationships/hyperlink" Target="http://www.eric.ed.gov/" TargetMode="External"/><Relationship Id="rId6" Type="http://schemas.openxmlformats.org/officeDocument/2006/relationships/hyperlink" Target="http://library.dialog.com/bluesheets/html/bl0439.html#BI" TargetMode="External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aleph.lib.cas.cz/" TargetMode="External"/><Relationship Id="rId3" Type="http://schemas.openxmlformats.org/officeDocument/2006/relationships/hyperlink" Target="http://www4.infotrieve.com/newmedline/search.asp" TargetMode="External"/><Relationship Id="rId4" Type="http://schemas.openxmlformats.org/officeDocument/2006/relationships/hyperlink" Target="http://www.google.com/" TargetMode="External"/><Relationship Id="rId5" Type="http://schemas.openxmlformats.org/officeDocument/2006/relationships/hyperlink" Target="http://www.scirus.com/" TargetMode="External"/><Relationship Id="rId6" Type="http://schemas.openxmlformats.org/officeDocument/2006/relationships/hyperlink" Target="http://aleph.lib.cas.cz/" TargetMode="External"/><Relationship Id="rId7" Type="http://schemas.openxmlformats.org/officeDocument/2006/relationships/hyperlink" Target="http://www4.infotrieve.com/newmedline/adv_search.asp" TargetMode="External"/><Relationship Id="rId8" Type="http://schemas.openxmlformats.org/officeDocument/2006/relationships/hyperlink" Target="http://www.google.cz/advanced_search?hl=cs" TargetMode="External"/><Relationship Id="rId9" Type="http://schemas.openxmlformats.org/officeDocument/2006/relationships/hyperlink" Target="http://www.scirus.com/srsapp/advanced/index.jsp" TargetMode="External"/><Relationship Id="rId10" Type="http://schemas.openxmlformats.org/officeDocument/2006/relationships/hyperlink" Target="http://aleph.lib.cas.cz/" TargetMode="External"/><Relationship Id="rId11" Type="http://schemas.openxmlformats.org/officeDocument/2006/relationships/hyperlink" Target="http://www4.infotrieve.com/newmedline/search.asp" TargetMode="External"/><Relationship Id="rId12" Type="http://schemas.openxmlformats.org/officeDocument/2006/relationships/hyperlink" Target="http://www.psp.cz/rapid/aRL/main.php?language=czech&amp;ictx=par" TargetMode="External"/><Relationship Id="rId13" Type="http://schemas.openxmlformats.org/officeDocument/2006/relationships/hyperlink" Target="http://df.stk.cz/cgi-bin/dflex/CZE/STK/FIND2" TargetMode="External"/><Relationship Id="rId14" Type="http://schemas.openxmlformats.org/officeDocument/2006/relationships/hyperlink" Target="http://tinweb.upm.cz/" TargetMode="External"/><Relationship Id="rId15" Type="http://schemas.openxmlformats.org/officeDocument/2006/relationships/hyperlink" Target="http://www.psp.cz/eknih/" TargetMode="Externa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86&amp;do=1992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jyxo.cz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3 – 11.4.2008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D9D9-2323-4E4B-AF9B-4382EA026E4F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i v ŘS problémy s vyjádřením pojmů (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F91C-FA1E-4AE7-B2F9-03D5F29FC8BC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3299-3EE3-4AB7-B92D-2A2F69552065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5837-4D07-4AA5-9BFC-43427FF5654D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984A-011A-4F3B-94D2-0F4F603DE3F2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8933-C43D-4913-A252-612B9735AE11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C83D-B166-44FD-ACB5-4D30549FB30A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7CF3-3B4B-4C3B-8400-82AA764CF203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B5FD-EA5B-4B1B-8597-090BBB9E3A6F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5EF4-6D8F-4504-95B4-1A05AFDFB677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rogr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ěcné vyhledávání – řízený slovník vs plný te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ecné aspekty věcnéh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2B97-19B5-45FE-80D4-BE7B63465931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5527-C5EC-4982-B144-2FE41290F86B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04C7-2E2B-4513-99A8-728ACE29A07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 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5832-BF46-4911-8432-B9837822164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JIB, Sciru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Metacrawle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Obchodní rejstřík vs Metacrawle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81DF-FD37-4E4A-B607-36C1FA2E0E3D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TIS, e-Print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atentové třídění; db: Canadian Patent Database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igitale Dissertationen der FU Berlin, ProQuest Digital 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D75D-AB76-4470-951C-853C8F5BCF5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02F3-716D-492C-86C3-65DDB3269F68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1CAD-6E79-4AE0-855A-F948737115F0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A1DD-E2B0-4390-8277-0243E93B2BA4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712D-2AB8-499E-9624-7D9D00A7E4F6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cs-CZ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8BE7-3DC9-424D-BEAA-96B84EF446A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cs-CZ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3F12-7DC5-4BF0-8095-3A9D5687F95C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yp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dle způsobu vyhledávání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reetextov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, jednoduch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é, podrobn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ení dostupný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Medli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samostatně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P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ST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při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UP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plně integrovaný do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PS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é (fulltextové)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vertovaný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kvenční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D86C-B247-4276-BE90-F8EE88181DB4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cs-CZ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4898-A06B-47CD-B8E1-F4FD0DB9D1B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62D8-399E-4B57-9B15-81D154E893E3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ov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ání latentní sémantik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B3DF-47ED-4B8E-AFA2-02C197161B0D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rivátor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1A07-7E10-4C19-974F-5BAEA6A672CB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USER</cp:lastModifiedBy>
  <dcterms:modified xsi:type="dcterms:W3CDTF">2009-03-18T08:58:31Z</dcterms:modified>
  <cp:revision>222</cp:revision>
  <dc:subject/>
  <dc:title>Selekční jazyky</dc:title>
</cp:coreProperties>
</file>