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3E5-0FE0-496A-A29F-CA770FB1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F89-B9FF-459D-AAF8-FDF4DFB3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90C-5FCC-4296-AE32-92034283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632-2207-435D-9F3C-E1E6A1C9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A208-9871-4723-9123-B9381210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B2FE-161B-4C9E-9D15-F16B9EA5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E027-F8D6-4EB4-B1B1-F0744D96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B0AF-A609-48FB-B7D1-A742F97A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E61A-ACEA-4E5F-B8A6-88C459F8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A159-079D-48FB-957D-8C5BE3DB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EF8B-0114-4F9C-9CD4-E8755E29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E2D-352A-4566-9207-31CA5D35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E43D-E1B8-41BC-8AB0-B06EB084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0093-8479-455F-905F-8B8EF525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D685-EC86-40BF-8BF2-B3CF29F1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9CC7-1FE1-43DF-BD8D-4280F3DC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6BD8-E939-4641-A02D-82531031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B6C-BF64-4859-9474-AC7D9975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6B6-A7B3-42E2-907E-49009CE3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2A4-DC5C-43DC-9581-398577A6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2AA-82BA-478F-A6BA-E3A27B6F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D58-01AF-43A4-863C-FC7ABE79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D8C-8A5D-41A2-83C5-15174B09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21A-B74D-4220-821C-48E0CF6F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632C-D5DE-45C2-9C49-98BA9B05815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7B17-86A8-4AB5-8C3A-601E59D37F2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lsi.research.telcordia.com/lsi-bin/lsiQuery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igma.nkp.cz/F/?func=file&amp;file_name=find-b&amp;local_base=nkc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OJIST.doc" TargetMode="External"/><Relationship Id="rId2" Type="http://schemas.openxmlformats.org/officeDocument/2006/relationships/hyperlink" Target="http://full.nkp.cz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KMA06</a:t>
            </a:r>
            <a:br>
              <a:rPr sz="14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šeršní a studijně rozborová činnos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. 3. 2010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řednáška D2: Modely a nástroje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 MU, jar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oleovský model - rozšíře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ometrické rozšíř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ument jako bod v pros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čet rozměrů prostoru = počet klíčových slov v doku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žení výrazů v doku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eometrické rozšíře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Baeza-Yates, Ribeiro-Neto. Modern information retrieval, s. 3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629400" cy="323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rovnání booleovského modelu a jeho rozšíře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Rauch. Metody zpracování informací II. Ukládání a vyhledávání, s. 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2652840"/>
            <a:ext cx="8839080" cy="328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ektorový mod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kument i dotaz se chápou jako vektory v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ozměrném prostor (n je počet jedinečných výrazů ve všech dokumentec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žky vektoru: směr, orientace, velik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ložky vektorů jsou určovány výrazy a jejich vaha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mocí vektorového počtu se měří stupeň podobnosti mezi dotazem a dokumen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sinová míra, Diceova míra podobnosti 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ektorový mod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korný, Snášel, Húsek. Dokumentografické informační systémy, s. 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324480" cy="425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ektorový mod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h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hledává i částečně relevantní dokume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řazení dokumentů podle relevance (stupně podob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kace dotazu na základě vyhledaných relevantních dokumen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ektorový mod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výh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í jasná interpretace vah výrazů v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zorce pro měření podobnosti nejsou teoreticky zdůvodně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eficient podobnosti nemá jasný výz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lze užít logické operátory (AND, OR, N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dexování latentní sémantik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hlavní charakteris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o-matematické met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ý objem data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ladem matice dokument-výraz (klíčové slovo) </a:t>
            </a: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ingulární dekompozice matice (redukce původní matice) </a:t>
            </a: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atice pojem-pseudodokument (odhalení vztahu mezi souvisejícími výrazy a zjištění podobných dokument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ýhod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jmové vyhledávání (vyhledají se i dokument obsahující výrazy, která nebyly zadány do dotazu, ale přitom jsou sémanticky blízk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í dle rele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nezávislá na jazy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výhod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početní náro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ástroje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yhledávac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ce (C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es: grafické uživatelské rozhra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klad: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NK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ence ke (kvazi)přirozenému jazy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ěc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kační (auto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émantické sí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apitoly ze základní a doplňkové literatu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07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ap. 4 až 6 (s. 47-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U96, kap. 6 až 10 (s. 33-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9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ap. 4 (s. 61-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E99, kap. 2 (s. 19-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alší doplňková literatura k téma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orný, J., Snášel. V., Húsek, D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okumentografické informační systém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 : Karolinum, 1998, kap. 5 (s. 83-1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nešní té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y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ástroje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dely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ooleovský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ozšířený booleovský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ktorový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dexování latentní sémantiky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latent semantic indexing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oleovský mod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eoretické základy (booleovská logika/algebra): 50. léta 20. stolet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logické operá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D, OR, NOT, 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borný katalog AND CAS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borný katalog OR CAS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borný katalog NOT CAS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borný katalog XOR CAS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zšiřování (zkracování) výraz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ostranné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katalog*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levostranné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*komunistický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vnitřní rozšíření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filo?of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šíření o více znaků (*), jeden znak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ximitní operá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ta, odstavec, určitý počet slov (zaleží/nezáleží na pořad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oleovský mod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ýho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sná formal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noduc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chlost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ující fak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plnost, přes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žití klíčových s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iální možnosti logických spoj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rost“ – relevantní n. nerelevantní (nikoliv částečně relevant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átor ACCRUE – systém TOPIC (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+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říklad aplika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 STAIRS (19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ávní texty, 40 000 dokumen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 požadavků, požadovaná úplnost: 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ažená úplnost: 20% (přesnost 8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oleovský model - rozšíře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ážení výraz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doku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ozšíření pomocí fuzzy log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ce principu vágnosti (schopnost přirozeného jazyka funkčně použí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ágní pojm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uzzy logik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ooleovská logika: 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(nepravd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avd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uzzy logika: pravdivost dána množinou hodno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 intervalu &lt;0,1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peň příslušnosti prvku do množ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uzzy množin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okorný, Snášel, Húsek. Dokumentografické informační systémy, s. 95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444680"/>
            <a:ext cx="6934320" cy="50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uzzy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vky fuzzy množiny jsou výrazy použité pro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upeň příslušnosti se určuje jako váha výrazu v doku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ůzné modely pro výpočet podobnosti dokumentu a dotaz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0-03-29T12:18:17Z</dcterms:modified>
  <cp:revision>107</cp:revision>
  <dc:subject/>
  <dc:title>Selekční jazyky</dc:title>
</cp:coreProperties>
</file>