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E177-F5D1-43A7-ACF4-72E37086B31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5AFE-36E9-4AF8-8AE3-397A97BA2F08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B28B-EBCA-4B4D-9268-E797D9453AE5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13D3-542A-4F5C-8238-76AA1E95E396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0035-D2DA-4D4E-A015-4B91D709CABE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1223-4D70-4064-95E6-02833B84FBE1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9BC2-555F-4607-A824-1666501654CD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351E-BA2A-4BEA-B93C-682CF74B42ED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9184-0379-44A3-9FFC-4363135476C5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2AFF-D1CD-4BA9-857F-62B77E7E4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C2C6-A9C0-467F-8BE6-0F307944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ECD6-A338-4FE1-A656-C385BF33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0EBB-BD6F-4110-B930-5AE29CFA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5B71-144B-4058-AE7C-4DF56FAB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43D9-B3DC-4300-8EE3-8337D4FD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2C71-CF3B-4DC4-9A55-C5B4C9EB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1E26-D765-4C79-827F-9AA3FB2C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434B-C752-494A-A018-766AB098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69B7-F0E8-4A5E-B4D9-93BC8506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E91B-3DDC-4F05-9D7E-6B7904F0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6E06-9A5D-4AF3-88CB-ED342A3A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75F1-0F8F-4BAA-B57B-55E5A135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9208-BA0B-41B7-94D1-325E72EB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9FDE-FC50-4147-8392-4C0C0F3B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2E14-1C6D-4BFC-A9DB-4E4AE7932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D172-495C-4F49-9180-1012DA2D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B69C-8044-49A0-994F-904D5AA5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9B43-09A8-45B1-9669-67AA32B4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2AEC-4B34-43F8-A713-F1FEC890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C000-A7E2-4DE0-B398-853C3A9D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035F-974A-425F-8F68-B4004A8E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5818-6F79-4D1E-93C1-774A0F1C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2F39-0866-45DE-B932-A387CFDC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413A-6A4E-4D89-B968-0C7080CCC8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1606-85D3-4838-8C43-D7EE8300BDAA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KMA05</a:t>
            </a:r>
            <a:br>
              <a:rPr sz="16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rganizace znalost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2. 4. 2016: Procesy organizace znalostí – obsahová analýza, indexace, klasifikace, automatizované procedury (P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F MU, jaro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26172@mail.muni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640" y="190440"/>
            <a:ext cx="6554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050560" y="1628640"/>
            <a:ext cx="6705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ostupnost plného textu, popř. abstrak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utomatické/intelektuální proces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hod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stranění subjek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lký objem dokumen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výhod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roj nerozumí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rfologie, synta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émant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tratextová (slova/výrazy, věty, odstavce, te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tertextová (různé tex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xtratextová (reali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79640" y="190440"/>
            <a:ext cx="6554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 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50560" y="1773000"/>
            <a:ext cx="67770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avní problém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jmy nejsou vyjádřeny explicit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přímé odkazy na jiné části textu nebo tex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xt obsahuje nevýznamová sl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zykové problémy: synonymie, homony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znam slov se mění v čase nebo mezi jednotlivými dokume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ůzné tvary slov (míra závisí na jazy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0560" y="190440"/>
            <a:ext cx="69850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  </a:t>
            </a:r>
            <a:br>
              <a:rPr sz="42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Typy automatické index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50920" y="2133360"/>
            <a:ext cx="678528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trakce (extraction indexing) – slovní indexace (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6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líčová slova z textu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xikální analýza (identifikace slov a souslov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stranění nevýznamových sl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emat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váže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komparace s řízeným slovníke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řazování (assignment indexing) – pojmová indexace (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6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áce s plným tex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kročilé statistické a matematickolingvistické metody (pravděpodobnostní mode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ízený slovník – simulace intelektuálního proce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23640" y="190440"/>
            <a:ext cx="6410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xikální analýz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95640" y="1844640"/>
            <a:ext cx="664056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Čísl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borné text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„§ 12“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odborné termín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„MARC21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rčení hranice slo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z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čka (zkratky), spojovník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knihovnicko-informační systé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lší interpunkční znamén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elká/malá písme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95640" y="190440"/>
            <a:ext cx="6338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xikální analýz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66920" y="2923920"/>
            <a:ext cx="656928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Souslov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émanticky nosnější než jednotlivá sl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vě základní met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tistická identifikace souslo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ntaktická identifikace souslo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rmalizace souslo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ov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puštění pomocných slovních druhů a zanedbání pořadí slož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ntaktická analýza s použitím kmene (koře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50920" y="190440"/>
            <a:ext cx="648360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nevýznamová slov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123640" y="1915920"/>
            <a:ext cx="671220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Odstranění nevýznamových slov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0-30 % běžného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jky, předložky a další pomocné slož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7520" indent="-35784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sloví s předložkovou vazbou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(knihovny pro nevidomé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va bez rozlišovací fun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Řešen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gativní slovník (slovník nevýznamových slov, slovník stop-slov, stop-slovní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stranění lexikální analýzou a váže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95280" y="30456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nevýznamová slova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626920" y="2060640"/>
            <a:ext cx="620892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vorba stop-slovní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ruhy slov (spojky, předložky, částice apo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le frekvence slova v tex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átká sl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ti-negativní slovn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mmatiz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123640" y="1773000"/>
            <a:ext cx="67122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t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lgoritmické (gramatická pravid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enerování afix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ovníkově orientova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lovník kmenů nebo kořenů a dalších morfologických informac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lovník afixů (sufixů a prefixů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tist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Letter successor variety stemmer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varieta po sobě následujících písm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ové dokumenty v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rozliší inflexní a derivační afix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gram: lemmatizátor 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stemme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mmatiz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050920" y="1483920"/>
            <a:ext cx="6948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íklady převodů slovních druh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užský životný/ženský tvar substantiv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autor, autorka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přivlastňovací přídavné jméno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autorčin, autorův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užský tvar subst., 1. pád, singulár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autor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j.: stupňované tvary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nejkonkrétnější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odvozená substantiva s konc. –ost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konkrétnost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negace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nekonkrétní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příslovce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konkrétně)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ákl. tvar. adj.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konkrétní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ovesa: časování, příč. č. a trp., slovesné jméno podstatné, opakované sloveso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infinitiv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dělat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68360" y="190440"/>
            <a:ext cx="62661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mmatiz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050920" y="1844640"/>
            <a:ext cx="6785280" cy="32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Lemmatizace se provádí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indexa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lý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tnost ručních zásah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zpracování dota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verzní lemmatizace (deriv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výšení relev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Osnov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oretická 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cesy věcného zpracování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sahová analý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dexace a klas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utomatizované proced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adání 8. dílčího kroku 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0920" y="190440"/>
            <a:ext cx="648360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- váže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123640" y="1700280"/>
            <a:ext cx="647532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Různá důležitost slov pro obsah dok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Selektivní síla indexačního termínu (výrazu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Kritéria vážení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az (slovní dru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xt (délka, počet různých termín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tah výrazu a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ekvence výrazu v tex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ístění výrazu ve specifické části textu (název, abstrakt, první a poslední pasáže apod.) – zohlednění koeficientem při váž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tah termínu a celé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ekvence výrazu v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brané váhové fun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95640" y="190440"/>
            <a:ext cx="6338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I - vstu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123640" y="2997360"/>
            <a:ext cx="6712200" cy="31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imulace intelektuálního proces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ákla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sledky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edpokla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ukturovaný řízený slovní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zarus, sémantická síť, znalostní bá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68360" y="190440"/>
            <a:ext cx="62661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I - postu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123640" y="2923920"/>
            <a:ext cx="671220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ostup PI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dentifikace výr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rovnání výrazu s relevantními profily pojmů z řízeného slovní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rčení indexačních termí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roblémy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hoda dokument/ŘS nemusí být určující pro obs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triviální vyjádření pojmu v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mplicitní reprezentace pojmu v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Hodnoc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340000" y="1916280"/>
            <a:ext cx="627048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raktické aspek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né tex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šší účinnost ve srovnání s intelektuální indexa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šší náklady – vyšší kval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orový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systém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niverzální systém ne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kční systé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fická ob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asto pracují pouze s abstrak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mbinace automatické a intelektuální index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95280" y="190440"/>
            <a:ext cx="68403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 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í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79280" y="2781360"/>
            <a:ext cx="663084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říklady systémů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R: (MOZAIKA), (SEMAN), LEGS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SA MAI Tool (text1, text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 automatické indexa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warz, Josef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oučasný stav a trendy automatické indexace dokument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raha, 2002-2003. Dostupné na: &lt;http://full.nkp.cz/nkdb/docs/studie/MAIobsah.html&gt;. Zde i další litera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Teoretická čá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476000" y="1773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becně tři typy procesů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sahová analýza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základní krok, který předurčuje výsledek celého proces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dentifikace pojmů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výrazně ovlivňuje úplnost a přesnost vyhledává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ecifičnost (hloub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běr selekčních znaků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ředpoklad: znalost daného selekčního jazyka, znalost obor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76000" y="162864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elekční obraz dokumen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valita (správ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zistence (shod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-indexer consistency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závislá na počtu přidělovaných selekčních znaků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ra-indexer consis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stroje na dosažení kvality a konz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Indexační) pravid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parace zázna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uperv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476000" y="1773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(Indexační) pravid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jí zajistit správnost popis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jak provést obsahovou analýzu, jak postupovat při výběru relevantních témat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jí zajistit konzistenci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pokyny k výběru selekčních znaků, jejich kombinaci, rozkladu složených pojmů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03280" y="170028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(Indexační) pravid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věcném zpracování dokumentu je třeba se ptá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ude uživatel tuto informaci vyžadova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lezne uživatel indexovaný/klasifikovaný dokument v případě, že hledá tém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xy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ude pro uživatele indexovaná informace příliš obecná, a není tudíž potřeba použít specifičtějších selekčních znaků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ní použito příliš mnoho specifických selekčních znaků, které popisují nepodstatná témata a které uživateli znesnadní vyhledat požadovaný dokumen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ná uživatel z popisu dokumentu, jaký je jeho obsa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403280" y="170028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indexace/reklasifik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ův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vedení nového selekčního jazy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ktualizace užívaného selekčního jazy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ité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měny mají velký roz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et záznamů je omeze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znamy reprezentují „živé“ dokume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up reindexace/reklasif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Polo)automatické proced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4000" y="190440"/>
            <a:ext cx="68407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</a:t>
            </a:r>
            <a:br>
              <a:rPr sz="42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Kontex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195640" y="2349360"/>
            <a:ext cx="664056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pracování přirozeného jazy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ojové zpracování tex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utomatizované procedury a vyhledávání informac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yp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vybran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tomatická index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tomatická klas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hlukování (klastro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trah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tomatická tvorba řízeného slovní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16-04-22T16:33:29Z</dcterms:modified>
  <cp:revision>261</cp:revision>
  <dc:subject/>
  <dc:title>Selekční jazyky</dc:title>
</cp:coreProperties>
</file>