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BFB8-F818-490F-BB0B-D0BD2325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B4A3-5CE0-4CDC-B238-43414EA2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6601-EBBC-407D-9A62-F86AB5C0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BB7A-FC43-4274-98C6-869FD0EF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E774-6AAF-4361-9B03-E96693EB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CAD2-5756-4673-9FD1-0C5C8790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2552-E77D-4FF5-A8ED-99D02715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1307-C78C-4E94-A8D1-3475E914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EAE0-4662-4CD1-BAE5-F306FFB3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223D-84B5-4C97-82A2-B265F2B7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1F96-CE3B-4CCE-87EB-E684289B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4826-BF79-41DD-B252-1A6FA74A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C008-D5E9-484E-9B65-4D84E4841ED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virtualart.at/database/general/work/archeology-of-a-mother-tongue.html" TargetMode="External"/><Relationship Id="rId2" Type="http://schemas.openxmlformats.org/officeDocument/2006/relationships/hyperlink" Target="http://www.fondation-langlois.org/html/e/page.php?NumPage=226" TargetMode="External"/><Relationship Id="rId3" Type="http://schemas.openxmlformats.org/officeDocument/2006/relationships/hyperlink" Target="http://www.tonidove.com/" TargetMode="External"/><Relationship Id="rId4" Type="http://schemas.openxmlformats.org/officeDocument/2006/relationships/hyperlink" Target="http://www.placelessness.com/project/1159/random-acts-of-memory/" TargetMode="External"/><Relationship Id="rId5" Type="http://schemas.openxmlformats.org/officeDocument/2006/relationships/hyperlink" Target="http://www.virtualart.at/database/general/work/archeology-of-a-mother-tongue.html" TargetMode="External"/><Relationship Id="rId6" Type="http://schemas.openxmlformats.org/officeDocument/2006/relationships/hyperlink" Target="http://www.fondation-langlois.org/html/e/page.php?NumPage=226" TargetMode="External"/><Relationship Id="rId7" Type="http://schemas.openxmlformats.org/officeDocument/2006/relationships/hyperlink" Target="http://www.tonidove.com/" TargetMode="External"/><Relationship Id="rId8" Type="http://schemas.openxmlformats.org/officeDocument/2006/relationships/hyperlink" Target="http://www.placelessness.com/project/1159/random-acts-of-memory/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heatreofmemory.blogspot.com/2009/08/giulio-camillo-1480-1544.html" TargetMode="External"/><Relationship Id="rId2" Type="http://schemas.openxmlformats.org/officeDocument/2006/relationships/hyperlink" Target="http://www.amazon.com/Memory-Selected-Works-Frances-Yates/dp/0415606055/ref=sr_1_1?s=books&amp;ie=UTF8&amp;qid=1323168733&amp;sr=1-1#reader_0415606055" TargetMode="External"/><Relationship Id="rId3" Type="http://schemas.openxmlformats.org/officeDocument/2006/relationships/hyperlink" Target="http://books.google.com/books?id=Rs0m6NRwU8IC&amp;printsec=frontcover&amp;hl=cs&amp;source=gbs_ge_summary_r&amp;cad=0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llmusic.com/album/john-buller-proena-the-theatre-of-memory-w110184" TargetMode="External"/><Relationship Id="rId2" Type="http://schemas.openxmlformats.org/officeDocument/2006/relationships/hyperlink" Target="http://www.youtube.com/watch?v=b4a9i58IdIY" TargetMode="External"/><Relationship Id="rId3" Type="http://schemas.openxmlformats.org/officeDocument/2006/relationships/hyperlink" Target="http://www.vasulka.org/Videomasters/pages_stills/index_6.html" TargetMode="External"/><Relationship Id="rId4" Type="http://schemas.openxmlformats.org/officeDocument/2006/relationships/hyperlink" Target="https://www.youtube.com/watch?v=lGOiTd83tD4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orldmemorytheatre.org/index.htm" TargetMode="External"/><Relationship Id="rId2" Type="http://schemas.openxmlformats.org/officeDocument/2006/relationships/hyperlink" Target="http://www.robertedgar.com/" TargetMode="External"/><Relationship Id="rId3" Type="http://schemas.openxmlformats.org/officeDocument/2006/relationships/hyperlink" Target="http://www.robertedgar.com/memory-theatres/" TargetMode="External"/><Relationship Id="rId4" Type="http://schemas.openxmlformats.org/officeDocument/2006/relationships/hyperlink" Target="http://vimeo.com/1021130" TargetMode="External"/><Relationship Id="rId5" Type="http://schemas.openxmlformats.org/officeDocument/2006/relationships/hyperlink" Target="http://on1.zkm.de/zkm/werke/MemoryTheaterVR" TargetMode="External"/><Relationship Id="rId6" Type="http://schemas.openxmlformats.org/officeDocument/2006/relationships/hyperlink" Target="http://www.bewitched.com/apartment.html" TargetMode="External"/><Relationship Id="rId7" Type="http://schemas.openxmlformats.org/officeDocument/2006/relationships/hyperlink" Target="http://www.georgelegrady.com/" TargetMode="External"/><Relationship Id="rId8" Type="http://schemas.openxmlformats.org/officeDocument/2006/relationships/hyperlink" Target="http://www.georgelegrady.com/" TargetMode="External"/><Relationship Id="rId9" Type="http://schemas.openxmlformats.org/officeDocument/2006/relationships/hyperlink" Target="http://www.maska.si/en/?redirect=152" TargetMode="External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-ring.net/?page_id=550" TargetMode="External"/><Relationship Id="rId2" Type="http://schemas.openxmlformats.org/officeDocument/2006/relationships/hyperlink" Target="http://www.ffa.vutbr.cz/~qvklimovab/index.php" TargetMode="External"/><Relationship Id="rId3" Type="http://schemas.openxmlformats.org/officeDocument/2006/relationships/hyperlink" Target="http://magazin.aktualne.cz/kultura/umeni/chalupeckeho-cenu-ma-barbora-klimova/r~i:article:287941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90.146.8.18/en/archives/festival_archive/festival_overview.asp?iPresentationYearFrom=1996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90.146.8.18/festival1996/www-ars2/index.htm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kac.org/paper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rrNrfucoB0" TargetMode="External"/><Relationship Id="rId2" Type="http://schemas.openxmlformats.org/officeDocument/2006/relationships/hyperlink" Target="http://www.medienkunstnetz.de/works/rehearsal-of-memory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ovingimages.de/index.php?type=teaching&amp;txt_id=62&amp;lng=eng" TargetMode="External"/><Relationship Id="rId2" Type="http://schemas.openxmlformats.org/officeDocument/2006/relationships/hyperlink" Target="http://www.ppsdanse.com/" TargetMode="External"/><Relationship Id="rId3" Type="http://schemas.openxmlformats.org/officeDocument/2006/relationships/hyperlink" Target="http://www.ppsdanse.com/strat-en.html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edicinenet.com/script/main/art.asp?articlekey=53957&amp;page=2" TargetMode="External"/><Relationship Id="rId2" Type="http://schemas.openxmlformats.org/officeDocument/2006/relationships/hyperlink" Target="http://contactzones.cit.cornell.edu/artists/neumark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ndomdance.org/" TargetMode="External"/><Relationship Id="rId2" Type="http://schemas.openxmlformats.org/officeDocument/2006/relationships/hyperlink" Target="http://www.randomdance.org/r_research" TargetMode="External"/><Relationship Id="rId3" Type="http://schemas.openxmlformats.org/officeDocument/2006/relationships/hyperlink" Target="http://waynemcgregor.com/productions/undance/" TargetMode="External"/><Relationship Id="rId4" Type="http://schemas.openxmlformats.org/officeDocument/2006/relationships/hyperlink" Target="http://dumbtype.com/" TargetMode="External"/><Relationship Id="rId5" Type="http://schemas.openxmlformats.org/officeDocument/2006/relationships/hyperlink" Target="http://dumbtype.com/works/memorandum" TargetMode="External"/><Relationship Id="rId6" Type="http://schemas.openxmlformats.org/officeDocument/2006/relationships/hyperlink" Target="http://www.youtube.com/watch?v=HbSXbK-EpYY&amp;feature=related" TargetMode="External"/><Relationship Id="rId7" Type="http://schemas.openxmlformats.org/officeDocument/2006/relationships/hyperlink" Target="http://www.youtube.com/watch?v=kZ5uGjjAvNI&amp;feature=related" TargetMode="External"/><Relationship Id="rId8" Type="http://schemas.openxmlformats.org/officeDocument/2006/relationships/hyperlink" Target="http://www.youtube.com/watch?v=HbSXbK-EpYY&amp;feature=related" TargetMode="External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stroje interpretace novomediálního díla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čítačová paměť a lidská amnéz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ony Dov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 Michael MacKenzi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Archeology of Mother Tongu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3 (1.VR instalace zahrnující složitý příbě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rtualart.at/database/general/work/archeology-of-a-mother-tongu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ondation-langlois.org/html/e/page.php?NumPage=2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3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tonidove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urious.com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andom Acts of Mem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8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lacelessness.com/project/1159/random-acts-of-memor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ony Dov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 Michael MacKenzi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Archeology of Mother Tongu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3 (1.VR instalace zahrnující složitý příbě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virtualart.at/database/general/work/archeology-of-a-mother-tongu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fondation-langlois.org/html/e/page.php?NumPage=2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3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tonidove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urious.com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Random Acts of Memor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8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1: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placelessness.com/project/1159/random-acts-of-memor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Giulio Camillo (1480-1544) :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L´Idea del Theatr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heatreofmemory.blogspot.com/2009/08/giulio-camillo-1480-1544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ances A. Yates (1899-1981) :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The Art of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Ukázka: </a:t>
            </a:r>
            <a:r>
              <a:rPr b="0" lang="cs-CZ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mazon.com/Memory-Selected-Works-Frances-Yates/dp/0415606055/ref=sr_1_1?s=books&amp;ie=UTF8&amp;qid=1323168733&amp;sr=1-1#reader_04156060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řední strana obálk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0" y="3429000"/>
            <a:ext cx="162576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Přední strana obálky"/>
          <p:cNvPicPr/>
          <p:nvPr/>
        </p:nvPicPr>
        <p:blipFill>
          <a:blip r:embed="rId5"/>
          <a:stretch/>
        </p:blipFill>
        <p:spPr>
          <a:xfrm>
            <a:off x="4343400" y="3276720"/>
            <a:ext cx="17193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isovatelé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d Hughes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hakespeare and the Goddess of Complete Bein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 London : Faber &amp; Faber, 199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lota Caufield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 Book of Giulio Camill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InteliBooks Publishers, 20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ýtvarní umělci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an Dubuffet: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atre De Memoir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unlimited edition print, 1977.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l_fi" descr="dubuffet-jean-theatre-de-memoire-1977"/>
          <p:cNvPicPr/>
          <p:nvPr/>
        </p:nvPicPr>
        <p:blipFill>
          <a:blip r:embed="rId1"/>
          <a:stretch/>
        </p:blipFill>
        <p:spPr>
          <a:xfrm>
            <a:off x="2819520" y="4295880"/>
            <a:ext cx="31240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kladatel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ohn Buller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roenca/Theatre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200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arah Walker. BBC Symphony Orchestra. Cond. Mark Elder. 2003. B00009W8N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llmusic.com/album/john-buller-proena-the-theatre-of-memory-w1101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ideo 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ll Vio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atre of Memory,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198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b4a9i58IdI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Woody Vasulka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rt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198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vasulka.org/Videomasters/pages_stills/index_6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s://www.youtube.com/watch?v=lGOiTd83tD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The World Memory Theatr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Oslava kulturní diversity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orldmemorytheatre.org/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bert Edg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emory Theatre 0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dalš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1: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obertedgar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robertedgar.com/memory-theatre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2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vimeo.com/1021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gens Hegedü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Memory Theatre V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997): ZKM Karlsruhe: Odkaz1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on1.zkm.de/zkm/werke/MemoryTheaterV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rtin Wattenberg – Marek Walcz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partmen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001) net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bewitched.com/apartmen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orge Legrad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n Anecdoted Archive from the Cold Wa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994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georgelegrad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orge Legrady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ckets Full of Memori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2001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ckets Full of Memories II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003 – 200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georgelegrady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mil Hrvat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rive in Camill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maska.si/en/?redirect=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ísta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etsuro Naga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Art of Memo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: http://www.interactivearchitecture.org/computing-an-identity-tetsuro-nagat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aniel Libeskin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The Memory Ma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: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tp://greg.org/archive/2010/08/28/do_daniel_libeskinds_awesome_machines_mean_i_have_to_stop_hating_his_work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ánky věnované Poetice a politice paměti /obsahují odkazy na další díla/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ttp://politicsofmemory.blogspot.com/2010_10_01_archive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Paměť médií a cestování v č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last Theory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0 Backwards (199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1: http://www.blasttheory.co.uk/bt/work_10backward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kaz2: http://www.blasttheory.co.uk/bt/mov/mov_10_backward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Média/místa paměti: záv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se zdát, že umění paměti dnes již nepotřebujeme. S pomocí různých technických  aparátů neustále zdokonalujeme  techniky zapamatování, které nahrazují (vnitřní) mnemotechnické pomůck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e umění paměti je však pro nás velice důležitá, protože nám ukazuje, jakým způsobem se toto umění vyvíjelo až do současné podoby. Toto umění bychom dnes mohli přejmenovat – z umění paměti na umění myšlení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kontextu nových médií chápaných jako extenze lidské mysli je metafora „míst paměti“ jedním z klíčových způsobů, jak funkce nových médií pochopit a dát jim smysl.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erformance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xty a projek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37 Years too lat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ůzné ver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erformance by Andrea Salzmann and Julia Kläring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With: Julia Kläring, Birgit Michlmayr and Andrea Salzmann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usic: Stefan Geiss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alzmann.klingt.org/projects/37years-too-late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arbora Klímová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Replace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fa.vutbr.cz/~qvklimovab/index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magazin.aktualne.cz/kultura/umeni/chalupeckeho-cenu-ma-barbora-klimova/r~i:article:28794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aměť a me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s Electronic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996: Mem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90.146.8.18/en/archives/festival_archive/festival_overview.asp?iPresentationYearFrom=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m: replikující se jednotka kulturní informace (R. Dawkin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katalog_1996"/>
          <p:cNvPicPr/>
          <p:nvPr/>
        </p:nvPicPr>
        <p:blipFill>
          <a:blip r:embed="rId2"/>
          <a:stretch/>
        </p:blipFill>
        <p:spPr>
          <a:xfrm>
            <a:off x="990720" y="3429000"/>
            <a:ext cx="3047760" cy="2206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festival1996_pro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95680" y="3429000"/>
            <a:ext cx="29815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Digitální pamě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Musíme přiznat, že totiž musí jít jednoznačně o likvidaci minulé tradice. Je možné, že nová síťová kultura přistupuje k tradici úplně jinak – nelikviduje ji, ale rozkládá na jednotlivé elementy a ty potom rozpouští, recykluje a využívá ve své hypertextové struktuře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. Rankov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Informačná spoločnosť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2006, s. 27-2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„…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 možností měnit tělo a obraz je spojena také možnost vymazání jejich paměti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. Kac.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Art at the Biological Frontie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kac.org/pap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ostmoderní doba a nostal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učasná teorie paměti se pohybuje ve dvou extrémec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ědomí amnézie současné společnos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edlost pamětí a mnemonik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Inscenované vzpomín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isha Brown: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Homemad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19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OrrNrfucoB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lking Birds: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Undercurran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han Harwoo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hearsal of Memory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 (199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edienkunstnetz.de/works/rehearsal-of-memory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erformance digitální pamě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ematický kolaborativní projekt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Cellbyte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vingimages.de/index.php?type=teaching&amp;txt_id=62&amp;lng=e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PS Danse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psdanse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ata, Memoirs of Lover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psdanse.com/strat-en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Paměť a trau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arry Hodges: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Virtual Vietnam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edicinenet.com/script/main/art.asp?articlekey=53957&amp;page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orie Neumark: </a:t>
            </a: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Shock in the Ear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,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ntactzones.cit.cornell.edu/artists/neumark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ělesná pamě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ieNation.Co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Night Fall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Wayne McGregor: Random Dance Compa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randomdance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andomdance.org/r_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UNDANCE)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aynemcgregor.com/productions/undanc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ump Type: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Memorandu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1999-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umbtyp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dumbtype.com/works/memorand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youtube.com/watch?v=HbSXbK-EpYY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youtube.com/watch?v=kZ5uGjjAvNI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youtube.com/watch?v=HbSXbK-EpYY&amp;feature=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9"/>
          <a:stretch/>
        </p:blipFill>
        <p:spPr>
          <a:xfrm>
            <a:off x="6477120" y="1219320"/>
            <a:ext cx="23144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na Horáková</cp:lastModifiedBy>
  <dcterms:modified xsi:type="dcterms:W3CDTF">2016-02-23T16:14:3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