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1DA8-F770-4016-8988-9DEC6F868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03F6-F1B4-43DB-B4B4-D5F2DA09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796F-AF8A-4331-AD17-614CE19A9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90C1-64C1-42AB-83D1-BED7326F7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52C6-1BE8-4B5F-AA9E-74FEB960C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DF65-68B5-409B-B52C-3AA59D36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56E3-B8C1-4E9A-B9CF-C7976074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B8A4-0866-45D5-8D89-20D7A475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ABC0-E7AE-4434-837E-733003C2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1D8F-D408-4609-BB03-2C7995C9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2D58-75A6-40A5-BD65-CB2BF0E0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CC6B-45FF-42A9-BA35-7FB0F6D2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BEB1-E211-4459-9E5B-047A362C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1B1B2-BF74-43EE-9CEE-CB78D4E8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3702-0421-4B44-B248-C1E29EDB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38F6-EBA0-4A85-BC2B-742CFF740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AFC9-27B8-4DB6-88D9-AE45C1D6C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A424-BDB4-4253-87A5-FA4B803B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54F9-6A79-4686-9CCA-DD003894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8EC7-33CF-48EF-BF92-40A6D473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8AF5-4EAA-475A-AEB6-B5ACCD5A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B5C6-1F83-4C28-AB9C-8A36700A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642C-E452-4484-81D3-F42CA4BD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618C-4A40-45BA-BF4C-80D01625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9C3A-F693-4C41-80A1-944BABFCB7E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CD4C-8604-4CF2-91CC-4DD089BBA6C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Comic Sans MS"/>
              </a:rPr>
              <a:t>Selekční jazyky I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Comic Sans MS"/>
              </a:rPr>
              <a:t> cvičení 18. 11. 2005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32000" y="3789000"/>
            <a:ext cx="6400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Comic Sans MS"/>
              </a:rPr>
              <a:t>Sousloví v tezaure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5013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cc"/>
                </a:solidFill>
                <a:latin typeface="Verdana"/>
              </a:rPr>
              <a:t>Silvie Presov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cc"/>
                </a:solidFill>
                <a:latin typeface="Verdana"/>
              </a:rPr>
              <a:t>presova</a:t>
            </a: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@</a:t>
            </a:r>
            <a:r>
              <a:rPr b="0" lang="cs-CZ" sz="1800" spc="-1" strike="noStrike">
                <a:solidFill>
                  <a:srgbClr val="ffffcc"/>
                </a:solidFill>
                <a:latin typeface="Verdana"/>
              </a:rPr>
              <a:t>phil.muni.c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cc"/>
                </a:solidFill>
                <a:latin typeface="Verdana"/>
              </a:rPr>
              <a:t>Kabinet knihovnictví – Ústav české literatury a knihovnictví, FF M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ypy sousloví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60000"/>
              <a:buFont typeface="Comic Sans MS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ke každému typu sousloví vycházející z české normy se pokuste přiřadit sousloví zahrnutá do vašich úkol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ousloví ponechaná beze změny 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sousloví je natolik běžné, že jeho rozklad na oddělené prvky by vyvolával nedorozuměn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22720" indent="-52272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yntaktický rozklad by vedl ke ztrátě významu nebo k jeho nejednoznačnosti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Comic Sans MS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ibrary scie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Comic Sans MS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řádání informac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Comic Sans MS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perační systém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Comic Sans MS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výživa rostli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ousloví ponechaná beze změny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vlastní jména, názevy a lex. jednotky obsahující vlastní jm. nebo název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ex. jednotky, v nichž modifikátor ztratil svůj původní význam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Comic Sans MS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Jednotná informační brán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Comic Sans MS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rkovací světl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Comic Sans MS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rewster chai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ousloví ponechaná beze změny 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lex. jednotky, v nichž modifikátor indikuje vnější podobnost s jinou věcí nebo jevem, který nemá k pojmu přímý vzta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ex. jednotky, v nichž modifikátor nelze přeformulovat bez použití zvláštního  substantiva, které je ve slovním spojení implicitně přítomno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Comic Sans MS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patkové stroj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Comic Sans MS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ose window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Comic Sans MS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aftové moto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j. motory v nichž palivem je naft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Sousloví ponechaná beze změny 4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  <a:ea typeface="Times New Roman"/>
              </a:rPr>
              <a:t>lex. jednotky obsahující </a:t>
            </a:r>
            <a:r>
              <a:rPr b="0" i="1" lang="en-US" sz="3200" spc="-1" strike="noStrike">
                <a:solidFill>
                  <a:srgbClr val="ffcc00"/>
                </a:solidFill>
                <a:latin typeface="Comic Sans MS"/>
                <a:ea typeface="Times New Roman"/>
              </a:rPr>
              <a:t>synkategorematická substantiva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  <a:ea typeface="Times New Roman"/>
              </a:rPr>
              <a:t> (podstatná jména, která sama o sobě nevyjadřují třídu pojmů, k níž odkazují slovní spojení jako celek, ale spíše popírají členství v dané třídě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více viz. odstavec 7.1.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00"/>
              </a:buClr>
              <a:buSzPct val="60000"/>
              <a:buFont typeface="Comic Sans MS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00"/>
                </a:solidFill>
                <a:latin typeface="Comic Sans MS"/>
              </a:rPr>
              <a:t>který odstavec s tím souvisí v pravidlech A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Sousloví rozložená na syntaktické složky 1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základ sousloví poukazuje k vlastnosti nebo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části</a:t>
            </a:r>
            <a:r>
              <a:rPr b="0" lang="en-US" sz="32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 (včetně materiálů),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zatímco modifikátor vyjadřuj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elek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, popř. nositele dané vlastnosti nebo části</a:t>
            </a:r>
            <a:r>
              <a:rPr b="0" lang="en-US" sz="32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00"/>
              </a:buClr>
              <a:buSzPct val="60000"/>
              <a:buFont typeface="Comic Sans MS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který odstavec s tím souvisí v pravidlech A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E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Název celku může být modifikován názvem jeho části nebo vlastnosti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Comic Sans MS"/>
              </a:rPr>
              <a:t>např. počítačové sít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Comic Sans MS"/>
              </a:rPr>
              <a:t>kyselé půd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Sousloví rozložená na syntaktické složky 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označení určité tranzitivní činnosti nemá být modifikováno názvem objektu, k němuž se vztahuje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ŘÍKL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cc00"/>
                </a:solidFill>
                <a:latin typeface="Comic Sans MS"/>
              </a:rPr>
              <a:t>barvení textil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ubstantivum ve funkci základ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cc00"/>
                </a:solidFill>
                <a:latin typeface="Comic Sans MS"/>
              </a:rPr>
              <a:t>barven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vyjadřuje tranzitivní činnost (tj. činnosti vykonávané na věcech; sloveso se pojí s předmětem ve 4. pádě – </a:t>
            </a: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lít ocel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 modifikát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cc00"/>
                </a:solidFill>
                <a:latin typeface="Comic Sans MS"/>
              </a:rPr>
              <a:t>textil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jmenovává objekt, k němuž se činnost vztahuj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xikální jednotku lze tedy rozložit na samostatná substantiva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cc00"/>
                </a:solidFill>
                <a:latin typeface="Comic Sans MS"/>
              </a:rPr>
              <a:t>barvení + texti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název věci nebo materiálu může být modifikován názvem určité činnos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Comic Sans MS"/>
              </a:rPr>
              <a:t>např. lisovaný čaj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Comic Sans MS"/>
              </a:rPr>
              <a:t>??? a co pořádání informac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N a  r o z e h ř á t í..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Appendix A: AAT Compound Term: </a:t>
            </a:r>
            <a:br>
              <a:rPr sz="3200"/>
            </a:b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1. odstavec s. 18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ebol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pokuste se stručně a vlastními slovy vyjádřit hlavní myšlenku daného odstavc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Sousloví rozložená na syntaktické složky 3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označení určité netranzitivní činnosti nemá být modifikováno pojmenováním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vykonavatele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dané činnosti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ŘÍKL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 lexikální jednotce </a:t>
            </a:r>
            <a:r>
              <a:rPr b="0" i="1" lang="en-US" sz="2400" spc="-1" strike="noStrike">
                <a:solidFill>
                  <a:srgbClr val="00cc00"/>
                </a:solidFill>
                <a:latin typeface="Comic Sans MS"/>
              </a:rPr>
              <a:t>stěhování pták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bstantivum ve funkci základ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cc00"/>
                </a:solidFill>
                <a:latin typeface="Comic Sans MS"/>
              </a:rPr>
              <a:t>stěhová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yjadřuje netranzitivní činnost (tj. činnost vyvolaná nebo probíhající uvnitř věcí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modifikát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cc00"/>
                </a:solidFill>
                <a:latin typeface="Comic Sans MS"/>
              </a:rPr>
              <a:t>pták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ojmenovává objekt, k němuž se vztahuj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xikální jednotka se tedy rozloží na substantiva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cc00"/>
                </a:solidFill>
                <a:latin typeface="Comic Sans MS"/>
              </a:rPr>
              <a:t>stěhování + ptác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název určité věci může být modifikován názvem určité činnos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Comic Sans MS"/>
              </a:rPr>
              <a:t>např. stěhovaví ptác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ČESKY? A KD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V NORMĚ ČSN 01 0193 </a:t>
            </a:r>
            <a:br>
              <a:rPr sz="3200"/>
            </a:br>
            <a:r>
              <a:rPr b="0" i="1" lang="en-US" sz="3200" spc="-1" strike="noStrike">
                <a:solidFill>
                  <a:srgbClr val="ffcc00"/>
                </a:solidFill>
                <a:latin typeface="Comic Sans MS"/>
              </a:rPr>
              <a:t>Pokyny pro vypracování a rozvíjení vícejazyčných tezaur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SÉMANTICKÝ</a:t>
            </a:r>
            <a:r>
              <a:rPr b="0" lang="en-US" sz="40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versus </a:t>
            </a:r>
            <a:r>
              <a:rPr b="0" lang="en-US" sz="4000" spc="-1" strike="noStrike">
                <a:solidFill>
                  <a:srgbClr val="00cc00"/>
                </a:solidFill>
                <a:latin typeface="Comic Sans MS"/>
              </a:rPr>
              <a:t>SYNTAKTICKÝ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OZKLAD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755280" y="1916280"/>
            <a:ext cx="7777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ÉMANTICKÝ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výraz, který vyjadřuje komplexní pojem, je převeden na jednodušší, tzv. definiční prvk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z nichž každý se může vyskytnout i v jiných kombinacích při označování celé řady rozdílných pojmů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teplomě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plota + měření + přístroj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běloc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běloba + člově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Použití této techniky se v tezaurech nedoporučuj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SÉMANTICKÝ</a:t>
            </a:r>
            <a:r>
              <a:rPr b="0" lang="en-US" sz="40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versus </a:t>
            </a:r>
            <a:r>
              <a:rPr b="0" lang="en-US" sz="4000" spc="-1" strike="noStrike">
                <a:solidFill>
                  <a:srgbClr val="00cc00"/>
                </a:solidFill>
                <a:latin typeface="Comic Sans MS"/>
              </a:rPr>
              <a:t>SYNTAKTICKÝ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OZKLAD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SYNTAKTICKÝ</a:t>
            </a: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tato technika se uplatňuje u sousloví,  tj. u výrazů, které umožňují </a:t>
            </a:r>
            <a:r>
              <a:rPr b="0" i="1" lang="en-US" sz="2800" spc="-1" strike="noStrike">
                <a:solidFill>
                  <a:srgbClr val="ffcc00"/>
                </a:solidFill>
                <a:latin typeface="Comic Sans MS"/>
              </a:rPr>
              <a:t>morfologickou analýzu </a:t>
            </a: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na dílčí složk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každá dílčí složka takovéhoto výrazu může opět sloužit jako svébytná lexikální jednotk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ibetský buddhismu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ibe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+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buddhismu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ROZLOŽIT NEBO PONECHAT V PŮVODNÍM STAVU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kritéria pro to, zd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ousloví ponechat beze změn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Comic Sans MS"/>
              </a:rPr>
              <a:t>odstavec 7.2 v normě ČSN 01 019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ousloví rozložit na syntaktické slož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Comic Sans MS"/>
              </a:rPr>
              <a:t>odstavec 7.3 v normě ČSN 01 019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e než k tomu přistoupíme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… 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je nutné rozlišit jednotlivé části sousloví  z hlediska jejich rolí a vztah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j…. 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ZÁKLA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versus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MODIFIKÁTOR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…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LOŽKY SOUSLOVÍ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základ neboli řídící čl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Comic Sans MS"/>
              </a:rPr>
              <a:t>substantivum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, které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Comic Sans MS"/>
              </a:rPr>
              <a:t>vyjadřuje širší třídu věcí nebo jevů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, jejímž členem je lexikální jednotka jako cele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odifikátor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Comic Sans MS"/>
              </a:rPr>
              <a:t>část sousloví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, která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Comic Sans MS"/>
              </a:rPr>
              <a:t>odkazuje k určité charakteristice nebo rozlišujícímu znak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po připojení k danému základu zužuje jeho významový nebo stylistický odstín a vyjadřuje tak jednu z jeho podtří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říkl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 sousloví „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vícejazyčný tezauru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je tezaurus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? ? 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je vícejazyčný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? ? 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který specifikuje určitou podtřídu tezaurů ve výrazu vícejazyčný tezauru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20:00:46Z</dcterms:created>
  <dc:creator>SilvieP.</dc:creator>
  <dc:description/>
  <dc:language>en-US</dc:language>
  <cp:lastModifiedBy>SilvieP.</cp:lastModifiedBy>
  <dcterms:modified xsi:type="dcterms:W3CDTF">2005-11-24T17:15:35Z</dcterms:modified>
  <cp:revision>27</cp:revision>
  <dc:subject/>
  <dc:title>Selekční jazyky I  cvičení 5. 11. 2004</dc:title>
</cp:coreProperties>
</file>