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51C-1FE6-4F0E-83F8-7FFBBF71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BC6-7BCE-4B74-81B4-F62247F7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12D-D836-4688-8E9A-9041410B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EF9-85AC-4B86-BE27-388F551F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899-FA56-49B1-A2F2-33CF7070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4C1-B255-450A-ADB7-B9613531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DE1-8AF1-45C2-8B84-55841240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970-DA96-4663-96A6-D9D110C6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E9E-ED4C-4DCF-88B4-371BB715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09D-BE29-4273-B250-6EB3049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B88-99F5-4D9E-A6E6-05396D84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D5A-E24F-4C85-9489-8436BCB2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55A4-3A16-40BB-A583-4E54CA36C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 leksikalsk, semantisk  betydning (innhold, konnotasj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 grammatikalsk betydning (ordklasse: genus, kasus, tall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sifikasj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riftspr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åket – talesprå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rveord – fremmedord – neologisme – mote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Frekv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kspressivitet (neutral, vulgær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Kompatibilitet (val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yntaktiske aspekter (setning, tekst, kontek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I tsjekkisk: til å gjøre seg forstått – nok med 500 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anlig bruk: 5000 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KJERNEORD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jádro slovní zásoby) – basisfond er ikke stor, men gammel. Den er av sentralbetydning i kommunikasjon og har h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øy frekvens (germanske, nordgermanske ord) – mann, brød, land, mor, våpen osv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frekv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Heggstad (1982) har undersøkt hvilke ordklasser  som er størst i norsk, i en vanlig rettsskrivningsordliste på 30 000 ord fant h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ubstantiv – 65, 7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djektiv – 12,9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erb 12, 9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ndres ordklasser 8,5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d andre or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 tre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ørste ordklassene dekker 91,5 % av vokabula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AMMENSETN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bstantivklasse er størst her o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bstantiv + substantiv – 80% (lands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Verb + substantiv – 4 % (leses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dverb/preposisjon + subst. – 8% (overle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djektiv + subst. – 6 % (høysk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onomen + subst. (hverdag, alls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nterjeksjon + subst. (heiagje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r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å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ig kompeta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. Løver spiser ofte gamle r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/ Til aftens spiser løver ofte gamle ry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b/ Gamle løver spiser ofte r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/ Løver ofte spiser gamle r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I. Løver ndiser ofte gamle pt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II. Pøver spiser ofte sprekkel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8:36:57Z</dcterms:created>
  <dc:creator>nordistika</dc:creator>
  <dc:description/>
  <dc:language>en-US</dc:language>
  <cp:lastModifiedBy>nordistika</cp:lastModifiedBy>
  <dcterms:modified xsi:type="dcterms:W3CDTF">2007-09-25T20:12:36Z</dcterms:modified>
  <cp:revision>3</cp:revision>
  <dc:subject/>
  <dc:title>ORD</dc:title>
</cp:coreProperties>
</file>