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0FB-4A64-4083-9AEB-F47FF84D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FD7-727A-49F2-9481-354EDFC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066-71BE-486F-AFDD-6345E62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D5F-0426-4D61-88A9-3F82B706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8F-F051-4011-B322-CF2D5E5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EBE-63B6-4487-B7CF-D32E408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BC8-7510-42CA-8A8D-9ADD4293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F9C-6F61-4089-A62D-1B1746F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AA6-C6E3-4153-97F8-FC31AD9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6EF-F2AD-4771-AF90-864EAE9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BD7-BE14-4933-B95E-E3CE3AA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7ED-23E9-4754-87EE-F176008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C74-FD47-4E92-BDA3-7683573AC8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nalostí – pravidel, vozidla, silnice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ručností a pohybových dovedností, nedostatek zkuše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chodné stav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Únava z dlouhých jízd a nevyspání, která mizí po odpoči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Alkohol a dr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Činnost v časové zátě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56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chvat, infarkt za vola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ě znevýhodnění jed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ronické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utní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hodné lé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binace onemocnění a medikamen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, poznávání, logické, analytické, praktické i kritické myšlení, 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znalostí – pravidel, vozidla, silnice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znalost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dostatek zkušení s konkrétním vozid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dostatek zručností a pohybových dovedností, nedostatek zkuš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kušení řidiči (chybění zautomatizovaných úko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ematika mladých řidičů (nezkušenost, osobnostní nezralost, přeceňování, častější porušování dopravních předpis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soby ve vyšším věku (vyšší zranitelnost, pokles percepčních, kognitivních a motorických schopností – kompenzační strateg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normy a neformální normy (sociálně psychologick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onymní podmí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 http://www.spektrumzdravi.cz/w/spektrumzdravi/files/typologie-osobnosti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697040" y="490680"/>
            <a:ext cx="54673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Únava z dlouhých jízd a nevyspání, která mizí po odpočin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ikrospánek, usnutí, ún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Únava: smyslové orgány, fyzická, psychická, koordinace pohybů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ánková deprivace, noční doba, monoton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 spolujezdce, spící spolujez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ychlost nižší než 60 km/h, vysoká teplota, vyrovnaný hluk, oslňování sluncem, známá trasa, mlha (Štikar, 200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ioryt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Hloubková analýza dopravních neh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častější příčina neh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hlcení – vysoká hustota provozu, zařízení ve vozidle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klon poz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otonie, změna na známe trase,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yndrom konce cesty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kušenost, emoce, napětí, únava, extrémní počasí, užití omamných a návykových látek, bolest, nemoc, …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í i pozitivní, nedostatek i přeby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kost, hněv, 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ádka s partnerem, cesta na pohř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lkohol a další omamné a psychotropní lá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lkohol i zbytkový alkoh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šší náchylnost k vážnějším úrazům (riziko smrti – 3krát vyšš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nezralé, příznaky závislosti, nižší sebekontrola, egocentrizmus, emoční nevyváženost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raving jako příčina nehody (zhoršení kognitivních funkc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mamné a návykové léky, včetně nebezpečných lék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se (pomalejší reak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ční 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ypochondrická, nutkavá, depresivní, úzkostná, fobická, hysterická neuró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gresivní, úzkostný, cholerický řidič (jen v dopravních ch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innost v časové zátěž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šší chybov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ušení pravi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od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inění nehod řidič 50 x chodec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a oble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kohol cho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ové specifika dítěte (výška – zraková orientace, vnímání, rychlost reagování, pozornost, myšl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daptace na prostře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así : slunce, náledí, vítr, sníh a dé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: kvalita vozovky, dopravní značení, roz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ě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y kategorizace a očekávání účast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y fragilní popu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vans, L. (2004). Traffic Safety. Science Serving Society, U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avlík, K. (2005). Psychologie pro řidiče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řán, M. (1977). Komplexní analýza závažných dopravních nehod přímo na místě. Nepublikovaný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špor, K. (2007). Návykové chování a závislost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thengatter, T., Huguenin, R. D. (ed.), (2004). Traffic and Transport Psychology. Theory and Application. ELSEVIER Ltd,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molíková, J., (2006). Psychologická prevence nehod (teorie a praxe)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tikarová, J., (2003). Psychologie v dopravě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eeuwes, J., van der Hirst, R., Kuiken, M. (2012): Designing Safe Road Systems.Ashgate Publising Limited,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546120" y="2085840"/>
            <a:ext cx="5075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MV, 5 let (2011 – 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R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TAČR (zaměření na chodce, 2013 – 2015, CDV spoluřešit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ávislé šetření dopravních nehod, výzkumné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Šetřeny jsou nehody, při kterých došlo ke zranění účast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zjišťování dostatečně průkazných podnětů ke zlepšení dopravní infrastruktury, automobilové technik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ke kvalitnější přípravě řidič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běr dat a tvorba rozsáhlé databá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osud bylo šetřeno více než 400 ne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rno – město, Brno – ven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todik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tailní analýza jednotlivých nehod, sběr vysokého množství dat, pochopení následností a vztahů u každé nehody zvlá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é zobecnění závěrů -  tvorba typických scénař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rekvence výskytu různých kauzálních činitelů – taxonomie kategori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polupracující subjekt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icie české republ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asičský záchranní s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ravotnická záchranná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ultní nemocnic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odnik města B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arbora Sulíková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lasti zájmu šetř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mobilová technik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cína (bezprostředně po nehod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sycholo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 místě nehody, s časovým odstupem v nemocničním za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le psycholo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toda polo - strukturovaného rozhovoru, především aktivní účastníci ne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sulo</cp:lastModifiedBy>
  <cp:lastPrinted>2011-09-06T07:59:48Z</cp:lastPrinted>
  <dcterms:modified xsi:type="dcterms:W3CDTF">2014-01-19T20:49:46Z</dcterms:modified>
  <cp:revision>278</cp:revision>
  <dc:subject/>
  <dc:title>Prezentace aplikace PowerPoint</dc:title>
</cp:coreProperties>
</file>