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9AAC-667F-4261-B60E-5C3866633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C63D-C561-43A1-B5FB-A2A880BB8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70AE-A7E6-4CFD-B043-0271E977C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B1D6-2F5F-4B5F-87C8-B10859174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F6E6-E7CF-45C1-9EB4-A83E1A437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4879-6195-49B2-9579-5F6269D6F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9BB5-9AF5-429F-8763-13F52B79D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373D-F06A-4EAC-BB5C-09675E4DF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EBD2-7C4E-4CBC-B524-C9781249A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FC21-37B0-4707-A451-8A794D23B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F01C-DEE3-4D46-B8F4-DC838171B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C9AB-AF65-4AD0-8714-F43CE7C4A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D28F0-463D-4D4A-BBEB-02F99234CDE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mailto:barbora.sulikova@cdv.cz" TargetMode="Externa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mailto:barbora.sulikova@cdv.cz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mailto:barbora.sulikova@cdv.cz" TargetMode="Externa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mailto:barbora.sulikova@cdv.cz" TargetMode="Externa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mailto:barbora.sulikova@cdv.cz" TargetMode="Externa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mailto:barbora.sulikova@cdv.cz" TargetMode="Externa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mailto:barbora.sulikova@cdv.cz" TargetMode="Externa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mailto:barbora.sulikova@cdv.cz" TargetMode="Externa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mailto:barbora.sulikova@cdv.cz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mailto:barbora.sulikova@cdv.cz" TargetMode="Externa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mailto:barbora.sulikova@cdv.cz" TargetMode="Externa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mailto:barbora.sulikova@cdv.cz" TargetMode="Externa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mailto:barbora.sulikova@cdv.cz" TargetMode="External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mailto:barbora.sulikova@cdv.cz" TargetMode="External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ora.sulikova@cdv.cz" TargetMode="External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mailto:barbora.sulikova@cdv.cz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mailto:barbora.sulikova@cdv.cz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mailto:barbora.sulikova@cdv.cz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barbora.sulikova@cdv.cz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mailto:barbora.sulikova@cdv.cz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mailto:barbora.sulikova@cdv.cz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E:\CDV Grafika\_PIC\LOGO\logo_CDV_PLUS\logo_CDV.png"/>
          <p:cNvPicPr/>
          <p:nvPr/>
        </p:nvPicPr>
        <p:blipFill>
          <a:blip r:embed="rId2"/>
          <a:stretch/>
        </p:blipFill>
        <p:spPr>
          <a:xfrm>
            <a:off x="1957320" y="604800"/>
            <a:ext cx="2759040" cy="27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1666800" y="34920"/>
            <a:ext cx="5353200" cy="68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Dopravně – psychologické vyšetře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Anamnestický dotazní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Rozhov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ýkonové testy (kognitivní schopnosti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sobnostní dotazníky (osobnostní vlastnosti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ovéPole 4"/>
          <p:cNvSpPr/>
          <p:nvPr/>
        </p:nvSpPr>
        <p:spPr>
          <a:xfrm>
            <a:off x="209520" y="6093000"/>
            <a:ext cx="8755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  <a:ea typeface="Arial"/>
              </a:rPr>
              <a:t>Kontaktní informa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Barbora Sulíková, </a:t>
            </a:r>
            <a:r>
              <a:rPr b="0" lang="cs-CZ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barbora.sulikova@cdv.cz</a:t>
            </a: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,  +420 601 322 14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Výkonové tes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ovéPole 4"/>
          <p:cNvSpPr/>
          <p:nvPr/>
        </p:nvSpPr>
        <p:spPr>
          <a:xfrm>
            <a:off x="209520" y="6093000"/>
            <a:ext cx="8755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  <a:ea typeface="Arial"/>
              </a:rPr>
              <a:t>Kontaktní informa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Barbora Sulíková, </a:t>
            </a:r>
            <a:r>
              <a:rPr b="0" lang="cs-CZ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barbora.sulikova@cdv.cz</a:t>
            </a: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,  +420 601 322 14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Výkonové tes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zorno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aměť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Intelig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Reakční č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dolnost vůči monoton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eriferní vidě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ovéPole 4"/>
          <p:cNvSpPr/>
          <p:nvPr/>
        </p:nvSpPr>
        <p:spPr>
          <a:xfrm>
            <a:off x="209520" y="6093000"/>
            <a:ext cx="8755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  <a:ea typeface="Arial"/>
              </a:rPr>
              <a:t>Kontaktní informa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Barbora Sulíková, </a:t>
            </a:r>
            <a:r>
              <a:rPr b="0" lang="cs-CZ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barbora.sulikova@cdv.cz</a:t>
            </a: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,  +420 601 322 14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ozorno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Bourdonova metoda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(princip diskriminace tvarů, zjišťování změn pracovního výkonu v čas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Test koncentrace pozornosti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(sklon k chybovosti, PM tempo, impulzivnos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Test pozornosti d2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(dodržování pravidel, selektivní pozornost, rychlost zpracování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ovéPole 4"/>
          <p:cNvSpPr/>
          <p:nvPr/>
        </p:nvSpPr>
        <p:spPr>
          <a:xfrm>
            <a:off x="209520" y="6093000"/>
            <a:ext cx="8755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  <a:ea typeface="Arial"/>
              </a:rPr>
              <a:t>Kontaktní informa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Barbora Sulíková, </a:t>
            </a:r>
            <a:r>
              <a:rPr b="0" lang="cs-CZ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barbora.sulikova@cdv.cz</a:t>
            </a: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,  +420 601 322 14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aměť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Wechslerova škála paměti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(sluchová i zraková, krátkodobá i dlouhodobá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Vizuálně  retenční test Bentonův 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(vizuální pozornost a retence paměti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Paměťový test učení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(verbální paměť, poruchy vybavování, demence, poruchy učení,…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ovéPole 4"/>
          <p:cNvSpPr/>
          <p:nvPr/>
        </p:nvSpPr>
        <p:spPr>
          <a:xfrm>
            <a:off x="209520" y="6093000"/>
            <a:ext cx="8755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  <a:ea typeface="Arial"/>
              </a:rPr>
              <a:t>Kontaktní informa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Barbora Sulíková, </a:t>
            </a:r>
            <a:r>
              <a:rPr b="0" lang="cs-CZ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barbora.sulikova@cdv.cz</a:t>
            </a: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,  +420 601 322 14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Intelig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yloučení MR, dem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Ravenovy progresivní matr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WAIS – R, WAIS I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Test struktury intelig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ovéPole 4"/>
          <p:cNvSpPr/>
          <p:nvPr/>
        </p:nvSpPr>
        <p:spPr>
          <a:xfrm>
            <a:off x="209520" y="6093000"/>
            <a:ext cx="8755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  <a:ea typeface="Arial"/>
              </a:rPr>
              <a:t>Kontaktní informa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Barbora Sulíková, </a:t>
            </a:r>
            <a:r>
              <a:rPr b="0" lang="cs-CZ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barbora.sulikova@cdv.cz</a:t>
            </a: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,  +420 601 322 14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Reakční č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100" spc="-1" strike="noStrike">
                <a:solidFill>
                  <a:srgbClr val="000000"/>
                </a:solidFill>
                <a:latin typeface="Calibri"/>
              </a:rPr>
              <a:t>Disjunktivní reakční čas </a:t>
            </a:r>
            <a:r>
              <a:rPr b="0" lang="cs-CZ" sz="3100" spc="-1" strike="noStrike">
                <a:solidFill>
                  <a:srgbClr val="000000"/>
                </a:solidFill>
                <a:latin typeface="Calibri"/>
              </a:rPr>
              <a:t>(trénink rychlé orientace, rychlost rozhodování, psychické tempo)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100" spc="-1" strike="noStrike">
                <a:solidFill>
                  <a:srgbClr val="000000"/>
                </a:solidFill>
                <a:latin typeface="Calibri"/>
              </a:rPr>
              <a:t>Číselný obdélník </a:t>
            </a:r>
            <a:r>
              <a:rPr b="0" lang="cs-CZ" sz="3100" spc="-1" strike="noStrike">
                <a:solidFill>
                  <a:srgbClr val="000000"/>
                </a:solidFill>
                <a:latin typeface="Calibri"/>
              </a:rPr>
              <a:t>(selektivita a distribuce pozornosti v podmínkách vyžadujících vysoké tempo činnosti)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100" spc="-1" strike="noStrike">
                <a:solidFill>
                  <a:srgbClr val="000000"/>
                </a:solidFill>
                <a:latin typeface="Calibri"/>
              </a:rPr>
              <a:t>Determinační test </a:t>
            </a:r>
            <a:r>
              <a:rPr b="0" lang="cs-CZ" sz="3100" spc="-1" strike="noStrike">
                <a:solidFill>
                  <a:srgbClr val="000000"/>
                </a:solidFill>
                <a:latin typeface="Calibri"/>
              </a:rPr>
              <a:t>(senzomotorické reakce mnohonásobnými vizuálními a akustickými podněty, i barvocit)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ovéPole 4"/>
          <p:cNvSpPr/>
          <p:nvPr/>
        </p:nvSpPr>
        <p:spPr>
          <a:xfrm>
            <a:off x="209520" y="6093000"/>
            <a:ext cx="8755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  <a:ea typeface="Arial"/>
              </a:rPr>
              <a:t>Kontaktní informa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Barbora Sulíková, </a:t>
            </a:r>
            <a:r>
              <a:rPr b="0" lang="cs-CZ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barbora.sulikova@cdv.cz</a:t>
            </a: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,  +420 601 322 14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Odolnost vůči monotoni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Bourdonov t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ovéPole 4"/>
          <p:cNvSpPr/>
          <p:nvPr/>
        </p:nvSpPr>
        <p:spPr>
          <a:xfrm>
            <a:off x="209520" y="6093000"/>
            <a:ext cx="8755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  <a:ea typeface="Arial"/>
              </a:rPr>
              <a:t>Kontaktní informa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Barbora Sulíková, </a:t>
            </a:r>
            <a:r>
              <a:rPr b="0" lang="cs-CZ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barbora.sulikova@cdv.cz</a:t>
            </a: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,  +420 601 322 14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Osobnostní dotazník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ovéPole 4"/>
          <p:cNvSpPr/>
          <p:nvPr/>
        </p:nvSpPr>
        <p:spPr>
          <a:xfrm>
            <a:off x="209520" y="6093000"/>
            <a:ext cx="8755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  <a:ea typeface="Arial"/>
              </a:rPr>
              <a:t>Kontaktní informa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Barbora Sulíková, </a:t>
            </a:r>
            <a:r>
              <a:rPr b="0" lang="cs-CZ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barbora.sulikova@cdv.cz</a:t>
            </a: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,  +420 601 322 14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ovéPole 8"/>
          <p:cNvSpPr/>
          <p:nvPr/>
        </p:nvSpPr>
        <p:spPr>
          <a:xfrm>
            <a:off x="468360" y="620640"/>
            <a:ext cx="633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76092"/>
                </a:solidFill>
                <a:latin typeface="Arial"/>
              </a:rPr>
              <a:t>Mgr. </a:t>
            </a:r>
            <a:r>
              <a:rPr b="1" lang="cs-CZ" sz="3200" spc="-1" strike="noStrike">
                <a:solidFill>
                  <a:srgbClr val="376092"/>
                </a:solidFill>
                <a:latin typeface="Arial"/>
              </a:rPr>
              <a:t>Barbora Sulíkov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76092"/>
                </a:solidFill>
                <a:latin typeface="Arial"/>
              </a:rPr>
              <a:t>Mgr.</a:t>
            </a:r>
            <a:r>
              <a:rPr b="1" lang="cs-CZ" sz="3200" spc="-1" strike="noStrike">
                <a:solidFill>
                  <a:srgbClr val="376092"/>
                </a:solidFill>
                <a:latin typeface="Arial"/>
              </a:rPr>
              <a:t> Katarína Poláčkov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ovéPole 9"/>
          <p:cNvSpPr/>
          <p:nvPr/>
        </p:nvSpPr>
        <p:spPr>
          <a:xfrm>
            <a:off x="468360" y="1341360"/>
            <a:ext cx="59529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77933c"/>
                </a:solidFill>
                <a:latin typeface="Arial"/>
              </a:rPr>
              <a:t>Dopravně – psychologické vyšetření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Osobnostní dotazník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a)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rysové charakteristiky osobnosti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dominance, potřeba prosazení se, egocentrismu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emoční stabilita × labilita (neuroticismu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hypersenzitivita, úzkostno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úroveň sebejistoty, sebepojet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extroverze × introverz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sebekontrola, sebedisciplína, poslušnost k pravidlům silničního provoz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svědomito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nízká frustrační tolerance a odolnost vůči stresu, psychická odolno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únav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Osobnostní dotazník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b) další koncepty osobnosti ovlivňující říze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chování typu 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yhledávání situačního vzrušení, dobrodružství, sensation-seek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antisociální postoje × prosociální postoje, altruism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LOC – vnější, vnitřní kontrola se sníženou anticipac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atribu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Osobnostní dotazník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) agresivní tendenc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gresivi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gre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ně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ostili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Osobnostní dotazník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NEO – FFI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(OCEA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Bochumský osobnostní dotazník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(podtitul "inventář profesních charakteristik osobnosti„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Dotazník interpersonální diagnózy ICL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Eysenck DOPEN, EOD, EPQ, IVE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(impulzivit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16 PF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Osobnostní inventář KU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IHAVEZ, SPIDO, SPAR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ovéPole 4"/>
          <p:cNvSpPr/>
          <p:nvPr/>
        </p:nvSpPr>
        <p:spPr>
          <a:xfrm>
            <a:off x="209520" y="6093000"/>
            <a:ext cx="8755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  <a:ea typeface="Arial"/>
              </a:rPr>
              <a:t>Kontaktní informa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Barbora Sulíková, </a:t>
            </a:r>
            <a:r>
              <a:rPr b="0" lang="cs-CZ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barbora.sulikova@cdv.cz</a:t>
            </a: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,  +420 601 322 14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Agre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Hand t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R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Freiburský osobnostní dotazní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Dotazník agre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strojové metod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konové funkc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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eriferní vidění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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izuální orientace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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eakční čas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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enzomotorická koordinace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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zornost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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teligence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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aměť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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olnost vůči monotonii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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olnost vůči stresu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ovéPole 4"/>
          <p:cNvSpPr/>
          <p:nvPr/>
        </p:nvSpPr>
        <p:spPr>
          <a:xfrm>
            <a:off x="209520" y="6093000"/>
            <a:ext cx="8755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  <a:ea typeface="Arial"/>
              </a:rPr>
              <a:t>Kontaktní informa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Barbora Sulíková, </a:t>
            </a:r>
            <a:r>
              <a:rPr b="0" lang="cs-CZ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barbora.sulikova@cdv.cz</a:t>
            </a: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,  +420 601 322 14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strojové metod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ysy osobnost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endence riskovat/ připravenost k rizikovému chování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endence vyhledávat vzrušení (sensation seeking)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endence agresivního jednání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ovéPole 4"/>
          <p:cNvSpPr/>
          <p:nvPr/>
        </p:nvSpPr>
        <p:spPr>
          <a:xfrm>
            <a:off x="209520" y="6093000"/>
            <a:ext cx="8755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  <a:ea typeface="Arial"/>
              </a:rPr>
              <a:t>Kontaktní informa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Barbora Sulíková, </a:t>
            </a:r>
            <a:r>
              <a:rPr b="0" lang="cs-CZ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barbora.sulikova@cdv.cz</a:t>
            </a: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,  +420 601 322 14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Doporučení pro senior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ejezděte brzy ráno, za šera a v noc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ělejte si přestávky, větrejte, protáhněte 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rasu vždy pečlivě naplánujte, včetně odpočink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evyrážejte na dlouhé tras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ovéPole 4"/>
          <p:cNvSpPr/>
          <p:nvPr/>
        </p:nvSpPr>
        <p:spPr>
          <a:xfrm>
            <a:off x="209520" y="6093000"/>
            <a:ext cx="8755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  <a:ea typeface="Arial"/>
              </a:rPr>
              <a:t>Kontaktní informa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Barbora Sulíková, </a:t>
            </a:r>
            <a:r>
              <a:rPr b="0" lang="cs-CZ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barbora.sulikova@cdv.cz</a:t>
            </a: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,  +420 601 322 14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Doporučení pro senior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Jezděte po známé tr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Jezděte raději se spolujezdc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eusedejte za volant, pokud se necítíte dobř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Buďte k sobě kritičtí, nepřeceňujte své sí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enechte se vyprovokovat k riskantní jízdě ostatními řidič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ovéPole 4"/>
          <p:cNvSpPr/>
          <p:nvPr/>
        </p:nvSpPr>
        <p:spPr>
          <a:xfrm>
            <a:off x="209520" y="6093000"/>
            <a:ext cx="8755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  <a:ea typeface="Arial"/>
              </a:rPr>
              <a:t>Kontaktní informa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Barbora Sulíková, </a:t>
            </a:r>
            <a:r>
              <a:rPr b="0" lang="cs-CZ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barbora.sulikova@cdv.cz</a:t>
            </a: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,  +420 601 322 14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Doporučení pro nezralé řidič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Jezděte opatrně, přiměřenou rychlostí, nespěchejte, nevystavujte se zbytečnému riziku pro pár minut časového zisk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o platí zvláště za zhoršených provozních podmíne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vní jízdy absolvujte po méně frekventovaných silnicí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nažte se předvídat, přemýšlet o dopravní situac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ovéPole 4"/>
          <p:cNvSpPr/>
          <p:nvPr/>
        </p:nvSpPr>
        <p:spPr>
          <a:xfrm>
            <a:off x="209520" y="6093000"/>
            <a:ext cx="8755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  <a:ea typeface="Arial"/>
              </a:rPr>
              <a:t>Kontaktní informa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Barbora Sulíková, barbora.sulikova@cdv.cz,  +420 601 322 14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Kdo musí absolvovat dopravně  -psychologické vyšetření?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ybodovaní řidiči - při žádosti o vrácení řidičského průkazu po 12 měsících od vybodová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řidiči se zákazem činnosti (řízení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 jakémkoliv zákazu řízení motorových vozidel v rámci trestního řízení(minimálně 6 měsíců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řidiči "v podmínce"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ovéPole 4"/>
          <p:cNvSpPr/>
          <p:nvPr/>
        </p:nvSpPr>
        <p:spPr>
          <a:xfrm>
            <a:off x="209520" y="6093000"/>
            <a:ext cx="8755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  <a:ea typeface="Arial"/>
              </a:rPr>
              <a:t>Kontaktní informa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Barbora Sulíková, </a:t>
            </a:r>
            <a:r>
              <a:rPr b="0" lang="cs-CZ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barbora.sulikova@cdv.cz</a:t>
            </a: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,  +420 601 322 14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Doporučení pro nezralé řidič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vních 6m nejezděte s dalšími pasažér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( kromě zkušených řidičů 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aučte se požádat o ticho na soustředě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počátku nejezděte vpodvečer a v noc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opravní předpisy vás mají chránit, dodržujte je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Buďte ohleduplní k chodcům a pomalejším řidičům, taky jimi jednou bude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ovéPole 4"/>
          <p:cNvSpPr/>
          <p:nvPr/>
        </p:nvSpPr>
        <p:spPr>
          <a:xfrm>
            <a:off x="209520" y="6093000"/>
            <a:ext cx="8755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  <a:ea typeface="Arial"/>
              </a:rPr>
              <a:t>Kontaktní informa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Barbora Sulíková, barbora.sulikova@cdv.cz,  +420 601 322 14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Doporučení pro nezralé řidič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održujte bezpečnou vzdáleno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esnažte se o odvetu, pokud jiný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řidič udělá chybu, nebo vás našt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kud nejste v dobré kondici,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esedejte za vola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místěte na vozidlo značku „Z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ovéPole 4"/>
          <p:cNvSpPr/>
          <p:nvPr/>
        </p:nvSpPr>
        <p:spPr>
          <a:xfrm>
            <a:off x="209520" y="6093000"/>
            <a:ext cx="8755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  <a:ea typeface="Arial"/>
              </a:rPr>
              <a:t>Kontaktní informa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Barbora Sulíková, barbora.sulikova@cdv.cz,  +420 601 322 14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Literatu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Svoboda, M. 2010: Psychologická diagnostika dospělých. Praha. Portá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Havlík, K.: Psychologické zvláštnosti dopravního charakteru vybodovaných řidič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Havlíková, M. Výstupy z dopravně psychologického vyšetření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Kvintová, J.: psychická způsobilost a dopravně psychologické vyšetřen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http://www.12bodu.cz/dopravni_psycholog.ph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www.psychodiagnostika.cz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http://www.psychologie.getacentrum.cz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http://www.ff.upol.cz/fileadmin/user_upload/FF-katedry/psychologie/Sborniky_a_monografie/seitl/Manul_final_v6_19_1_2011-1.pd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ovéPole 4"/>
          <p:cNvSpPr/>
          <p:nvPr/>
        </p:nvSpPr>
        <p:spPr>
          <a:xfrm>
            <a:off x="209520" y="6093000"/>
            <a:ext cx="8755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  <a:ea typeface="Arial"/>
              </a:rPr>
              <a:t>Kontaktní informa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Barbora Sulíková, barbora.sulikova@cdv.cz,  +420 601 322 14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Nadpis 1"/>
          <p:cNvSpPr/>
          <p:nvPr/>
        </p:nvSpPr>
        <p:spPr>
          <a:xfrm>
            <a:off x="546120" y="598320"/>
            <a:ext cx="6257880" cy="9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48a54"/>
                </a:solidFill>
                <a:latin typeface="Arial"/>
                <a:ea typeface="Arial"/>
              </a:rPr>
              <a:t>Děkuji vám za pozornost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ovéPole 4"/>
          <p:cNvSpPr/>
          <p:nvPr/>
        </p:nvSpPr>
        <p:spPr>
          <a:xfrm>
            <a:off x="546120" y="2085840"/>
            <a:ext cx="507528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376092"/>
                </a:solidFill>
                <a:latin typeface="Arial"/>
                <a:ea typeface="Arial"/>
              </a:rPr>
              <a:t>Kontaktní informa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76092"/>
                </a:solidFill>
                <a:latin typeface="Arial"/>
                <a:ea typeface="Arial"/>
              </a:rPr>
              <a:t>Barbora Sulíkov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8cbbd3"/>
                </a:solidFill>
                <a:latin typeface="Arial"/>
                <a:ea typeface="Arial"/>
              </a:rPr>
              <a:t>barbora.sulikova@cdv.cz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cbbd3"/>
                </a:solidFill>
                <a:latin typeface="Arial"/>
                <a:ea typeface="Arial"/>
              </a:rPr>
              <a:t>+420 </a:t>
            </a:r>
            <a:r>
              <a:rPr b="1" lang="cs-CZ" sz="2000" spc="-1" strike="noStrike">
                <a:solidFill>
                  <a:srgbClr val="8cbbd3"/>
                </a:solidFill>
                <a:latin typeface="Arial"/>
                <a:ea typeface="Arial"/>
              </a:rPr>
              <a:t>601 322 14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Obdélník 1"/>
          <p:cNvSpPr/>
          <p:nvPr/>
        </p:nvSpPr>
        <p:spPr>
          <a:xfrm>
            <a:off x="546120" y="3789360"/>
            <a:ext cx="363528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376092"/>
                </a:solidFill>
                <a:latin typeface="Arial"/>
                <a:ea typeface="Arial"/>
              </a:rPr>
              <a:t>Centrum dopravního výzkumu, v. v. i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376092"/>
                </a:solidFill>
                <a:latin typeface="Arial"/>
                <a:ea typeface="Arial"/>
              </a:rPr>
              <a:t>Líšeňská 33a, 636 00  Brn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376092"/>
                </a:solidFill>
                <a:latin typeface="Arial"/>
                <a:ea typeface="Arial"/>
              </a:rPr>
              <a:t>telefon:</a:t>
            </a:r>
            <a:r>
              <a:rPr b="0" lang="cs-CZ" sz="1400" spc="-1" strike="noStrike">
                <a:solidFill>
                  <a:srgbClr val="376092"/>
                </a:solidFill>
                <a:latin typeface="Arial"/>
                <a:ea typeface="Arial"/>
              </a:rPr>
              <a:t> </a:t>
            </a:r>
            <a:r>
              <a:rPr b="1" lang="cs-CZ" sz="1400" spc="-1" strike="noStrike">
                <a:solidFill>
                  <a:srgbClr val="376092"/>
                </a:solidFill>
                <a:latin typeface="Arial"/>
                <a:ea typeface="Arial"/>
              </a:rPr>
              <a:t>+420 549 429 366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376092"/>
                </a:solidFill>
                <a:latin typeface="Arial"/>
                <a:ea typeface="Arial"/>
              </a:rPr>
              <a:t>email: </a:t>
            </a:r>
            <a:r>
              <a:rPr b="1" lang="cs-CZ" sz="1400" spc="-1" strike="noStrike">
                <a:solidFill>
                  <a:srgbClr val="376092"/>
                </a:solidFill>
                <a:latin typeface="Arial"/>
                <a:ea typeface="Arial"/>
              </a:rPr>
              <a:t>cdv@cdv.cz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376092"/>
                </a:solidFill>
                <a:latin typeface="Arial"/>
                <a:ea typeface="Arial"/>
              </a:rPr>
              <a:t>www.cdv.cz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Kdo musí absolvovat dopravně  -psychologické vyšetření?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Specifika řidičů účastnících se na dopravně  - psychologickém vyšetření dle Havlíka (2013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ěk 25 – 35 l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řidičská praxe 4 – 8 l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růměrný počet bodovaných přestupků za rok:  6 - 8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pakovaní stejných přestupk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 minulosti soudně trestaní (20%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roblémy v sociálních vztazích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4"/>
          <p:cNvSpPr/>
          <p:nvPr/>
        </p:nvSpPr>
        <p:spPr>
          <a:xfrm>
            <a:off x="209520" y="6093000"/>
            <a:ext cx="8755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  <a:ea typeface="Arial"/>
              </a:rPr>
              <a:t>Kontaktní informa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Barbora Sulíková, </a:t>
            </a:r>
            <a:r>
              <a:rPr b="0" lang="cs-CZ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barbora.sulikova@cdv.cz</a:t>
            </a: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,  +420 601 322 14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Kdo musí absolvovat dopravně – psychologické vyšetře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ro účely výkonu zaměstnání a získání kvalifik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držitelé řidičského oprávnění skupin C1E, C, CE, pokud řídí nákladní nebo speciální automobil o největší povolené hmotnosti nad 75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držitelé řidičského oprávnění skupin D1E, D nebo 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učitelé autoško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Dispečeř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Osoby ve vyšším věk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Senioři nad 65 let (po lékařské prohlídce, následně 68 a pak každé 2 roky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ovéPole 4"/>
          <p:cNvSpPr/>
          <p:nvPr/>
        </p:nvSpPr>
        <p:spPr>
          <a:xfrm>
            <a:off x="209520" y="6093000"/>
            <a:ext cx="8755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  <a:ea typeface="Arial"/>
              </a:rPr>
              <a:t>Kontaktní informa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Barbora Sulíková, </a:t>
            </a:r>
            <a:r>
              <a:rPr b="0" lang="cs-CZ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barbora.sulikova@cdv.cz</a:t>
            </a: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,  +420 601 322 14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Kdy musí absolvovat dopravně – psychologické vyšetření - profesionálové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ed zahájením činnos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6 měsíců před dovršením 50 let věk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ásledně pravidelně jednou za 5 l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Musí byt předloženo při pravidelné lékařské prohlíd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ovéPole 4"/>
          <p:cNvSpPr/>
          <p:nvPr/>
        </p:nvSpPr>
        <p:spPr>
          <a:xfrm>
            <a:off x="209520" y="6093000"/>
            <a:ext cx="8755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  <a:ea typeface="Arial"/>
              </a:rPr>
              <a:t>Kontaktní informa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Barbora Sulíková, </a:t>
            </a:r>
            <a:r>
              <a:rPr b="0" lang="cs-CZ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barbora.sulikova@cdv.cz</a:t>
            </a: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,  +420 601 322 14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okyny pro řidič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  <a:ea typeface="Calibri"/>
              </a:rPr>
              <a:t>Občanský průka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  <a:ea typeface="Calibri"/>
              </a:rPr>
              <a:t>Výpis z evidenční karty řidič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  <a:ea typeface="Calibri"/>
              </a:rPr>
              <a:t>Naslouchadlo či brýle, pokud je užívá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  <a:ea typeface="Calibri"/>
              </a:rPr>
              <a:t>Na vyšetření byste se měli dostavit včas, odpočatí, přiměřeně vyspalí a v dobrém fyzickém a psychickém rozpoložení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ovéPole 4"/>
          <p:cNvSpPr/>
          <p:nvPr/>
        </p:nvSpPr>
        <p:spPr>
          <a:xfrm>
            <a:off x="209520" y="6093000"/>
            <a:ext cx="8755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  <a:ea typeface="Arial"/>
              </a:rPr>
              <a:t>Kontaktní informa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Barbora Sulíková, </a:t>
            </a:r>
            <a:r>
              <a:rPr b="0" lang="cs-CZ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barbora.sulikova@cdv.cz</a:t>
            </a: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,  +420 601 322 14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Kdo může provádět dopravně – psychologické vyšetře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100" spc="-1" strike="noStrike">
                <a:solidFill>
                  <a:srgbClr val="000000"/>
                </a:solidFill>
                <a:latin typeface="Calibri"/>
              </a:rPr>
              <a:t>Zákon č. 133/2011 Sb. mění zákon č. 361/2000 Sb., o provozu na pozemních komunikacích a o změnách některých zákonů (zákon o silničním provozu), ve znění pozdějších předpisů, a některé další zákony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1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cs-CZ" sz="3100" spc="-1" strike="noStrike">
                <a:solidFill>
                  <a:srgbClr val="000000"/>
                </a:solidFill>
                <a:latin typeface="Calibri"/>
              </a:rPr>
              <a:t>(4) Dopravně psychologické vyšetření provádí psycholog, kterému ministerstvo udělilo akreditaci.“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100" spc="-1" strike="noStrike">
                <a:solidFill>
                  <a:srgbClr val="000000"/>
                </a:solidFill>
                <a:latin typeface="Calibri"/>
              </a:rPr>
              <a:t>Platné od 1.8.2012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ovéPole 4"/>
          <p:cNvSpPr/>
          <p:nvPr/>
        </p:nvSpPr>
        <p:spPr>
          <a:xfrm>
            <a:off x="209520" y="6093000"/>
            <a:ext cx="8755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  <a:ea typeface="Arial"/>
              </a:rPr>
              <a:t>Kontaktní informa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Barbora Sulíková, </a:t>
            </a:r>
            <a:r>
              <a:rPr b="0" lang="cs-CZ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barbora.sulikova@cdv.cz</a:t>
            </a: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,  +420 601 322 14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 současné době neexistuje povinnost provádět vyšetření dle schválené metodik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http://www.ff.upol.cz/fileadmin/user_upload/FF-katedry/psychologie/Sborniky_a_monografie/seitl/Manul_final_v6_19_1_2011-1.pd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ovéPole 4"/>
          <p:cNvSpPr/>
          <p:nvPr/>
        </p:nvSpPr>
        <p:spPr>
          <a:xfrm>
            <a:off x="209520" y="6093000"/>
            <a:ext cx="8755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  <a:ea typeface="Arial"/>
              </a:rPr>
              <a:t>Kontaktní informa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Barbora Sulíková, </a:t>
            </a:r>
            <a:r>
              <a:rPr b="0" lang="cs-CZ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barbora.sulikova@cdv.cz</a:t>
            </a: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,  +420 601 322 14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30T06:07:54Z</dcterms:created>
  <dc:creator>Paulas</dc:creator>
  <dc:description/>
  <dc:language>en-US</dc:language>
  <cp:lastModifiedBy>Turosikova</cp:lastModifiedBy>
  <cp:lastPrinted>2011-09-06T07:59:48Z</cp:lastPrinted>
  <dcterms:modified xsi:type="dcterms:W3CDTF">2013-10-21T12:39:05Z</dcterms:modified>
  <cp:revision>314</cp:revision>
  <dc:subject/>
  <dc:title>Prezentace aplikace PowerPoint</dc:title>
</cp:coreProperties>
</file>