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448-FE5F-49CA-AE39-72D17CDF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81C-884D-4CAF-A52F-05C8769A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994-73BA-45C7-9C5A-C73DC7C3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637-E12D-4C66-B4BC-BE1691D0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1E6-5B08-4598-94D1-6ABA34C7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0EE-8242-4CBE-9364-8C9CCAD2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8B2-746D-4672-85D2-2767C7A5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2E2-0F18-4118-B03A-F7C0EBDD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75A-A51B-4335-896E-28D3C5D0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5C4-932D-4F0F-8CBB-97166A19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798-4F63-45F6-AC38-6C9E2F18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BE9-B744-4EFF-8A6D-CB8AC3B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CD77-4B58-4A61-8E9A-A6B429C09FE1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446040" y="1803960"/>
            <a:ext cx="8078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671640" cy="472140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ofstil – „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ynonym für die Erstarrung ab circa 17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apu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nieri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eine neuen Gatt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nig Weiterentwick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tilkritererien  - Reprä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rum? (Anl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Für wen? (Zielpublik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er? (Ausführen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s? (Gattung, Stückauswah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ie? (Stil, Aufführungs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eispi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p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schematisierte Libretti (Metastasio) – personalisierte und auf den Anlass bezogene Lic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antaten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in Text und Musik auf einen Anlass „durchkomponiert“ (großes Variantenbreite betreffend Umf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cesco Bartolomeo Co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ra cetre, fra tromb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19, Hochzeit Erzherzogin Maria Josepha mit  Kurprinz Friedrich August von Sach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iovanni Bononc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L´oracolo d´Apo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07 (zur Zeit des spanischen Erbfolgekrieges, kein konkreter Anlass bekan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mponimenti per la cam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/Pietro Pari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Dafne in Lau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Geburtstag Karls VI. 17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uro = Lorbeer = Lob/Ruhm (militärisch/staatsmänni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/Pietro Metastas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 Passione di Gesù Cr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ignor Nos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729 (Fastenoratorium für die Hofkape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ola Porpora/Andrea Peru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Il Ged</a:t>
            </a: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37 (für Wr. Hofkapelle, UA 28.3.17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irchen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aiser-Requiem“ K 51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 „Plaudite, sonat Tuba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n „Ego sum Panis vivus“ &amp; „O Sacrum Conviviu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abat m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stil“ – Imperial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Ca. 1700 bis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mmermusik/Instrumental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hiesa in G-Dur K 3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amera in F-Dur E 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centus musico instrumentalis: Ouverture à 4 (Nr.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ynfonia à 3 K 3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weit wird der Stil am Kaiserhof von anderen Höfen kopiert und nachgeahm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Gibt es einen „Kaiserstil“ ohne Kaiser oder ist es besser von einem Repräsentationsstil zu sprechen mit dem jeweiligen Repräsentanten einer Hofhaltung als „Spiegelfläche“ der Aufführu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lche anderen Vorbilder/anderen Stile werden (vom Hof abgesehen) von den Höfen in den habsburgischen Ländern ab  ca. 1720 aufgesuch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bild: Stil des Kaiserhof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t seine Berechtigung bis ca. 1720/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usik aus der Hofmusikkapelle wird von Höfen/Klöstern kopiert bzw. werden Aufträge an Komponisten des Hofes von diesen verge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 hat sicherlich eine sehr hochstehende Musikpflege mit einer hohen Dichte an exzellenten Musik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 ohne Kais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Streng genommen sind nur dann kaiserlicher Stilelemente angebracht, wenn auch der Kaiser als „Spiegel“ der Repräsentation gemeint i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Kaiserstil“ meint ein Bündel an repräsentativen Stilelementen, die  - je nach Anforderung – zur Anwendung kom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Diese Repräsentations-Stile werden (in angemessen reduzierter Form) auch von allen anderen Hofhaltungen in den habsburgischen Ländern bzw. im Reich angewendet – gespiegelt auf den jeweiligen Repräsentanten (Fürst, Bischof, etc.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eue Wege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 ca. 1725/30 muss der Kaiserhof seine Ausgaben reduzieren (deutlich ab 17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Hofmusikkap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Festlichk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dere Höfe (geistliche wie weltlich) beginnen ab 1720 zunehmend, eigene Vorbilder für ihre Musikpraxis zu suchen (Kaiserhof verliert den Rang, primär Vorbild in musikalischen Dingen zu s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finition(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gesch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wissen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elcher Stil wofü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 – Zeremoni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r Kaiser als „Spiegelfläch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ns Sedlmayr 19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olitische Bedeutung des deutschen Barocks (Der „Reichsstil“)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esamtdeutsche Vergangenheit. FS für Heinrich von Srbik. München 1938, 126-14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“ als eigenständige deutsche Barock-Entwicklung (keine „nur“ Weiterentwicklung des italienisch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gangspunkt: der österreichische Kaiserhof der Prinz Eugen-Z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 ist ein synthetischer Stil aus dem italienischen Hochbarock und der französischen Vor-Klassik (Beispiel: Krautmarkt-Brunnen in Brünn durch Bernini [Italien] und Le Brun [Frankreich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harakteristisch ist eine Annäherung von sakralem und imperialem St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uptvertreter und Haupttheoretiker des Reichsstils ist Johann Bernhard Fischer von Erl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"/>
          <p:cNvPicPr/>
          <p:nvPr/>
        </p:nvPicPr>
        <p:blipFill>
          <a:blip r:embed="rId1"/>
          <a:srcRect l="22187" t="16251" r="27752" b="20938"/>
          <a:stretch/>
        </p:blipFill>
        <p:spPr>
          <a:xfrm>
            <a:off x="1403280" y="836640"/>
            <a:ext cx="705636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19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„Reichsstil“ in der deutschen Musikgeschichte des 18. Jahrhundert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. Reichert – M. Just (Hg.), Bericht über den Int. Musikwissenschaftlichen Kongress Kassel 1962. Kassel etc. 1963, 34-3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von „Reichsstil“ sollte eher von „Imperialstil“ gesprochen we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arallelen betreffend Entwicklung wie künstlerischer Haltung bei Johann Bernhard Fischer von Erlach und Johann Joseph F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ch in der Musik ist eine Synthese von Stilen (italienisch wie französisch) ein Charakteristikum des Imperialstils; Architektur wie Musik sind auch durch ihre Lehrbücher (Fischer/Fux) nachhaltig „stilbildend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 Hauptpunkte: 1) Kaiser als Auftraggeber und Widmungsträger; 2) Repräsentationsstil; 3) Verbreitung an andere Höfe des Rei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llmut Lorenz, 19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Vienna Gloriosa Habsburgica?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Kunsthistoriker 2 (1985) Heft 4/5, 44-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geht kritisch von Sedlmayrs These des „Reichsstils“ aus [Verbindung von Stilwandel und politischem Wande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ritik: J. B. Fischer von Erlach bleibt der Theorie verhaftet und baut NICHT [erst sein Soh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 die Kaiser treten [anders als in der Musik] in der Kunst deutlich hinter den Hofadel zurück; erst Karl VI. zeigt gegen 1720 eine langsam anlaufende Bautätigkeit [Österreichische Hofkanzlei, Hofstallungen, Hofbibliothek, Reichskanzleitrakt, Winterreitschule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„Reichsstil“ ist für Karl VI. eher „Kaiserstil“ zu wählen [wie von F. Matsche vorgeschlagen], da hier der Wille des Kaisers spürbar s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rbert Karner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284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Reichsstil, Kaiserstil oder die Kunst des Heiligen Römischen Reiches deutscher Nation: Kunstgeschichte und politische Begriffskonstruktionen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usammenfassung der Begriffsdiskussion ab Sedlmayr bis he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inweis auf die Singularität der kaiserlichen Bauten Karls V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ersönliche Vorlieben der Auftraggeber bestimmten die Auswahl der Künstler, nicht ein verbindendes „Stilbewusstsein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dlmayrs Synthese-Theorie (italienisch- französischer Mischstil) hat sich jedoch bestätig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n Ansätze bei M. Müller (Kastellform als „Logo“ für Schoss- und Repräsentationsbauten im Rei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aiserliche Musik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4 große Theoriewerke: Küchelbecker 1730, Heraeus 1734 bzw. Albrecht 1731, Fischer von Erlach 1721 und Fux 17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ilkennzeichen des Repräsentationsstils: Pauken und Trompeten; Verschmelzung mit liturgischen und para-liturgischen Elem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mischung zwischen Stilvorgaben aufgrund des Anlasses und des durch die meisten Komponisten gepflegten „gemischten Stils“ von italienischen und französischen Elementen [Riedel betont die FUNKTION der Musik im Zeremoniel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9:12:37Z</dcterms:created>
  <dc:creator>Hilscher, Elisabeth</dc:creator>
  <dc:description/>
  <dc:language>en-US</dc:language>
  <cp:lastModifiedBy>Jana Perutková</cp:lastModifiedBy>
  <cp:lastPrinted>2016-11-21T11:03:40Z</cp:lastPrinted>
  <dcterms:modified xsi:type="dcterms:W3CDTF">2016-12-09T15:48:12Z</dcterms:modified>
  <cp:revision>23</cp:revision>
  <dc:subject/>
  <dc:title>PowerPoint-Präsentation</dc:title>
</cp:coreProperties>
</file>