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440-00BD-43C7-9121-93B64664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C49-9B92-4E2B-A086-C85F2747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527-7DFB-4585-A5E9-27E547F1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D6A-5551-4451-BB72-91E1CE3A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9A1-C7BB-43DE-920E-F627BDAD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847-1210-4221-B2A3-03C09030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25B-F7A8-41F3-A05E-B5EA1F45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B73-37F0-470A-8C62-96689339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4D7-F07A-4642-BFC7-253EF4C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8D1-1C91-4D48-9C71-B682286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6BA-222A-42D1-BC5B-4F727C0E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DAA-9F71-4D9B-AEE3-7E56FA9E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E. Th. Hilscher - MG Mitteleuropas - Brno WS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8187-D81F-49CD-92E2-2E8087CC9F9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446040" y="2184840"/>
            <a:ext cx="8078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feld 1"/>
          <p:cNvSpPr/>
          <p:nvPr/>
        </p:nvSpPr>
        <p:spPr>
          <a:xfrm>
            <a:off x="741600" y="1989000"/>
            <a:ext cx="31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rgertum/Städ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ivil society/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llipse 2"/>
          <p:cNvSpPr/>
          <p:nvPr/>
        </p:nvSpPr>
        <p:spPr>
          <a:xfrm>
            <a:off x="250920" y="3500280"/>
            <a:ext cx="3241440" cy="2953080"/>
          </a:xfrm>
          <a:prstGeom prst="ellipse">
            <a:avLst/>
          </a:prstGeom>
          <a:solidFill>
            <a:srgbClr val="c6d9f1"/>
          </a:solidFill>
          <a:ln cap="rnd"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llipse 3"/>
          <p:cNvSpPr/>
          <p:nvPr/>
        </p:nvSpPr>
        <p:spPr>
          <a:xfrm>
            <a:off x="2411280" y="3213000"/>
            <a:ext cx="4248360" cy="1490760"/>
          </a:xfrm>
          <a:prstGeom prst="ellipse">
            <a:avLst/>
          </a:prstGeom>
          <a:solidFill>
            <a:srgbClr val="f2dcd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Gerade Verbindung mit Pfeil 5"/>
          <p:cNvCxnSpPr/>
          <p:nvPr/>
        </p:nvCxnSpPr>
        <p:spPr>
          <a:xfrm flipV="1">
            <a:off x="3276360" y="5013000"/>
            <a:ext cx="2951640" cy="288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41" name="Abgerundetes Rechteck 9"/>
          <p:cNvGrpSpPr/>
          <p:nvPr/>
        </p:nvGrpSpPr>
        <p:grpSpPr>
          <a:xfrm>
            <a:off x="5559480" y="3840120"/>
            <a:ext cx="3060720" cy="2378160"/>
            <a:chOff x="5559480" y="3840120"/>
            <a:chExt cx="3060720" cy="2378160"/>
          </a:xfrm>
        </p:grpSpPr>
        <p:pic>
          <p:nvPicPr>
            <p:cNvPr id="142" name="Abgerundetes Rechteck 9" descr=""/>
            <p:cNvPicPr/>
            <p:nvPr/>
          </p:nvPicPr>
          <p:blipFill>
            <a:blip r:embed="rId1"/>
            <a:stretch/>
          </p:blipFill>
          <p:spPr>
            <a:xfrm>
              <a:off x="5559480" y="3840120"/>
              <a:ext cx="306072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94480" y="3975120"/>
              <a:ext cx="27954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</a:rPr>
                <a:t>Hof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feld 1"/>
          <p:cNvSpPr/>
          <p:nvPr/>
        </p:nvSpPr>
        <p:spPr>
          <a:xfrm>
            <a:off x="609840" y="1844640"/>
            <a:ext cx="8151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usik der Stad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ädtische Musiker/“Turner“ (Zunft)/musicians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own (musician´s gui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rche)/fraternities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chu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 der Straße/music at the str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Öffentliches Vergnügen (Tanz, Harfenisten, Jahrmarkt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ublic feasts and amus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ater/thea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/representation (v.a. landesfürstl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Reichsstäd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feld 1"/>
          <p:cNvSpPr/>
          <p:nvPr/>
        </p:nvSpPr>
        <p:spPr>
          <a:xfrm>
            <a:off x="250920" y="1700280"/>
            <a:ext cx="8785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ruderschaften/fratern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ürgertum bzw. Bürgertum &amp; Adel/civil society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ddle class &amp;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zialer und religiöser Aspekt/social and religious asp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ammenschluss einer sozialen Gruppe („Solidargemeinschaft“)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ederation of a social group (community of solida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ligiöse Feste/liturgical fe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llfahrten und Prozessionen und Engagement bei Prozess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 Stadt/ processions and engagement at pro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3. Aufgaben in der Stadtverwaltung/duties (z.B./e.g. Nikolai-Bruderschaft in Wi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feld 1"/>
          <p:cNvSpPr/>
          <p:nvPr/>
        </p:nvSpPr>
        <p:spPr>
          <a:xfrm>
            <a:off x="778320" y="1628640"/>
            <a:ext cx="780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irche/Klöster – church/monast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iturgie/litu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ganist/Kapelle – organist/cha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omposition/com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chulen (Knaben &amp; Mädchen)/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ausbildung (Knaben)/education in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/Stiftungen – fraternities/do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llfahrten/Prozessionen – pilgrimage/proc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ildergebnis für kirchenmusik barock"/>
          <p:cNvPicPr/>
          <p:nvPr/>
        </p:nvPicPr>
        <p:blipFill>
          <a:blip r:embed="rId1"/>
          <a:stretch/>
        </p:blipFill>
        <p:spPr>
          <a:xfrm>
            <a:off x="4356000" y="404640"/>
            <a:ext cx="4095720" cy="33055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1"/>
          <p:cNvSpPr/>
          <p:nvPr/>
        </p:nvSpPr>
        <p:spPr>
          <a:xfrm>
            <a:off x="250920" y="1844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onzil von Trient (1545-1563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einheitlichung/standard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gulation/reg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rikte Vorgaben (auch für die Musik) / strict rules (also for church mus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https://encrypted-tbn3.gstatic.com/images?q=tbn:ANd9GcQiqG6gSg04z7gJxZXJz5U6KqCWEcYK7RSrlwbwQzxF4heR1_AXf7EmJnYI"/>
          <p:cNvPicPr/>
          <p:nvPr/>
        </p:nvPicPr>
        <p:blipFill>
          <a:blip r:embed="rId2"/>
          <a:stretch/>
        </p:blipFill>
        <p:spPr>
          <a:xfrm>
            <a:off x="468360" y="386064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ildergebnis für piaristen"/>
          <p:cNvPicPr/>
          <p:nvPr/>
        </p:nvPicPr>
        <p:blipFill>
          <a:blip r:embed="rId3"/>
          <a:stretch/>
        </p:blipFill>
        <p:spPr>
          <a:xfrm>
            <a:off x="4643280" y="406080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Textfeld 2"/>
          <p:cNvSpPr/>
          <p:nvPr/>
        </p:nvSpPr>
        <p:spPr>
          <a:xfrm>
            <a:off x="2544120" y="60548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esuiten/Jesuit order - S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feld 3"/>
          <p:cNvSpPr/>
          <p:nvPr/>
        </p:nvSpPr>
        <p:spPr>
          <a:xfrm>
            <a:off x="6951600" y="58546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iaristen - 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1"/>
          <p:cNvSpPr/>
          <p:nvPr/>
        </p:nvSpPr>
        <p:spPr>
          <a:xfrm>
            <a:off x="755640" y="2060640"/>
            <a:ext cx="67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Mes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Ordinarium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Propri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yr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Intro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loria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Gra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redo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Offerto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an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nedic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gnus Dei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Gerade Verbindung mit Pfeil 3"/>
          <p:cNvCxnSpPr/>
          <p:nvPr/>
        </p:nvCxnSpPr>
        <p:spPr>
          <a:xfrm flipH="1">
            <a:off x="2268000" y="335736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Gerade Verbindung mit Pfeil 6"/>
          <p:cNvCxnSpPr/>
          <p:nvPr/>
        </p:nvCxnSpPr>
        <p:spPr>
          <a:xfrm>
            <a:off x="2268000" y="3357720"/>
            <a:ext cx="1080" cy="358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Gerade Verbindung mit Pfeil 8"/>
          <p:cNvCxnSpPr/>
          <p:nvPr/>
        </p:nvCxnSpPr>
        <p:spPr>
          <a:xfrm>
            <a:off x="2268360" y="386028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Gerade Verbindung mit Pfeil 10"/>
          <p:cNvCxnSpPr/>
          <p:nvPr/>
        </p:nvCxnSpPr>
        <p:spPr>
          <a:xfrm flipH="1">
            <a:off x="2339280" y="3860640"/>
            <a:ext cx="2088360" cy="4327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Gerade Verbindung mit Pfeil 12"/>
          <p:cNvCxnSpPr/>
          <p:nvPr/>
        </p:nvCxnSpPr>
        <p:spPr>
          <a:xfrm>
            <a:off x="2339640" y="4292280"/>
            <a:ext cx="208836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Gerade Verbindung mit Pfeil 14"/>
          <p:cNvCxnSpPr/>
          <p:nvPr/>
        </p:nvCxnSpPr>
        <p:spPr>
          <a:xfrm flipH="1">
            <a:off x="2700000" y="4292280"/>
            <a:ext cx="1728000" cy="577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Gerade Verbindung mit Pfeil 16"/>
          <p:cNvCxnSpPr/>
          <p:nvPr/>
        </p:nvCxnSpPr>
        <p:spPr>
          <a:xfrm>
            <a:off x="2700360" y="4868640"/>
            <a:ext cx="28800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Gerade Verbindung mit Pfeil 18"/>
          <p:cNvCxnSpPr/>
          <p:nvPr/>
        </p:nvCxnSpPr>
        <p:spPr>
          <a:xfrm flipH="1">
            <a:off x="2987280" y="5444640"/>
            <a:ext cx="14472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2" name="Gerade Verbindung mit Pfeil 20"/>
          <p:cNvCxnSpPr/>
          <p:nvPr/>
        </p:nvCxnSpPr>
        <p:spPr>
          <a:xfrm>
            <a:off x="3058920" y="5805000"/>
            <a:ext cx="136908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feld 1"/>
          <p:cNvSpPr/>
          <p:nvPr/>
        </p:nvSpPr>
        <p:spPr>
          <a:xfrm>
            <a:off x="858600" y="1341360"/>
            <a:ext cx="46774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Ves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ro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ym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salmen (2-5) plus Antip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esung/Lec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mil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sponsor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gnifi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ürbitten/Orat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ater noster (Vespermelodi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feld 1"/>
          <p:cNvSpPr/>
          <p:nvPr/>
        </p:nvSpPr>
        <p:spPr>
          <a:xfrm>
            <a:off x="564840" y="1916280"/>
            <a:ext cx="576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rdenstheater/theater at or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suiten, Piaristen, Benedikt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feld 2"/>
          <p:cNvSpPr/>
          <p:nvPr/>
        </p:nvSpPr>
        <p:spPr>
          <a:xfrm>
            <a:off x="717840" y="3357720"/>
            <a:ext cx="7735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gen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sche &amp; religiöse Inh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k als Mittel der Verstärkung des Ausdrucks (Bekehrung, Besserung)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unter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cal &amp; religious asp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c used to intensify these aspects (conversion, improv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fangs ohne Musik, dann wachsender Musikanteil/first without music, but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creasing mus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nge Anbindung an Adel und Hof/close to nobility and co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feld 1"/>
          <p:cNvSpPr/>
          <p:nvPr/>
        </p:nvSpPr>
        <p:spPr>
          <a:xfrm>
            <a:off x="717840" y="1916280"/>
            <a:ext cx="8186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el/no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andadel ↔ Hofadel /country or lan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ntry ↔ court n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öse Aspekte (Stiftungen!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ous aspects (foundation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ildung und Hofdienst bzw. Landesdiens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ducation and service as political represent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f the estates or at the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feld 1"/>
          <p:cNvSpPr/>
          <p:nvPr/>
        </p:nvSpPr>
        <p:spPr>
          <a:xfrm>
            <a:off x="179280" y="1700280"/>
            <a:ext cx="8929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präsentation/repres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der eigenen Familie/representing the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eines Amtes/representing an official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präsentation des Kaisers/Königs / representing the king/empe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litärdienst/Military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 und Musik (Hofkünste)/Arts and music (court 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afik 2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6622920" cy="5398920"/>
          </a:xfrm>
          <a:prstGeom prst="rect">
            <a:avLst/>
          </a:prstGeom>
          <a:ln w="0">
            <a:noFill/>
          </a:ln>
        </p:spPr>
      </p:pic>
      <p:pic>
        <p:nvPicPr>
          <p:cNvPr id="123" name="Textfeld 3" descr=""/>
          <p:cNvPicPr/>
          <p:nvPr/>
        </p:nvPicPr>
        <p:blipFill>
          <a:blip r:embed="rId2"/>
          <a:stretch/>
        </p:blipFill>
        <p:spPr>
          <a:xfrm>
            <a:off x="171360" y="3578400"/>
            <a:ext cx="7556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feld 1"/>
          <p:cNvSpPr/>
          <p:nvPr/>
        </p:nvSpPr>
        <p:spPr>
          <a:xfrm>
            <a:off x="715320" y="1844640"/>
            <a:ext cx="8129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/Königshof – emperor´s/king´s cou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is 1620/22: mehrere Residenzstädte (Wien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ntil 1620/22: a bundle of residences (Vienna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ach 1620/22: Wien wird Reichshaupt- und Residenzstadt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1620/22: residence in Vienna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of wächst zur enormer Größe in der Zeit von Ferdinand II. bis Karl VI. 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1619-17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urt is encreasing to enormous dimensions from Ferdinand II. to Karl V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r Stil (Barock) und neue Gattungen (Oper, Oratorium, große höfisc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estinszenierungen, v.a. in Zusammenhang mit Hochzei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style (baroque) and new genres (opera, oratorio, large fe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. at weddings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feld 1"/>
          <p:cNvSpPr/>
          <p:nvPr/>
        </p:nvSpPr>
        <p:spPr>
          <a:xfrm>
            <a:off x="538560" y="1700280"/>
            <a:ext cx="8489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arock/baro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chtigste Gattung/most important gen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per bzw. musikdramatische Werke / opera/musical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mmermusik/Instrumentalmusik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hamber music/instrumental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nmusik/church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feld 1"/>
          <p:cNvSpPr/>
          <p:nvPr/>
        </p:nvSpPr>
        <p:spPr>
          <a:xfrm>
            <a:off x="862200" y="1773360"/>
            <a:ext cx="707976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fmusikkapelle/imperial chapel – Ferdinand 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pellmeister: Giov. Priuli/Giov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izekapellmeister: Pietro Ver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rganisten: A. Taddei, A. Bontempo, G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nger: 18 Männer, 12 Knaben (1 Praecep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strumentalisten und Trompeter: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Heerpau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Calk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Quelle: L. R. v. Köchel, 1869, 56-5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feld 1"/>
          <p:cNvSpPr/>
          <p:nvPr/>
        </p:nvSpPr>
        <p:spPr>
          <a:xfrm>
            <a:off x="194760" y="1268280"/>
            <a:ext cx="84636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ofmusikkapelle – Ferdinand III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apellmeister (1): Giov. Valentini/Ant. Bert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zekapellmeister (1): P. Verdina/Felice S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ganisten (4): J. A. Platzer. G. Arrigoni, W. Ebner, J.J. Froberger, C. F. Simonell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. Neidlinger, M. Eb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assisten (7):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noristen (8):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isten (5):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opranisten (5):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ängerknaben: ca.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strumentalisten (23): 4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8-9 Tromp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2-5 Kopis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Lautenmacher (Instrumentenbauer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-3 Kalkan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Die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rafik 1" descr=""/>
          <p:cNvPicPr/>
          <p:nvPr/>
        </p:nvPicPr>
        <p:blipFill>
          <a:blip r:embed="rId1"/>
          <a:srcRect l="21587" t="6581" r="4059" b="5590"/>
          <a:stretch/>
        </p:blipFill>
        <p:spPr>
          <a:xfrm>
            <a:off x="2124000" y="1413000"/>
            <a:ext cx="6799320" cy="5195880"/>
          </a:xfrm>
          <a:prstGeom prst="rect">
            <a:avLst/>
          </a:prstGeom>
          <a:ln w="0">
            <a:noFill/>
          </a:ln>
        </p:spPr>
      </p:pic>
      <p:pic>
        <p:nvPicPr>
          <p:cNvPr id="125" name="Textfeld 2" descr=""/>
          <p:cNvPicPr/>
          <p:nvPr/>
        </p:nvPicPr>
        <p:blipFill>
          <a:blip r:embed="rId2"/>
          <a:stretch/>
        </p:blipFill>
        <p:spPr>
          <a:xfrm>
            <a:off x="262080" y="3786120"/>
            <a:ext cx="749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feld 1"/>
          <p:cNvSpPr/>
          <p:nvPr/>
        </p:nvSpPr>
        <p:spPr>
          <a:xfrm>
            <a:off x="498600" y="1557360"/>
            <a:ext cx="8034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EITPLAN /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.: 1619-16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arock setzt sich durch/rise of ba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18-1648: 30jähriger Krieg/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ca. 1620: Wien wird „immerwährende“ Residenz/Vienna becomes residence of the imperial cour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I.: 1637-165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48: Westfälischer Friede/Westphalian Treaty: end of 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468360" y="170028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V: 1653/16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.: 1658-17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2. Wiener Türkenbelagerung/2nd siege of Vienna 16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1680 ff. Pest/plague (Prag, Wien/Praha, Vien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.: 1705-17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[III.] VI: 1705-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e des Hochbarock/high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s ca./c. 1735-1750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feld 1"/>
          <p:cNvSpPr/>
          <p:nvPr/>
        </p:nvSpPr>
        <p:spPr>
          <a:xfrm>
            <a:off x="324000" y="162864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ria Theresia: 1740-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(Albrecht) VII.: 1740-17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(Stephan) I.: 1745-17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Neuer Stil/new tone: zwischen Spätba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nd Vorklassik/between late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and pre-classic 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I.: 1765-17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che Refome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m and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feld 1"/>
          <p:cNvSpPr/>
          <p:nvPr/>
        </p:nvSpPr>
        <p:spPr>
          <a:xfrm>
            <a:off x="395280" y="1773360"/>
            <a:ext cx="86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I: 1790-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Öffentliches Konzertwesen/public conc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lage/editors &amp; pr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eine/music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Französische Revolution &amp; Napoleonische Kriege/French Revolution &amp; Napoleo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II./I. (1792-1806/1804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Wiener Kongress/Congress of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iederme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234000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Grafik 2" descr=""/>
          <p:cNvPicPr/>
          <p:nvPr/>
        </p:nvPicPr>
        <p:blipFill>
          <a:blip r:embed="rId2"/>
          <a:stretch/>
        </p:blipFill>
        <p:spPr>
          <a:xfrm>
            <a:off x="5576760" y="1870200"/>
            <a:ext cx="3276720" cy="377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Bildergebnis für biedermeier musik"/>
          <p:cNvPicPr/>
          <p:nvPr/>
        </p:nvPicPr>
        <p:blipFill>
          <a:blip r:embed="rId3"/>
          <a:stretch/>
        </p:blipFill>
        <p:spPr>
          <a:xfrm>
            <a:off x="250920" y="3848040"/>
            <a:ext cx="4608360" cy="281160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3"/>
          <p:cNvSpPr/>
          <p:nvPr/>
        </p:nvSpPr>
        <p:spPr>
          <a:xfrm>
            <a:off x="34920" y="170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iserhof/Hof/A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imperial) court &amp; no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4"/>
          <p:cNvSpPr/>
          <p:nvPr/>
        </p:nvSpPr>
        <p:spPr>
          <a:xfrm>
            <a:off x="5732640" y="692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irche/Klöster/Bruderschaf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hurch/monasteries/frater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5"/>
          <p:cNvSpPr/>
          <p:nvPr/>
        </p:nvSpPr>
        <p:spPr>
          <a:xfrm>
            <a:off x="5364000" y="5908680"/>
            <a:ext cx="36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ürgertum/Stadt(gemeind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ivil society, middle class/municipal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feld 1"/>
          <p:cNvSpPr/>
          <p:nvPr/>
        </p:nvSpPr>
        <p:spPr>
          <a:xfrm>
            <a:off x="2708640" y="371628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n 1600 bis ca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rom 1600 to c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0:44:20Z</dcterms:created>
  <dc:creator>Hilscher, Elisabeth</dc:creator>
  <dc:description/>
  <dc:language>en-US</dc:language>
  <cp:lastModifiedBy>Jana Perutková</cp:lastModifiedBy>
  <cp:lastPrinted>2016-10-04T08:01:33Z</cp:lastPrinted>
  <dcterms:modified xsi:type="dcterms:W3CDTF">2016-12-09T15:26:44Z</dcterms:modified>
  <cp:revision>44</cp:revision>
  <dc:subject/>
  <dc:title>PowerPoint-Präsentation</dc:title>
</cp:coreProperties>
</file>