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AD8-B3A0-4966-867E-33A21D44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832-2BEF-4ABD-B37D-C87F789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28F59-8C3A-42AB-937F-855E92A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E7DE6-0BBF-4F56-B4A1-E5708F94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36E1D-2852-4291-94CA-18D87D19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EED5F-CC45-4BFC-9FB6-9EF5273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A2BC1-CB2B-4D23-9D7F-42B88D2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2EDD8-77AA-4ACC-B45A-D7B946F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BB29D-1CF7-45D9-B2CE-950163B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7682ED-59BF-43BB-BF89-CE3778D3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E082D-E55F-4C67-91CE-D5D4FF79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13C7A-5846-43C6-BDF1-4788027A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264-1C26-4018-8378-D33DAD8B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96A4AF-A793-4013-924F-84904DB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4C1E5-D45B-4834-98C1-3431A761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88F87D-86AA-4656-B6FE-F735FF2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1D4656-7AA5-4615-89E6-BF082B2D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09B2D-1D6B-4EAB-BC3A-F693618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947768-09C6-4FC2-8EBE-CA5423F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326E6-4ABB-424A-A68A-FB0F457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AE33C-400B-4367-936A-03A8AEB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5708D-1409-416E-A0DC-693776AB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8EDD9-3AA6-43C3-9456-E701DC1C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B2A-3DB9-4DE3-BE8D-429CA882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3FB5AC-5998-4052-9686-04B0DB03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0D48A-19C0-4F04-AA2B-D833A9DD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D571-FBDE-4F20-B063-88921F1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4ABF5-60BC-4E0F-897B-AA05621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7FBA7-3A26-4388-BB9D-15734F0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36374-0E77-4DE6-9A02-A94329B1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FA7B-2DC7-46BF-A99F-993B1CF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9FC6E-6B2B-4FCF-904D-E19AF185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2EC2-0BEC-4B5B-95A7-BA5888A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84CF-7B9A-4C4F-AC91-CE9F829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02AD-9FFC-4D77-9F3F-C3C0A424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9C64-29C1-47D7-AD6E-97ECF50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2F774-A55D-458E-8823-C6B7A34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6AB8-BD71-4D11-9F2F-7D16DF98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88DCE-6DF9-4432-A00F-E1E4E9C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A0FA-EA3C-4464-80CF-8F32A77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C92BB-F558-479D-9E46-EAD9065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27BE5-A99B-4C8B-9476-DCC7805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9E211-8C53-4FEB-ACB3-54614A0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BE429-5E96-42ED-8F0C-D9E02A5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330A3-23DF-4DA8-9136-2A2F983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EB0FF-EDD6-452F-BF2D-558D067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962DA-1FB5-4E2B-A33D-B595946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DF911-EA2E-4F50-888B-3EC44BE2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104D1-6B82-4939-A1BB-63C01F5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17555-4394-4670-967E-8A9A5538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21074-EF2E-4A98-B1EA-379F50B0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F6798-656E-496E-A8BC-3DDF5A16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C7ED5-645B-438D-9003-D4AFB24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49E4-648B-403B-BA24-445998F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F6002-C86B-4ACE-988B-4DAECF3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77523-FBFE-4DD9-A124-95CDD1B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AB2-6331-4665-91E4-84399BAD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E04D2-5E42-4C9C-BB92-E945CBC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E3F8-9025-4D0F-8348-E8AECCB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058E-6B79-48F4-99D6-1924A5D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93D17-E940-44EB-A9A6-AF822934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EAF6-9822-43F4-A214-A34A93B7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DCC11-84B4-4C2D-952D-C78713A1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E9C11-8012-4AE3-BC0E-9CD5744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151A1-440E-4DE4-B0A4-77DBDF5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B68D3-A561-4872-A39B-0D42ACD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93162-410D-4C69-8876-CF401D77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0F8-0D3B-42FE-8CB0-4F7D07E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1A356-A4FC-4BA8-83E1-66E3676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3E6D7-D794-4EE4-8DFF-EB21201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57669-C9E1-43A1-9CD6-E52436B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7808C-B985-4CBB-8780-F77CE09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5A968-3C97-4848-8E27-2B74123A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6F6DC-E03C-4203-BF26-A159E7A3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5C5FD-56F1-42E1-9C4C-5701851A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4E515-0564-434B-9BFF-E8DEC69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E199F-75D4-463C-A913-F84BC36B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2F715-0CA4-4AEB-BBCB-C4D1ADC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71B-ECA7-4321-A5FC-BABB5FA8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0ABB7-DC70-45F7-96C8-443C751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144C5-5530-405B-B97E-0EA5D4B6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CE2E9-27AA-4B50-8A7F-15C6040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5EA3F-5632-4D3F-8105-C344FD4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64651-1C13-4393-BA6C-F9F7855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41EE4-DFF3-4999-BE6A-C5765F3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22728-F743-4C37-B61D-54CB710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18D67-A8DE-4A3F-BB3C-18BB8E8A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4A56A-D65C-4124-B247-2D9A5958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B9A48-F0D8-460D-B757-5625439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B8A-6BA0-4326-8267-5FC8961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578D0-E3E1-41B8-8C7B-662F0265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ADA91-7B53-4729-9556-AADBF836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1E9BC-198F-4E63-BABC-AB13C773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97D3C-CF49-498B-944A-1FCEC28A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E1397-C5B3-454C-9846-8B8686E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69498-9A67-4A64-B472-D596D36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F3427-DC20-4219-92B7-4D6FD6A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7C10F-6394-46D4-87C4-EB8EFF4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2AACA-0EC4-4423-A90C-BC75AD3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52E38-ABA7-4D23-91A0-6F161EF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228-353F-4FB2-9011-75DE7AB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D0EC4-1A56-4705-9B60-5B33AA7C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6F4C6-49B7-4F59-9B59-8E68DDDA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5F014-7F7D-4A35-9DCE-5F326DD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411AA-0841-49AE-8FBF-943A9A9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8DE80-4D4F-452C-AE79-66E1FE94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67EAD-8C6F-471F-B8D5-02803DD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D27E7-78F9-4386-8D50-94DC6B18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A2719-7DAC-479D-A515-950E1A7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4C306-3217-4B71-A550-C6CEAF21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C8286-7FC0-426A-8D6D-84F9B15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68F-EFB0-4DDD-B900-A33BECA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320D3-44AA-46FE-9592-0AEBAD6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A8FD1-25E5-4490-9B72-10F16148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A9287-F2A7-42D6-9CD5-5AB306B3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7D130-6E50-4A33-986C-56AE7FCA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DCE42-A55E-403E-8418-CCF804D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DF7B7-40E1-4D77-B8E7-0DB8D34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5E877-CA14-4E35-8506-670FC6D5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96F91-B68C-41AA-8EE9-7B61D94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6AF7E-6A36-4123-9936-437B527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96873-8DD8-4A89-9EF1-55BA146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DC7-AD34-427D-8E03-1E571B5F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BB3B6-065F-4169-832C-D0B27D1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C0380-A376-4C24-A96B-8FC38AF5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1BF2C-5D7F-409E-B318-A39747A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7434F-F037-4BDD-903A-E93D413A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22B76-FED6-4D3F-B16C-846398F0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C39C6-DB95-4225-8285-79BDFD08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1EB80-7C7D-45F2-A80F-CA35D41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FCD6F8-8A38-41CD-A770-DFA6FA3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54ABC-B65E-4816-BF8B-56CE407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855EA8-809A-49C9-B26E-2F6D4E8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E3F-84BF-4DB3-B1EB-3E57541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621A3-3170-41B9-A18A-D7E106B9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DCD39-FAED-4D0E-806C-0813764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B12AFB-8A14-4D46-AB38-BA4CCAE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5ED97-E7FD-419E-ACF8-14171E6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341FF-52CC-45AF-9B82-12A1287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395DC-1903-4382-B13B-4C1618B2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A61F2-EBFC-4E15-9726-2FBF7C39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72217-1D9C-4206-B9F6-FC5A35FE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0E8EB-6DD3-413D-B6D2-25710C9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17B8F4-6047-4432-A0A5-A1BE43C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CBE-409F-4892-B788-85C818CCD799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D89-35B0-4F00-9505-AF62AE00AF6A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551-0DDD-429A-AA4B-0431F76F23A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742-F2D4-4593-AD72-738A92277749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AF9-7E92-4F79-B24F-92BBFC62DC4C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77A-9DFF-4EF4-B5EC-D2EA449A042C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C98B-AA4C-425B-812F-B706E176ED5B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257-5F22-471D-9A0A-D5089FAA228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666-A32C-4424-A2F7-D2770280E37F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BEE-01CF-440D-9309-0A12CD593FDA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B92C-7031-4878-9561-3390E29F6FF2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6AD-6D9C-42BA-9F45-8453F32E7912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xfordmusiconline.com/subscriber/article/opr/t114/e4519?q=claudio+monteverdi&amp;search=quick&amp;pos=13&amp;_start=1#firsthit" TargetMode="External"/><Relationship Id="rId2" Type="http://schemas.openxmlformats.org/officeDocument/2006/relationships/hyperlink" Target="http://www.oxfordmusiconline.com/subscriber/article/opr/t114/e4519?q=claudio+monteverdi&amp;search=quick&amp;pos=13&amp;_start=1#firsthit" TargetMode="External"/><Relationship Id="rId3" Type="http://schemas.openxmlformats.org/officeDocument/2006/relationships/hyperlink" Target="http://imslp.org/wiki/Madrigals,_Book_8,_SV_146&#8211;167_(Monteverdi,_Claudio)" TargetMode="External"/><Relationship Id="rId4" Type="http://schemas.openxmlformats.org/officeDocument/2006/relationships/hyperlink" Target="http://imslp.org/wiki/Madrigals,_Book_8,_SV_146&#8211;167_(Monteverdi,_Claudio)" TargetMode="External"/><Relationship Id="rId5" Type="http://schemas.openxmlformats.org/officeDocument/2006/relationships/hyperlink" Target="https://www.discogs.com/Monteverdi-Marazzoli-Le-Po&#232;me-Harmonique-Vincent-Dumestre-Combattimenti/release/3035553" TargetMode="External"/><Relationship Id="rId6" Type="http://schemas.openxmlformats.org/officeDocument/2006/relationships/hyperlink" Target="https://www.discogs.com/Monteverdi-Marazzoli-Le-Po&#232;me-Harmonique-Vincent-Dumestre-Combattimenti/release/3035553" TargetMode="External"/><Relationship Id="rId7" Type="http://schemas.openxmlformats.org/officeDocument/2006/relationships/hyperlink" Target="https://www.discogs.com/Monteverdi-Marazzoli-Le-Po&#232;me-Harmonique-Vincent-Dumestre-Combattimenti/release/3035553" TargetMode="External"/><Relationship Id="rId8" Type="http://schemas.openxmlformats.org/officeDocument/2006/relationships/hyperlink" Target="http://web.archive.org/web/20071109183656/http:/www.geocities.com/vienna/1790/m_works.ht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68000" y="501300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Pavlína Němcová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Filozofická fakulta Masarykovy univerzity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Hudební věda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201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Nadpis 1" descr=""/>
          <p:cNvPicPr/>
          <p:nvPr/>
        </p:nvPicPr>
        <p:blipFill>
          <a:blip r:embed="rId1"/>
          <a:stretch/>
        </p:blipFill>
        <p:spPr>
          <a:xfrm>
            <a:off x="-19080" y="450720"/>
            <a:ext cx="8059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ástupný symbol pro obsah 6" descr=""/>
          <p:cNvPicPr/>
          <p:nvPr/>
        </p:nvPicPr>
        <p:blipFill>
          <a:blip r:embed="rId1"/>
          <a:stretch/>
        </p:blipFill>
        <p:spPr>
          <a:xfrm>
            <a:off x="352440" y="1698480"/>
            <a:ext cx="7680240" cy="425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5320"/>
            <a:ext cx="7680240" cy="406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86120"/>
            <a:ext cx="7680240" cy="3679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7120"/>
            <a:ext cx="7680240" cy="4057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74640"/>
            <a:ext cx="7680240" cy="4502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Emphasis (klimax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47960"/>
            <a:ext cx="7680240" cy="3755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85800"/>
            <a:ext cx="7680240" cy="448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3" descr=""/>
          <p:cNvPicPr/>
          <p:nvPr/>
        </p:nvPicPr>
        <p:blipFill>
          <a:blip r:embed="rId1"/>
          <a:stretch/>
        </p:blipFill>
        <p:spPr>
          <a:xfrm>
            <a:off x="557280" y="1463760"/>
            <a:ext cx="7270560" cy="47242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57551"/>
                </a:solidFill>
                <a:latin typeface="Corbel"/>
              </a:rPr>
              <a:t>Saltus duriusculu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Lamento della ninf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bsa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7680240" cy="3479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680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Corbel"/>
              </a:rPr>
              <a:t>Exclamatio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92d050"/>
                </a:solidFill>
                <a:latin typeface="Corbel"/>
              </a:rPr>
              <a:t>epizeuxis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7030a0"/>
                </a:solidFill>
                <a:latin typeface="Corbel"/>
              </a:rPr>
              <a:t>paronomasia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Corbel"/>
              </a:rPr>
              <a:t>augumentati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631960"/>
            <a:ext cx="7680240" cy="2387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Doprovodné hlasy - imit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24040"/>
            <a:ext cx="7680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839960"/>
            <a:ext cx="768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2440" y="1463400"/>
            <a:ext cx="76802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Slovenská hudba. Revue pre hudobnú kultúru. Ročník XX, č. 3-4. Antológia - renesancia a barok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Bratislava, 1994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Arnold, Denis; Carter, Tim.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Grove Music - Oxford Music Online. Oxford University Press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://www.oxfordmusiconline.com/subscriber/article/opr/t114/e4519?q=claudio+monteverdi&amp;search=quick&amp;pos=13&amp;_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2"/>
              </a:rPr>
              <a:t>start=1#firsthit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ff"/>
                </a:solidFill>
                <a:uFillTx/>
                <a:latin typeface="Corbel"/>
              </a:rPr>
              <a:t>IMSLP, Petrucci Music Library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. Madrigals, Book 8.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3"/>
              </a:rPr>
              <a:t>http://imslp.org/wiki/Madrigals,_Book_8,_SV_146%E2%80%93167_(Monteverdi,_Claudio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4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iscogs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Marazzoli / Le Poème Harmonique, Vincent Dumestre ‎– Combattimenti!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5"/>
              </a:rPr>
              <a:t>https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6"/>
              </a:rPr>
              <a:t>://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7"/>
              </a:rPr>
              <a:t>www.discogs.com/Monteverdi-Marazzoli-Le-Po%C3%A8me-Harmonique-Vincent-Dumestre-Combattimenti/release/3035553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Internet archive, Wayback Machine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, List of Monteverdi's Works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8"/>
              </a:rPr>
              <a:t>http://web.archive.org/web/20071109183656/http://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www.geocities.com/vienna/1790/m_works.ht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Madrigali guerrieri et amorosi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Madrigali_guerrieri_et_amorosi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Lamento della Ninfa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Lamento_della_Ninfa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orbel"/>
              </a:rPr>
              <a:t>Použitá literatura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* 1567 Cremo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pr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8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second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9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terz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59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art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int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sest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Concerto. Sett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†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1643 Benátk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e canzonette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, Benátky 165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Claudi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 Monteverd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por s Giovannim Artusi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-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Seconda pratica ouero Perfettione della moderna mus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iulio Caesare Monteverdi –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Dichiaratione della lettera stampatanel Quinto libro de suoi Madregal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iprian de Rore, Marca‘Antonio Ingegneri, Luca Marenzio, Giaches de Wert, Luzzasco Luzzaschi, Jacopo Peri, Giulio Caccini a nejvznešenější duchvéy, kteří prý rozumí pravému umění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, et amorosi con alcuni opuscoli in genere rappresentativo, che saranno per brevi episodii frà i canti senza gesto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Guerrier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rbel"/>
              </a:rPr>
              <a:t>Lamento della ninf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56364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Fébus ještě nepřinesl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ové jitro světu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ze svého domu vyběh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ívka v plném krásy květu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Její bledou tvář zřetelně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olest poznamena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nová chvíle zase nový vzdech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 hrudi jí vyrvala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ak zašlapala květy do země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bíhala kolem bez cíle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svou lásku ztracenou takt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aklínala zoufal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havea Febo anc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Recato al mondo il dí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una donzella fu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Del proprio albergo uscí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ul pallidetto v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corgeasi il suo dolor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esso gli venia sci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Un gran sospir dal cor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calpestando fi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Errava hor qua, hor là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I suoi perduti am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piangendo v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42920" y="671040"/>
            <a:ext cx="38862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o“, </a:t>
            </a: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vzdychla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a zůstala stát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s pohledem k nebesům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Lásko, kde, ach, kde je ta věrnost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co mi ten zrádce sliboval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rať mi miláčka jak býval dří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mne miloval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nebo žití mne zba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ť trápit se nemusím dál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Nepatří mi již jeho dech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yť se přiblížil kdykoli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ne, Bože, ušetři mne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ej, ať ta rána víc nebolí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ach ne, ne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Snad že mne trápí pr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šechnu mou pýchu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což vrátí-li se, když se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 modlitbách zřeknu hříchů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674640"/>
            <a:ext cx="266544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Dice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il ciel mirando,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il piè fermo,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 dove, dov’è la fè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el traditor giurò?“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Fa che ritorni il m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 com’ei pur fu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O tu m’ancidi, ch’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mi tormenti più.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n vo’ più ch’ei sosp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lontan da me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, no che i mart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iù non dirammi af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Ah miserella, ah più, no, no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erché di lui mi struggo,Tutt’orgoglioso sta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he sí, che sí se’l fugg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ncor mi pregherà?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Corbel"/>
              </a:rPr>
              <a:t>Amo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Obdélník 4"/>
          <p:cNvSpPr/>
          <p:nvPr/>
        </p:nvSpPr>
        <p:spPr>
          <a:xfrm>
            <a:off x="6084720" y="844560"/>
            <a:ext cx="278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ciglio ha più ser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olei, che’l mio non è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Già non rinchiude in s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mor sí bella 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mai sí dolci bac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Da quella bocca havra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più soavi, ah tac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Taci, che troppo il sai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Obdélník 5"/>
          <p:cNvSpPr/>
          <p:nvPr/>
        </p:nvSpPr>
        <p:spPr>
          <a:xfrm>
            <a:off x="6084720" y="3645000"/>
            <a:ext cx="295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… ať si jeho oči září víc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ž oči mé, nezaselas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nezavřela v jeho hrudi tak krásný cit,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rty mé, sladkost těch polibků již neokusíte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budou něžnější, ach mlčte ústa má, dobře to víte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70800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tak uprostřed vzlyků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zvedla k nebi svůj hl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rávě tak v srdci milujícím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mísí oheň a mráz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tra sdegnosi pi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argea le voci al ciel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ne’ cori am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Mesce amor fiamma, e gel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21:55:54Z</dcterms:created>
  <dc:creator>Pavlina</dc:creator>
  <dc:description/>
  <dc:language>en-US</dc:language>
  <cp:lastModifiedBy>Jana Perutková</cp:lastModifiedBy>
  <dcterms:modified xsi:type="dcterms:W3CDTF">2016-12-11T19:54:27Z</dcterms:modified>
  <cp:revision>95</cp:revision>
  <dc:subject/>
  <dc:title>Lamento della ninfa</dc:title>
</cp:coreProperties>
</file>