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2940-E069-4C9A-9C16-B06773CF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08A9-7AAD-4500-89A5-272FEC76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C51AC1-3B1D-43F3-BDE1-84294A91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344662-B456-4343-B5D5-F391D550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C3D5FB-E524-4916-BEC6-A60CDD70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377912-2F61-4133-A36C-1C153419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2614F3-CEA0-4DB0-9572-76DD8905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E7F5F6-3889-4A73-B869-D3097ABA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31F5D6-041E-46AA-BBFC-75BD244A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15CE3F-C726-45BC-8B15-B8BC793E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5A6A14-92F6-4D4D-8529-1D565BCB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668EC4-627D-4CEB-A44E-9F07F5D7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38E-F4AE-429B-B013-60A4CE2D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BB7969-B38D-46A2-95CA-370C05B2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A57785-FC22-4C6B-89F1-7E539E9A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717153-D446-467C-8675-7D4A3BCE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154BDD-1406-4CFB-9AAD-EEC47D92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B2F787-7457-466F-ACDA-C39B9179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7FCC6D-002A-43E2-9068-234AAC5D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B6AECE-40D5-47A4-86D2-1A9954E2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4D28E6-4F9B-4AE2-AC6E-7F6C17F2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D05C66-3ACE-4B62-80B6-66CF0770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40D5BB-D9F9-4EA8-B8A8-F065F9C6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E2BF-9966-4A65-8A37-1982D474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402706-BD00-48A4-B53E-CD75AC91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9CC56-7F22-423F-A39F-D914F820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058E1-0235-4C38-A57F-CDF7EBF9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8CCC6-1488-48E9-946E-F0C37557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0E44E-8840-458D-B034-5CCFF3DD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EE43C-14C1-454A-9D69-541B96ED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2E3A7-311B-4A9D-AC3F-340A6A9E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6942C-8E10-4AE1-89F1-7422A070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04726-6F80-4BE4-B5C0-47B91A68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31B8E-A929-4BC9-8878-31190E35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C8613-FA9B-421E-8A60-6DE00E94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F55DC-E44D-4C67-818C-CC81800A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624E2-E6F0-4566-9832-8D07DE69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45B90-5498-43D9-BB7A-0377B5F5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C08F4-E326-4B1D-AEF7-DC044150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D7BC4-576C-48ED-BC60-22539B05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E3048-1467-468A-B28E-FFE531F3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ED799-CCB1-4CC8-9250-794A8084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5E87F-76B2-4325-8F70-14FA4820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004E7-667A-4645-B44E-4BCA4801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E77E3-8740-42B3-AE1D-BCE15F40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8B5BE-3B9C-479C-9400-5891A762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F201B-AC7A-4B66-B579-976B0395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F7D11-F76E-4418-8281-198B6685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68DA3-891E-4CB5-93FB-9C0038F0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A058E-37BB-4927-8C75-476618A9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03AD3-104D-4B0F-ADCE-F122253A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8D40E-7F34-4C18-A70C-5647E09A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45148-ACC9-4200-9D0E-2FE0D706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87F67-31B9-4EB9-81E0-08CB413D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63830-8714-4A6A-BC03-CB9DAE38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2F5AD-E1A9-4586-8751-C380D3F3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D902-8998-4641-AFFE-59722C9B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AEFB1-88C4-4CF1-9D35-1C96D8A5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B2723-89A1-41ED-819F-145B3FE9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C0CA5-8E78-445C-8658-CBE50E33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DC5F1-ED4A-4B09-AA59-D8829B94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C76A4-EBE5-4367-9E53-80164CCE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5963B4-7D1D-4F40-B533-2E2AC929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0914D9-9B09-417E-8618-B78C3454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83D2C3-8E17-4DE2-A3ED-49AB86F9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D59243-32A9-4835-BF37-96A13E0E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E44DE7-5002-4898-A32D-127550A1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D876-0017-494E-9DE0-8FADF6C8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F91369-7524-4871-A6CD-B02C6E38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9C83C-3059-4EA5-A23E-46FA3B50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F2281-EA62-4AEB-84B8-B6814DC0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E69EB1-708E-42A7-87B6-CE163AFA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F71D3B-5BFE-4E51-9D7D-6D7045F2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08D6E-B4AF-4D7C-BEE7-96723873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11908B-9015-4F24-8782-FA664E3C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D89F57-BDEC-46C8-9A6B-788EFE91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1E1367-3612-4F2B-91BD-DA00AC82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0694CF-E575-4482-942B-6B507291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D85D-AA3A-4E4D-9217-145181CD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AA92B0-6D90-4CE3-9594-3E233449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B45600-99D8-4B27-9583-AA2BA62C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4C1A3B-E013-41D3-BA6E-C2AD6D60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28E60F-F83D-4C01-BC3E-4830CD2F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F3DF6F-2FAB-447B-AF44-4991502E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4FF6AC-B5EC-4F05-A237-5DE85BFC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F68535-8A80-4DB5-B49F-ECE0BBDF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58E2E1-7CB0-4D85-94CD-98F35743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F12027-1F4D-42FA-B984-68F326F0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874555-3800-4702-A35D-8A444391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C6CA-2578-4845-BC8D-EAAB928C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E18F3D-5483-412E-B44E-ABC2EA63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F8ED1E-0762-495D-B983-F8A3AEEA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152CB3-9556-493F-94AC-68C48299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42DE9C-2264-41E5-98FF-46372D87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4A3513-102A-470F-B633-4B0CF78B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47A86C-DCB4-4CC6-94AF-7BF34339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082AED-0CCF-4F71-9E4B-A6749E6F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C908FE-4292-4027-93EE-F5292468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23FCE3-94A6-4340-BAC9-E50AE7BC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609912-1CA1-46F4-984E-0D85AFF7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3D80-E1DF-47C0-9733-FE41C27C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4722CF-6DDB-4470-B166-BE225164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046FB1-B67F-4C87-9153-EAA102A9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2C2036-134A-4F8B-8211-2AAAAF84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719620-3E6F-4F87-B6B9-3518CCA2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2DBA9B-9311-4EE8-B686-A68247DC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2C68D8-6BDF-4F19-86C3-731AFFF8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34F85C-59D4-4D1D-A094-CED50E13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822FCA-A25F-44AB-8CD4-3DBE04BB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77196A-FC74-4F18-94A9-645071CE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77E1F4-A30F-4C70-AB43-A4DF9813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27D2-DD92-4DB6-8A47-53A04FAB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14F302-D91D-4714-B1DF-C328FB75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7E1D1C-E50E-486B-BC9B-733EE756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550DA6-AB24-4CF3-91AA-3421D1C5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62EEC3-E957-433F-BDB4-FA8587DD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DA879C-A36B-40C5-A5DB-D5279D05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A7C002-8952-4E74-8FB1-E75CB43E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14F998-2883-41A7-9342-E09AE2F5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671AB4-F161-434D-B34E-C714F145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F51C25-9338-4A2E-8ACF-785BCCD6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BE6EF5-15C0-4AB9-AE04-01E357D7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224D-4E04-4045-A68E-F6E6169D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EADF32-0D96-40CA-BEDE-E333E77C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B61998-660C-4EE5-941A-C513B539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80CE19-8B76-4548-9A49-9166A12F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D42934-8F01-464C-8B63-2135F2C8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36960C-FCF7-450C-B336-86C85277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CC2D32-BBA3-4FBB-BC17-C360AEC2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76C922-63C3-4F93-8084-FFF941B4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98AA14-0113-485B-8C2E-81D28828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228901-573B-41A5-8226-7A54670C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71FE5E-1BBE-4CE2-BC08-B52830BD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2344-1F47-435D-B991-4CFDFBBF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90D18B-90C0-4D0F-AF1F-CDF9F20C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025FCC-9194-4FDD-8EA9-1DE1E464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F2C6C7-854A-4E32-AD8A-69C1145A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090038-26CC-45C1-B7E6-FD6F4639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08D920-004D-46E1-B649-6BF47342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F44A6C-5B00-4924-B68A-CD35D1B6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BE579A-56B3-4645-8D75-CA8BD613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033763-9E9F-4855-A7E9-84C3AC31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2F89BD-594A-4F5D-8B29-4E09E71D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C87AA3-9452-45BE-A2EA-AE349473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7FF3-765A-4CB5-8F37-E749F4C276A6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Straight Connector 11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9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F3FC-2EAB-4FC4-8442-8D4A8207C932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30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F65D-566B-4859-BEA7-42FF9A78E99F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0062-E02B-4B70-B463-8C52674B7CCE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4"/>
          <p:cNvSpPr/>
          <p:nvPr/>
        </p:nvSpPr>
        <p:spPr>
          <a:xfrm>
            <a:off x="0" y="4743360"/>
            <a:ext cx="9144000" cy="211464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Straight Connector 15"/>
          <p:cNvSpPr/>
          <p:nvPr/>
        </p:nvSpPr>
        <p:spPr>
          <a:xfrm>
            <a:off x="0" y="4714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4370-C9C3-4265-BFCD-036547E256E3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C4D5-6CD0-4AFD-948C-3AC25ADF4899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Straight Connector 17"/>
          <p:cNvSpPr/>
          <p:nvPr/>
        </p:nvSpPr>
        <p:spPr>
          <a:xfrm>
            <a:off x="-4680" y="182880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1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A132-5299-4FF6-A057-3FDDBAF6785E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4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23D0-7873-44B6-98DC-F140677DCF7F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7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F189-9B48-4623-9826-9940CFD46C04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8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20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6A69-D1CD-414E-8944-243D98BC6F88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1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F77E-D40F-48AE-861A-B60E313FEC01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4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Straight Connector 21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171360" indent="-1713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4520" indent="-16524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517680" indent="-16992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689040" indent="-17316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689040" indent="-17316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2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2613-DB3A-4705-BEBB-C317B3FA44AE}" type="slidenum">
              <a:rPr b="1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ftr" idx="27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oxfordmusiconline.com/subscriber/article/opr/t114/e4519?q=claudio+monteverdi&amp;search=quick&amp;pos=13&amp;_start=1#firsthit" TargetMode="External"/><Relationship Id="rId2" Type="http://schemas.openxmlformats.org/officeDocument/2006/relationships/hyperlink" Target="http://www.oxfordmusiconline.com/subscriber/article/opr/t114/e4519?q=claudio+monteverdi&amp;search=quick&amp;pos=13&amp;_start=1#firsthit" TargetMode="External"/><Relationship Id="rId3" Type="http://schemas.openxmlformats.org/officeDocument/2006/relationships/hyperlink" Target="http://imslp.org/wiki/Madrigals,_Book_8,_SV_146&#8211;167_(Monteverdi,_Claudio)" TargetMode="External"/><Relationship Id="rId4" Type="http://schemas.openxmlformats.org/officeDocument/2006/relationships/hyperlink" Target="http://imslp.org/wiki/Madrigals,_Book_8,_SV_146&#8211;167_(Monteverdi,_Claudio)" TargetMode="External"/><Relationship Id="rId5" Type="http://schemas.openxmlformats.org/officeDocument/2006/relationships/hyperlink" Target="https://www.discogs.com/Monteverdi-Marazzoli-Le-Po&#232;me-Harmonique-Vincent-Dumestre-Combattimenti/release/3035553" TargetMode="External"/><Relationship Id="rId6" Type="http://schemas.openxmlformats.org/officeDocument/2006/relationships/hyperlink" Target="https://www.discogs.com/Monteverdi-Marazzoli-Le-Po&#232;me-Harmonique-Vincent-Dumestre-Combattimenti/release/3035553" TargetMode="External"/><Relationship Id="rId7" Type="http://schemas.openxmlformats.org/officeDocument/2006/relationships/hyperlink" Target="https://www.discogs.com/Monteverdi-Marazzoli-Le-Po&#232;me-Harmonique-Vincent-Dumestre-Combattimenti/release/3035553" TargetMode="External"/><Relationship Id="rId8" Type="http://schemas.openxmlformats.org/officeDocument/2006/relationships/hyperlink" Target="http://web.archive.org/web/20071109183656/http:/www.geocities.com/vienna/1790/m_works.htm" TargetMode="External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68000" y="5013000"/>
            <a:ext cx="53276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Corbel"/>
              </a:rPr>
              <a:t>Pavlína Němcová</a:t>
            </a:r>
            <a:br>
              <a:rPr sz="2000"/>
            </a:br>
            <a:r>
              <a:rPr b="0" i="1" lang="cs-CZ" sz="2000" spc="-1" strike="noStrike">
                <a:solidFill>
                  <a:srgbClr val="ffffff"/>
                </a:solidFill>
                <a:latin typeface="Corbel"/>
              </a:rPr>
              <a:t>Filozofická fakulta Masarykovy univerzity</a:t>
            </a:r>
            <a:br>
              <a:rPr sz="2000"/>
            </a:br>
            <a:r>
              <a:rPr b="0" i="1" lang="cs-CZ" sz="2000" spc="-1" strike="noStrike">
                <a:solidFill>
                  <a:srgbClr val="ffffff"/>
                </a:solidFill>
                <a:latin typeface="Corbel"/>
              </a:rPr>
              <a:t>Hudební věda</a:t>
            </a:r>
            <a:br>
              <a:rPr sz="2000"/>
            </a:br>
            <a:r>
              <a:rPr b="0" i="1" lang="cs-CZ" sz="2000" spc="-1" strike="noStrike">
                <a:solidFill>
                  <a:srgbClr val="ffffff"/>
                </a:solidFill>
                <a:latin typeface="Corbel"/>
              </a:rPr>
              <a:t>2016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11" name="Nadpis 1" descr=""/>
          <p:cNvPicPr/>
          <p:nvPr/>
        </p:nvPicPr>
        <p:blipFill>
          <a:blip r:embed="rId1"/>
          <a:stretch/>
        </p:blipFill>
        <p:spPr>
          <a:xfrm>
            <a:off x="-19080" y="450720"/>
            <a:ext cx="8059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Zástupný symbol pro obsah 6" descr=""/>
          <p:cNvPicPr/>
          <p:nvPr/>
        </p:nvPicPr>
        <p:blipFill>
          <a:blip r:embed="rId1"/>
          <a:stretch/>
        </p:blipFill>
        <p:spPr>
          <a:xfrm>
            <a:off x="352440" y="1698480"/>
            <a:ext cx="7680240" cy="425448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Corbel"/>
              </a:rPr>
              <a:t>Katabasi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795320"/>
            <a:ext cx="7680240" cy="40608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Corbel"/>
              </a:rPr>
              <a:t>Katabasi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986120"/>
            <a:ext cx="7680240" cy="367956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Corbel"/>
              </a:rPr>
              <a:t>Katabasi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797120"/>
            <a:ext cx="7680240" cy="405756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000"/>
                </a:solidFill>
                <a:latin typeface="Corbel"/>
              </a:rPr>
              <a:t>Klimax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574640"/>
            <a:ext cx="7680240" cy="450216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000"/>
                </a:solidFill>
                <a:latin typeface="Corbel"/>
              </a:rPr>
              <a:t>Klimax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2014560"/>
            <a:ext cx="7680240" cy="362268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000"/>
                </a:solidFill>
                <a:latin typeface="Corbel"/>
              </a:rPr>
              <a:t>Emphasis (klimax)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947960"/>
            <a:ext cx="7680240" cy="375588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030a0"/>
                </a:solidFill>
                <a:latin typeface="Corbel"/>
              </a:rPr>
              <a:t>Paronomas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585800"/>
            <a:ext cx="7680240" cy="44802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030a0"/>
                </a:solidFill>
                <a:latin typeface="Corbel"/>
              </a:rPr>
              <a:t>Paronomas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Zástupný symbol pro obsah 3" descr=""/>
          <p:cNvPicPr/>
          <p:nvPr/>
        </p:nvPicPr>
        <p:blipFill>
          <a:blip r:embed="rId1"/>
          <a:stretch/>
        </p:blipFill>
        <p:spPr>
          <a:xfrm>
            <a:off x="557280" y="1463760"/>
            <a:ext cx="7270560" cy="472428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030a0"/>
                </a:solidFill>
                <a:latin typeface="Corbel"/>
              </a:rPr>
              <a:t>Paronomasi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2014560"/>
            <a:ext cx="7680240" cy="362268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57551"/>
                </a:solidFill>
                <a:latin typeface="Corbel"/>
              </a:rPr>
              <a:t>Saltus duriusculu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Claudio Monteverdi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Prima a seconda pratic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Madrigali guerrieri et amoros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Lamento della ninfa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orbel"/>
              </a:rPr>
              <a:t>Obsah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2085840"/>
            <a:ext cx="7680240" cy="347976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768024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b0f0"/>
                </a:solidFill>
                <a:latin typeface="Corbel"/>
              </a:rPr>
              <a:t>Exclamatio</a:t>
            </a:r>
            <a:r>
              <a:rPr b="0" lang="cs-CZ" sz="36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cs-CZ" sz="3600" spc="-1" strike="noStrike">
                <a:solidFill>
                  <a:srgbClr val="92d050"/>
                </a:solidFill>
                <a:latin typeface="Corbel"/>
              </a:rPr>
              <a:t>epizeuxis</a:t>
            </a:r>
            <a:r>
              <a:rPr b="0" lang="cs-CZ" sz="36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cs-CZ" sz="3600" spc="-1" strike="noStrike">
                <a:solidFill>
                  <a:srgbClr val="7030a0"/>
                </a:solidFill>
                <a:latin typeface="Corbel"/>
              </a:rPr>
              <a:t>paronomasia</a:t>
            </a:r>
            <a:r>
              <a:rPr b="0" lang="cs-CZ" sz="3600" spc="-1" strike="noStrike">
                <a:solidFill>
                  <a:srgbClr val="ffffff"/>
                </a:solidFill>
                <a:latin typeface="Corbel"/>
              </a:rPr>
              <a:t> a </a:t>
            </a:r>
            <a:r>
              <a:rPr b="0" lang="cs-CZ" sz="3600" spc="-1" strike="noStrike">
                <a:solidFill>
                  <a:srgbClr val="ffff00"/>
                </a:solidFill>
                <a:latin typeface="Corbel"/>
              </a:rPr>
              <a:t>augumentatio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2631960"/>
            <a:ext cx="7680240" cy="238788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orbel"/>
              </a:rPr>
              <a:t>Doprovodné hlasy - imitac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724040"/>
            <a:ext cx="7680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Zástupný symbol pro obsah 3" descr=""/>
          <p:cNvPicPr/>
          <p:nvPr/>
        </p:nvPicPr>
        <p:blipFill>
          <a:blip r:embed="rId1"/>
          <a:stretch/>
        </p:blipFill>
        <p:spPr>
          <a:xfrm>
            <a:off x="352440" y="1839960"/>
            <a:ext cx="76802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52440" y="1463400"/>
            <a:ext cx="768024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Slovenská hudba. Revue pre hudobnú kultúru. Ročník XX, č. 3-4. Antológia - renesancia a barok</a:t>
            </a: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. Bratislava, 1994.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Arnold, Denis; Carter, Tim. </a:t>
            </a: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Monteverdi, Claudio</a:t>
            </a: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. Grove Music - Oxford Music Online. Oxford University Press. 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ostupné z:</a:t>
            </a:r>
            <a:br>
              <a:rPr sz="1400"/>
            </a:b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1"/>
              </a:rPr>
              <a:t>http://www.oxfordmusiconline.com/subscriber/article/opr/t114/e4519?q=claudio+monteverdi&amp;search=quick&amp;pos=13&amp;_</a:t>
            </a: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2"/>
              </a:rPr>
              <a:t>start=1#firsthit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ffffff"/>
                </a:solidFill>
                <a:uFillTx/>
                <a:latin typeface="Corbel"/>
              </a:rPr>
              <a:t>IMSLP, Petrucci Music Library; </a:t>
            </a: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Monteverdi, Claudio. Madrigals, Book 8.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ostupné z:</a:t>
            </a:r>
            <a:br>
              <a:rPr sz="1400"/>
            </a:b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3"/>
              </a:rPr>
              <a:t>http://imslp.org/wiki/Madrigals,_Book_8,_SV_146%E2%80%93167_(Monteverdi,_Claudio</a:t>
            </a: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4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iscogs; </a:t>
            </a: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Monteverdi, Marazzoli / Le Poème Harmonique, Vincent Dumestre ‎– Combattimenti!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ostupné z:</a:t>
            </a:r>
            <a:br>
              <a:rPr sz="1400"/>
            </a:b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5"/>
              </a:rPr>
              <a:t>https</a:t>
            </a: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6"/>
              </a:rPr>
              <a:t>://</a:t>
            </a: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7"/>
              </a:rPr>
              <a:t>www.discogs.com/Monteverdi-Marazzoli-Le-Po%C3%A8me-Harmonique-Vincent-Dumestre-Combattimenti/release/3035553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Internet archive, Wayback Machine; </a:t>
            </a: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Monteverdi, Claudio, List of Monteverdi's Works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ostupné z:</a:t>
            </a:r>
            <a:br>
              <a:rPr sz="1400"/>
            </a:br>
            <a:r>
              <a:rPr b="0" lang="cs-CZ" sz="1400" spc="-1" strike="noStrike" u="sng">
                <a:solidFill>
                  <a:srgbClr val="b5740b"/>
                </a:solidFill>
                <a:uFillTx/>
                <a:latin typeface="Corbel"/>
                <a:hlinkClick r:id="rId8"/>
              </a:rPr>
              <a:t>http://web.archive.org/web/20071109183656/http://</a:t>
            </a: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www.geocities.com/vienna/1790/m_works.htm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ChoralWiki; </a:t>
            </a: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Claudio Monteverdi, Madrigali guerrieri et amorosi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ostupné z: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http://www0.cpdl.org/wiki/index.php/Madrigali_guerrieri_et_amorosi_(Claudio_Monteverdi)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268560" indent="-268560">
              <a:lnSpc>
                <a:spcPct val="80000"/>
              </a:lnSpc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ChoralWiki; </a:t>
            </a: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Claudio Monteverdi, Lamento della Ninfa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Corbel"/>
              </a:rPr>
              <a:t>Dostupné z: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Corbel"/>
              </a:rPr>
              <a:t>http://www0.cpdl.org/wiki/index.php/Lamento_della_Ninfa_(Claudio_Monteverdi)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orbel"/>
              </a:rPr>
              <a:t>Použitá literatura</a:t>
            </a:r>
            <a:r>
              <a:rPr b="0" lang="cs-CZ" sz="4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* 1567 Cremon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Il primo libro de madrigali</a:t>
            </a: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Benátky 1587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Il secondo libro de madrigali,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Benátky 1590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Il terzo libro de madrigali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 , Benátky 1592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Il quarto libro de madrigali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 , Benátky 1603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Il quinto libro de madrigali,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Benátky 1605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Il sesto libro de madrigali</a:t>
            </a: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Benátky 1614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Concerto. Settimo libro de madrigali</a:t>
            </a: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Benátky 1619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Madrigali guerrieri et amorosi</a:t>
            </a: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,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Benátky 1638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†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1643 Benátk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Madrigali e canzonette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, Benátky 1651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orbel"/>
              </a:rPr>
              <a:t>Claudi</a:t>
            </a:r>
            <a:r>
              <a:rPr b="0" lang="cs-CZ" sz="4000" spc="-1" strike="noStrike">
                <a:solidFill>
                  <a:srgbClr val="ffffff"/>
                </a:solidFill>
                <a:latin typeface="Corbel"/>
              </a:rPr>
              <a:t>o</a:t>
            </a:r>
            <a:r>
              <a:rPr b="0" lang="pt-BR" sz="4000" spc="-1" strike="noStrike">
                <a:solidFill>
                  <a:srgbClr val="ffffff"/>
                </a:solidFill>
                <a:latin typeface="Corbel"/>
              </a:rPr>
              <a:t> Monteverdi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Spor s Giovannim Artusi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Claudio Monteverdi - </a:t>
            </a: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Seconda pratica ouero Perfettione della moderna music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Giulio Caesare Monteverdi – </a:t>
            </a:r>
            <a:r>
              <a:rPr b="0" i="1" lang="cs-CZ" sz="1800" spc="-1" strike="noStrike">
                <a:solidFill>
                  <a:srgbClr val="ffffff"/>
                </a:solidFill>
                <a:latin typeface="Corbel"/>
              </a:rPr>
              <a:t>Dichiaratione della lettera stampatanel Quinto libro de suoi Madregal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Ciprian de Rore, Marca‘Antonio Ingegneri, Luca Marenzio, Giaches de Wert, Luzzasco Luzzaschi, Jacopo Peri, Giulio Caccini a nejvznešenější duchvéy, kteří prý rozumí pravému umění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orbel"/>
              </a:rPr>
              <a:t>Prima a seconda pratic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Madrigali guerrieri, et amorosi con alcuni opuscoli in genere rappresentativo, che saranno per brevi episodii frà i canti senza gesto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Canti Guerrier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Canti Amoros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orbel"/>
              </a:rPr>
              <a:t>Madrigali guerrieri et amorosi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Non havea Febo ancor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Amor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85840" indent="-285840">
              <a:spcBef>
                <a:spcPts val="1199"/>
              </a:spcBef>
              <a:buClr>
                <a:srgbClr val="8389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orbel"/>
              </a:rPr>
              <a:t>Si tra sdegnosi piant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orbel"/>
              </a:rPr>
              <a:t>Lamento della ninf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3563640" y="1483920"/>
            <a:ext cx="38862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Fébus ještě nepřinesl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nové jitro světu,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když ze svého domu vyběhla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dívka v plném krásy květu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Její bledou tvář zřetelně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bolest poznamenala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 nová chvíle zase nový vzdech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z hrudi jí vyrvala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Pak zašlapala květy do země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pobíhala kolem bez cíle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 svou lásku ztracenou takto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zaklínala zoufale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52080" y="1463760"/>
            <a:ext cx="3886200" cy="42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Non havea Febo ancora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Recato al mondo il dí,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Ch’una donzella fuora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Del proprio albergo uscí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Sul pallidetto volto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Scorgeasi il suo dolor,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Spesso gli venia sciolto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Un gran sospir dal cor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Sí calpestando fiori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Errava hor qua, hor là,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I suoi perduti amori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Cosí piangendo va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Corbel"/>
              </a:rPr>
              <a:t>Non havea Febo ancor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2842920" y="671040"/>
            <a:ext cx="3886200" cy="61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Lásko“, </a:t>
            </a: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vzdychla 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a zůstala stát 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s pohledem k nebesům)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„Lásko, kde, ach, kde je ta věrnost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co mi ten zrádce sliboval?“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Ubohá)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Vrať mi miláčka jak býval dřív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když mne miloval,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nebo žití mne zbav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ť trápit se nemusím dál.“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ach ubohá, víc už ne, 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víc bolesti už nemůže snést)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„Nepatří mi již jeho dech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byť se přiblížil kdykoli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ch ne, Bože, ušetři mne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dej, ať ta rána víc nebolí.“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ach ubohá, ach ne, ne)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„Snad že mne trápí pro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všechnu mou pýchu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 což vrátí-li se, když se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v modlitbách zřeknu hříchů?“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ach ubohá, víc už ne, 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víc bolesti už nemůže snést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250920" y="674640"/>
            <a:ext cx="2665440" cy="61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</a:t>
            </a: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Amor,“ </a:t>
            </a:r>
            <a:r>
              <a:rPr b="0" i="1" lang="cs-CZ" sz="1600" spc="-1" strike="noStrike">
                <a:solidFill>
                  <a:srgbClr val="ff0000"/>
                </a:solidFill>
                <a:latin typeface="Corbel"/>
              </a:rPr>
              <a:t>(Dicea)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Amor,“ </a:t>
            </a:r>
            <a:r>
              <a:rPr b="0" i="1" lang="cs-CZ" sz="1600" spc="-1" strike="noStrike">
                <a:solidFill>
                  <a:srgbClr val="ff0000"/>
                </a:solidFill>
                <a:latin typeface="Corbel"/>
              </a:rPr>
              <a:t>(il ciel mirando,</a:t>
            </a:r>
            <a:br>
              <a:rPr sz="1600"/>
            </a:br>
            <a:r>
              <a:rPr b="0" i="1" lang="cs-CZ" sz="1600" spc="-1" strike="noStrike">
                <a:solidFill>
                  <a:srgbClr val="ff0000"/>
                </a:solidFill>
                <a:latin typeface="Corbel"/>
              </a:rPr>
              <a:t>il piè fermo,)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Amor, dove, dov’è la fè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Ch’el traditor giurò?“</a:t>
            </a:r>
            <a:br>
              <a:rPr sz="1600"/>
            </a:br>
            <a:r>
              <a:rPr b="0" i="1" lang="cs-CZ" sz="1600" spc="-1" strike="noStrike">
                <a:solidFill>
                  <a:srgbClr val="ff0000"/>
                </a:solidFill>
                <a:latin typeface="Corbel"/>
              </a:rPr>
              <a:t>(Miserella)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Fa che ritorni il mio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Amor com’ei pur fu,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O tu m’ancidi, ch’io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Non mi tormenti più.“</a:t>
            </a:r>
            <a:br>
              <a:rPr sz="1600"/>
            </a:b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(Miserella, ah più, no,</a:t>
            </a:r>
            <a:br>
              <a:rPr sz="1600"/>
            </a:b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Tanto gel soffrir non può.)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</a:t>
            </a: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Non vo’ più ch’ei sospiri</a:t>
            </a:r>
            <a:br>
              <a:rPr sz="1600"/>
            </a:b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se lontan da me,</a:t>
            </a:r>
            <a:br>
              <a:rPr sz="1600"/>
            </a:b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No, no che i martiri</a:t>
            </a:r>
            <a:br>
              <a:rPr sz="1600"/>
            </a:b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Più non dirammi affè.</a:t>
            </a: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“</a:t>
            </a:r>
            <a:br>
              <a:rPr sz="1600"/>
            </a:b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(Ah miserella, ah più, no, no)</a:t>
            </a:r>
            <a:br>
              <a:rPr sz="1600"/>
            </a:b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</a:t>
            </a: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Perché di lui mi struggo,Tutt’orgoglioso sta,</a:t>
            </a:r>
            <a:br>
              <a:rPr sz="1600"/>
            </a:b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Che sí, che sí se’l fuggo</a:t>
            </a:r>
            <a:br>
              <a:rPr sz="1600"/>
            </a:b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Ancor mi pregherà?</a:t>
            </a: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“</a:t>
            </a:r>
            <a:br>
              <a:rPr sz="1600"/>
            </a:b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(Miserella, ah più, no,</a:t>
            </a:r>
            <a:br>
              <a:rPr sz="1600"/>
            </a:b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Tanto gel soffrir non può.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ffffff"/>
                </a:solidFill>
                <a:latin typeface="Corbel"/>
              </a:rPr>
              <a:t>Amor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Obdélník 4"/>
          <p:cNvSpPr/>
          <p:nvPr/>
        </p:nvSpPr>
        <p:spPr>
          <a:xfrm>
            <a:off x="6084720" y="844560"/>
            <a:ext cx="27831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</a:t>
            </a: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Se ciglio ha più sereno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Colei, che’l mio non è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Già non rinchiude in seno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Amor sí bella fè.</a:t>
            </a: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“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(Miserella, ah più, no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Tanto gel soffrir non può.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„</a:t>
            </a: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Ne mai sí dolci baci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Da quella bocca havrai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Ne più soavi, ah taci,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Corbel"/>
              </a:rPr>
              <a:t>Taci, che troppo il sai.</a:t>
            </a: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“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0000"/>
                </a:solidFill>
                <a:latin typeface="Corbel"/>
              </a:rPr>
              <a:t>(Miserella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Obdélník 5"/>
          <p:cNvSpPr/>
          <p:nvPr/>
        </p:nvSpPr>
        <p:spPr>
          <a:xfrm>
            <a:off x="6084720" y="3645000"/>
            <a:ext cx="29512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Ne… ať si jeho oči září víc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než oči mé, nezaselas, 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Láska nezavřela v jeho hrudi tak krásný cit,“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ach ubohá, víc už ne, 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víc bolesti už nemůže snést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ch rty mé, sladkost těch polibků již neokusíte,</a:t>
            </a:r>
            <a:br>
              <a:rPr sz="1600"/>
            </a:b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nebudou něžnější, ach mlčte ústa má, dobře to víte.“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Corbel"/>
              </a:rPr>
              <a:t>(ubohá)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3708000" y="1483920"/>
            <a:ext cx="38862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A tak uprostřed vzlyků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pozvedla k nebi svůj hlas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právě tak v srdci milujícím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láska mísí oheň a mráz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52080" y="1463760"/>
            <a:ext cx="3886200" cy="42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Sí tra sdegnosi pianti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Spargea le voci al ciel;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Cosí ne’ cori amanti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Corbel"/>
              </a:rPr>
              <a:t>Mesce amor fiamma, e gel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fffff"/>
                </a:solidFill>
                <a:latin typeface="Corbel"/>
              </a:rPr>
              <a:t>Si tra sdegnosi pianti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1T21:55:54Z</dcterms:created>
  <dc:creator>Pavlina</dc:creator>
  <dc:description/>
  <dc:language>en-US</dc:language>
  <cp:lastModifiedBy>Jana Perutková</cp:lastModifiedBy>
  <dcterms:modified xsi:type="dcterms:W3CDTF">2016-12-11T19:54:27Z</dcterms:modified>
  <cp:revision>95</cp:revision>
  <dc:subject/>
  <dc:title>Lamento della ninfa</dc:title>
</cp:coreProperties>
</file>