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401-9465-4A97-BCC6-C2BDEB37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B2B-F40E-4DC5-919E-66F97D63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197-43B4-4E9C-9758-AAEAB2F8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460-7B04-4C22-924D-60A40E50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C02E-2FD5-4F22-939E-A60304E6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B60A-98E2-477F-B677-B245DF2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DDC1-4721-4FBE-AD03-B7C19AA6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7819-B80B-4960-BE64-22818739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C8E5-4A1B-450B-86B7-20068783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E51D-ABFC-4E86-83EE-56597E7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FF04-67B0-4C44-9F5A-6F5A60A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1F0-E158-4AF7-8078-13B053BA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45E4-BAD7-4494-86CA-6829CB60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ABA5-1153-4D0A-8FBD-9B0090C6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E53B-6069-4BA2-878B-59011E91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032C-0942-4759-B019-4090CCE9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0481-80E2-47E9-947F-ADCADC97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68E-B3E9-4D51-8B20-D9B6000E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681-21F0-4021-971B-1A615875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7C4-E08A-4A04-8345-749B9DDE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72E-F844-4F75-8A53-6B45AD43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8DE-728D-4858-995C-CED2158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633-E588-4670-9700-63E67F64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895-4125-4EC7-A953-0EF72F2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01BF-1741-4D95-9850-BB961B49D9A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00B3-89F3-4DB2-896D-E22FC05AAB5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Baptiste Lully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WV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Jean-Baptiste Lully (Gianbattista Lulli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28/1632 Flore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3/14 let: Pa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 violons du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á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lets de 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édie-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gédies ly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Král tančí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ean-Baptiste_Lully_Nicolas_Mignard"/>
          <p:cNvPicPr/>
          <p:nvPr/>
        </p:nvPicPr>
        <p:blipFill>
          <a:blip r:embed="rId1"/>
          <a:stretch/>
        </p:blipFill>
        <p:spPr>
          <a:xfrm>
            <a:off x="5219640" y="1628640"/>
            <a:ext cx="355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uchovní hud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oku 16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4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iser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1 (1668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laude laetare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77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e D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oteto </a:t>
            </a:r>
            <a:r>
              <a:rPr b="0" i="1" lang="cs-CZ" sz="38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inský text: Pierre Per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uj se a zpívej, Franci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uphi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ásti: I. Sympho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. O Jesu vita precant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I. Vivat regnet princeps fide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x velký s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che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00px-Dauphiné"/>
          <p:cNvPicPr/>
          <p:nvPr/>
        </p:nvPicPr>
        <p:blipFill>
          <a:blip r:embed="rId1"/>
          <a:stretch/>
        </p:blipFill>
        <p:spPr>
          <a:xfrm>
            <a:off x="6156360" y="1341360"/>
            <a:ext cx="2436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Symph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uj se a zpívej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re caelesti rigantur lili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lie je umyta nebeskou ros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cro Delphinus fonte lavatu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uphin se očistil 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vátném Pís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 christianus Christo dicatur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řesťan je určen Kri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O Jesu vita precan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se mod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crede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věř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udi vo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yš modlitbu tvých proseb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Vivat regnet princeps fid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vat regnet princeps fid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Princ dlouho žije a vlád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justus, semper victo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správně, vždy vítězn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augus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královs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umphet in ca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zvítězí na neb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 sempiterna luceat coro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éž jeho koruna září navž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étorické fig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ČIC, Ladislav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ějiny hudby III.: Baro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Euromedia Group, k. s. – Ikar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ŇOUROVÁ, Lucie. Skladatel měsíce: Jean-Baptiste Lully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armon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14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YER, Hajdu Jones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an-Baptiste Lully and the music of the French Baroque: essays in honor of James R. Antho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ambridge University Press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5:02:49Z</dcterms:created>
  <dc:creator>Pinkova</dc:creator>
  <dc:description/>
  <dc:language>en-US</dc:language>
  <cp:lastModifiedBy>Jana Perutková</cp:lastModifiedBy>
  <dcterms:modified xsi:type="dcterms:W3CDTF">2016-12-07T22:30:58Z</dcterms:modified>
  <cp:revision>9</cp:revision>
  <dc:subject/>
  <dc:title>Plaude laetare Gallia</dc:title>
</cp:coreProperties>
</file>